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247-BDB5-4FD3-B15F-150D2B49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DE3-A0F4-4CB2-95E7-C71D960B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E03-3563-4796-ADFB-3E5958FA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FDD-DA4B-4319-B6CF-93D377CE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A9D-9BB5-4EB2-94BB-EA7CBCA0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EDC-C4A5-4A03-A5C3-AAEBD6B9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8C4-CDF6-4E39-8665-86E81EF0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698-9143-4AB0-8FA7-E1973A88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B37-1618-48FF-A94C-4F8E9C7C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CFA-73D3-4023-A79D-6D3269DA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7F0-9C9E-48B1-8EF0-D32F1421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A5B-A68B-418A-9F7C-BFF68F51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B479-156D-4FD8-A041-4DA36187F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43Z</dcterms:modified>
  <cp:revision>187</cp:revision>
  <dc:subject/>
  <dc:title>Lecture 1:</dc:title>
</cp:coreProperties>
</file>