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5E8A-6BE3-4D0B-B82E-E746144B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2804-6174-4E2A-BAD4-586A18D0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57F0-7E69-4D6F-9272-1FBAE374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D5E6-A458-4E12-8730-E51A43D4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A460-434F-4188-BE6D-693D9F91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C614-51B2-4E0F-8008-4CD2B1F5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F28A-0C16-4040-A5BE-82414E76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43B2-2858-4C81-A41C-D8103790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032D-D9D9-4AB8-BAA2-838CD908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A46D-3E0E-4E2A-A21F-FF45F3AA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2FDE-B0AF-4DCE-B0B4-92529EA8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513F-7E04-4529-B934-8E430B62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E54E-0934-4F96-B9ED-D03FD8380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ormation related to final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2-09T13:49:42Z</dcterms:modified>
  <cp:revision>102</cp:revision>
  <dc:subject/>
  <dc:title>Lecture 1:</dc:title>
</cp:coreProperties>
</file>