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111-6AD4-42F4-AB78-04E7AC53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D6F-7706-4DEB-8C4C-BEB6A662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9CF8-E833-40DD-B63E-B1EFBD1F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C58-A037-49E8-82D4-9213D281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AFB-5577-4F19-B82F-5D38928B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42A-0EE8-4021-90D5-75D10C6F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95C-6A16-4215-AE62-04DD9A7D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2A0-105B-487D-B775-C42210BC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AB3-7597-4FE8-B0AE-01840B09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7CB-3C5A-4D51-BEC6-4B3C9D28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267-44A1-4FAD-9EB6-06F1399B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268-C59E-4299-90F2-2DA354A9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F2B6-7969-4337-8376-9C6192493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requ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21T11:48:28Z</dcterms:modified>
  <cp:revision>49</cp:revision>
  <dc:subject/>
  <dc:title>Lecture 1:</dc:title>
</cp:coreProperties>
</file>