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A6F-C80E-4CA7-8F9A-4A8E91A5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347-5E67-4A38-BDFE-F4F784B3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BC6-2CBE-4525-B263-7DFD73B3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69D-CFC9-4A18-BC73-84521E99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A3B-2795-43E8-9A66-60D1B28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61C-531D-445C-BDD7-71F0721D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F93-15C2-4780-B899-4A64FC4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135-CD01-452C-834A-D13461B8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6D4-9206-4AC8-B40B-09858FB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79B-74ED-4727-A05A-064CAB4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55C-C28E-4B17-8C8F-756A6C2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3DD-3F0E-442C-84E0-C7988D5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6415-76B1-498E-9991-80E34D75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7:33Z</dcterms:modified>
  <cp:revision>124</cp:revision>
  <dc:subject/>
  <dc:title>Lecture 1:</dc:title>
</cp:coreProperties>
</file>