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914-56D7-435D-B2F9-48B5A99B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F44-05F3-4EFF-BB86-8265D553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100-70F5-4CC4-93EF-82439E47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6A35-6517-4D01-9FCB-EF8A2C7A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F15-1E76-45F3-B566-A7CF71EE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4B0-E20D-4CC0-9010-7D75F492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5FC-7B84-483A-890F-2613743B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526-3532-4D5A-A5FC-2E55A3B1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6C7-9927-4288-A8D2-9E2D744E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A06-349A-4F17-9274-E0AEECD4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976-EBA8-453C-B144-ECB23741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E90-0C20-4772-9C58-69507CFD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0761-F2B5-41FB-9675-9140E848B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zed reading according to the teach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instr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10:47Z</dcterms:modified>
  <cp:revision>17</cp:revision>
  <dc:subject/>
  <dc:title>Lecture 1:</dc:title>
</cp:coreProperties>
</file>