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42B-7401-47BE-8F48-B3513C6D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BD2A-F810-4BAA-8795-38D019B2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B3F-BEE8-45F0-9D53-67ACF099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4C5-EA49-4BB1-9E22-AE2C0998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10A-847E-4845-B866-4F5944D9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E2C-C63B-44CA-B56D-87E55972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576-2D73-49FC-92B1-BFDCE397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5CB9-011C-4C38-903C-644B2967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295C-A6B7-4F6F-AA24-45B4F1AE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C3D-0214-4B24-9355-76A56BCF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B841-C30A-4E49-8AD8-FAF124D1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88B-C252-4A86-A379-62144E6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421F-4608-4EA0-A885-4D4FBE3B0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0-07T11:23:00Z</dcterms:modified>
  <cp:revision>9</cp:revision>
  <dc:subject/>
  <dc:title>Lecture 1:</dc:title>
</cp:coreProperties>
</file>