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2B3D-6EBB-454F-ADDD-817143CB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680-F288-4391-9F4E-E6E416A9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DA0-B93E-4D66-B8DF-12B3E378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49F-17A1-41EB-B5C1-80634204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899-1C56-460D-B564-13676F8F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E0F-A1B5-432C-8C5C-AF7DCFFD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1AA-7F94-46E1-937D-A95D7E51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7B1-D143-476E-AFA2-72F839F7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C37-6B1F-4D38-B686-1D7623C8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A847-87E0-46DA-A2AF-A0D9663E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0D2-8938-46DA-BB8F-1B7D53DB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49F-EC10-409B-A41A-CBC94B95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FB3B-678A-4E47-A030-2E7BFE0E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56Z</dcterms:modified>
  <cp:revision>194</cp:revision>
  <dc:subject/>
  <dc:title>Lecture 1:</dc:title>
</cp:coreProperties>
</file>