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A43-8954-4F41-AE7D-5202AD35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405-5B84-45EC-A9A3-DDD8351E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7F0-696D-4118-B7E7-6D5947FA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8382-56ED-4E05-B282-3608524A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3D3-76E7-49A1-81B0-F794E4D9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F4B-A118-47A3-B9DF-CE41985B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685-2DF4-4685-8529-73F6B85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853-089B-477E-8AC8-745E5E92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596-063C-4B53-87DB-8AFBE16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FB6-6354-4883-97C3-E5BD1655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94E-D3C3-40D1-BAC4-4BCE9C6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2BF-B669-4868-95FE-727C7C36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0034-5B12-4397-9BF6-DDBFD09E7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get down/round to do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1-18T14:25:59Z</dcterms:modified>
  <cp:revision>68</cp:revision>
  <dc:subject/>
  <dc:title>Lecture 1:</dc:title>
</cp:coreProperties>
</file>