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62E-4EAB-4042-A3C1-06EE1C8D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A0F-E926-4016-A209-062161B8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97FF-BAD7-47B0-976C-A78099A9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038-1F8F-4D92-B458-773AAFE6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ABD-E1EC-438D-B930-6034006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3C4-C1B8-4A37-AEC7-51AFC6DE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357-D89A-4D24-813C-F78C0088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6E1-4B14-4418-B4A5-724AB3AB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9F0-F66E-45D5-BDB6-96C2494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A51-6BBC-4B9E-81DB-E662C69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222-D04D-448A-A839-81BADED9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0FD-217E-4718-82E3-D81EC50D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0C7F-C9BE-484B-A11E-8D4CE7A06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dnesda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2-02T13:00:05Z</dcterms:modified>
  <cp:revision>91</cp:revision>
  <dc:subject/>
  <dc:title>Lecture 1:</dc:title>
</cp:coreProperties>
</file>