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A39-9473-4D46-8F9D-2294F717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B29-26B8-4ED7-9309-F6553466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BE6-7BFA-49DE-A8AF-ED4287A4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4C3-F899-4DF8-B8B2-833D203E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222-74AD-4079-9D43-AE2E2DB7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4F3-019D-4C9D-947A-403CBD39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B8F-1F30-4DA9-87E2-DC4A30CC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A62-4499-48F7-9AB9-BA0CF22F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643-F792-47CE-9F74-FE6DEEB0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C23-0A87-4459-A90F-286F0315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E1B-5391-4B02-856C-5CBFEDA7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544-5D2B-4189-97BB-0CE83EFF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96C9-91B0-4787-AD94-C691DDE80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ever was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the 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0-14T12:58:08Z</dcterms:modified>
  <cp:revision>31</cp:revision>
  <dc:subject/>
  <dc:title>Lecture 1:</dc:title>
</cp:coreProperties>
</file>