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EA0-078F-406E-A610-459E5446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C57-984D-4B1E-B15A-B6134D06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606-2D72-4EBD-B32D-2E88410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AB0-AB81-44EB-A217-ACE6D790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8EE-89F1-4A5B-877A-DBD6F728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166-CA35-4676-B81A-9E323A1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877-0784-4732-9047-F507003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BEB-5D2E-49C2-8DF3-BD86E2F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A3F-CDE0-4633-A448-FE5FC03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020-BB9B-47C7-A70E-B4B06F0A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5363-E116-4A8A-BF60-1FDDCFD6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080-C48B-4D5B-AB88-56E397D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574-58FF-412A-A9D4-380853518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1T17:03:35Z</dcterms:modified>
  <cp:revision>84</cp:revision>
  <dc:subject/>
  <dc:title>Lecture 1:</dc:title>
</cp:coreProperties>
</file>