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EB7-E75A-4405-A445-D0E21311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268-FA63-4C98-8339-D0B96B40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D6D-7A29-418F-ADFE-03C7501B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1C1-B40A-4234-8F59-AE7E56D8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649-62D1-4397-9F03-3491583F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73D-D9FD-4B9D-8558-AD064AC3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731-A2EB-4889-92E4-C407E6D4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19F-4A3C-43B9-8352-067DFD2F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50E2-53EE-45FF-BE71-3AFDA990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471-09CF-4DA5-A98D-35D7D5EE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749-795C-4FBC-B2D7-8090A128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015-D754-43BB-AB45-8E3D12D5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480C-F7B0-4042-98D6-08C868BBD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2T13:00:05Z</dcterms:modified>
  <cp:revision>91</cp:revision>
  <dc:subject/>
  <dc:title>Lecture 1:</dc:title>
</cp:coreProperties>
</file>