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F9E-E3B7-4A0B-9E6D-978FAF5B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2F9-DA94-48FD-8F36-EAD1F3A1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B54-DDD1-418C-9815-19B21627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597-4E11-4342-B76A-4A49F658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A0ED-5C7C-414B-8383-584AA408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F09-BAC3-4EC3-831A-D074CA5A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096-14AB-4EA1-B3FE-92808F9D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4DC-A098-42E5-9A31-1694D4AB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226-256B-424C-B68F-821DF138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CB0-E841-4B3E-86B6-3DFB911E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D19-DFDC-4B99-92F0-CE9A86D2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8BE-B9FF-44B7-A6FC-4E5F0220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F52A-C7BE-4B0C-8BB8-B972E4507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56Z</dcterms:modified>
  <cp:revision>194</cp:revision>
  <dc:subject/>
  <dc:title>Lecture 1:</dc:title>
</cp:coreProperties>
</file>