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ACB5-ADB0-407A-88A5-B0ED323F5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44DA-14B3-41AC-9821-F8C0E548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4D2A-F27C-478C-AB7B-2F1FCC6F4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2807-F170-43AB-8BD0-74B99FE8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6E05-1886-4406-BD09-7EBA7032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99CD-CD76-46B9-98DF-091883F8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BB9A-ACAA-476C-835B-83E4BE59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E664-5128-4D8A-A8CB-12F69DFA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7F84-6C77-4A0E-B5A4-624C551A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D8FC-B253-4279-8B32-DEE98A71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FF8C-C2A6-4A31-BC5F-9E748BAF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8C9B-AFBD-4842-ACD9-FF2634E9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8572-E5EF-4D87-9557-C89C9883D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get down/round to do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get down/round to do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1-18T14:25:59Z</dcterms:modified>
  <cp:revision>68</cp:revision>
  <dc:subject/>
  <dc:title>Lecture 1:</dc:title>
</cp:coreProperties>
</file>