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B610-8AE2-4946-91B2-C5FE89153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16A4-1A92-4B08-B614-5CE95F46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9015-D6F6-4F27-BFB1-CBB85012D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CFB2-8868-4E1E-979C-EC9359AC7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3319-8617-421D-BBE0-F6AEE0C2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6991-7A60-4A22-8A5A-3A4D7162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3044-0D95-4E63-96BC-963150EA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F490-D82E-4E53-8C94-B26DFA92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853B-FF46-41B6-9F84-91CC0D8A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29D7-B533-4EED-A090-3C8D4488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1C90-ECB2-43D3-A96E-C1BF0BB8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086B-AD43-444C-8BA8-7AE3A4A1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2A2B-E996-48BE-B4E5-11D4BF918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zed reading according to the teac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s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0-07T11:10:47Z</dcterms:modified>
  <cp:revision>17</cp:revision>
  <dc:subject/>
  <dc:title>Lecture 1:</dc:title>
</cp:coreProperties>
</file>