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019-8E9A-456B-A608-0C87D2D7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29F-FCBE-4F8B-9617-88A32B54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EF1-FA40-4040-B7DB-E70B0A26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801-6CBD-4932-9954-049E1743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AFC-4F22-419C-ADE0-665E151C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7D5-32E5-4F6B-B2FC-A7684666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40B-15C9-4F8B-8CAB-D3150775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D45-2D48-454D-B171-863504A0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9C9A-33F7-471F-93BD-DEE5CA2D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6FF-FB89-4E12-B477-BC10DE73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ACD-2CA0-4257-A6D3-587AEBE5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F222-CFD5-47F7-9496-23BC1B28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2B3F-A398-4CE7-9D54-FB354A315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43Z</dcterms:modified>
  <cp:revision>187</cp:revision>
  <dc:subject/>
  <dc:title>Lecture 1:</dc:title>
</cp:coreProperties>
</file>