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D50DD-3F18-43BE-BA75-3F50A87E2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EBD9A-B031-4B63-811F-CDB27C3E2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338E3-CE81-4107-B092-E076A6282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538BB-E47C-4E17-BA67-CDA62256B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AF118-EA73-4364-9E6B-511DE61DA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D4776-4806-4C4F-8C56-F5B6851CE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DA728-C5A4-4526-9CB1-1F37F5F67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6F6C4-1DDF-4BDD-850C-B3F2E8D47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E6D3B-8F89-4570-A5DE-8C4F4D607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98357-F231-4EC1-B78E-05704E2EA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472BA-FB0E-4BA6-8D66-4088546A1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038B9-E66D-4973-90FA-C27380985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4FB7E-3237-4401-8461-EE315E5E07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6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 wish …, If only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33520" y="2124000"/>
            <a:ext cx="8001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pression of repetition in the pa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sed + 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xpressing frequent repetition and 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used to play computer games when he was young. He no longer does so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hrával, ale už nehraj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used to chase chicks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honil, ale už nehoní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ndows used to be unstable, but now it is the best OS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býval, ale už nen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09480" y="1676520"/>
            <a:ext cx="792504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08 exercise 29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21 exercise 30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 wish …, If only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40976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member: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 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on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pen sentences that are in Czech known as 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ací vě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. The rules governing their formation are the same as those which hold for the clause following conditional conjunction in 2nd or 3rd conditiona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pa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piece of cloth, I would wipe the monitor with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piece of cloth (to wipe the monitor with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ga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e a Philips screwdriver, I would loosen the scre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ga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e a Philips screwdriv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 wish …, If only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835280"/>
            <a:ext cx="8382240" cy="42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pa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would have assembled the computer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had not los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ll the belt ca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had not los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ll the belt ca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increa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buffer size, the computer would not have reported buffer underru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increa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buffer siz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 wish …, If only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1143000"/>
            <a:ext cx="7925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ther us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on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oul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used to express a wish for something that the speaker finds annoying to change in the fu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ope …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used to express a “neutral” wish concerning the fu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he would not play with the live wire next 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the weather would impro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the computer would stop freez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the monitor would not flicker that mu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ope they (will) fix the drive by 6 o’cloc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ope she (will) marries (marry) me one 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523880"/>
            <a:ext cx="8001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fective aspect - dokon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ý v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imperfective aspect - nedokonavý v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The imperfective aspect is usually expressed by means of continuous tenses - stress is laid on duration (trván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He was reconfiguring the system the whole afterno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he  programmer has been writing the manual since he finished the progr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hey say it will be raining the whole 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member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Some verbs cannot occur in continuous tenses or they change their meaning in these (see Lecture 1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2048040"/>
            <a:ext cx="83818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, however, a sentence refers to a repeated action, simple tense is u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reconfigured the system every other day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reconfiguring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rogrammer usually wrote the manual when he was fre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rogrammer was usually writing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we were in Greece, it often rained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t was ra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: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y monitor flickers every now and then. X My monitor is flickering all the tim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expression of annoyance - see Lecture 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172404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-off actions are usually expressed by means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e a + infinitive (without “to”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uld like t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a show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f it’s O.K. with you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osprchovat 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abou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ing a drink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ap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ít 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nted t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a danc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me, but I turned him down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zat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čit s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fired because he would often leave his office t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a smok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zakou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řit s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ay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a loo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t it? It may only need some cleaning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podívat 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2048040"/>
            <a:ext cx="8001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pression of repetition in the pa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past si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usually used a temporary file for storage of calculation resul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regularly failed to notice his neglige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odems never did the handshaking right with these initialization string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1971720"/>
            <a:ext cx="82296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pression of repetition in the pa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ould + infinitive without “to”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xpressing frequent repet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He would ask for assistance whenever he was in trouble.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(žádával mě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 would get a blue screen after installation of some new hardware under Windows 3.11.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setkávával 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hat operating system would give me sleepless nights on weeke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0-13T12:39:43Z</dcterms:modified>
  <cp:revision>187</cp:revision>
  <dc:subject/>
  <dc:title>Lecture 1:</dc:title>
</cp:coreProperties>
</file>