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47BC-1060-49AC-AAA0-BED1804E4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058B-55E9-4D8C-BA8D-A1D7EA50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D85B-2D97-41DD-B90D-F5EF80D65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C6F6-8F70-443A-8624-BBF108713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5EA9-65D4-4F85-82EE-BB383E8A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E0D2-3128-4304-8C71-04B74AEE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F642-A8E9-44A8-8254-F0D6F904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AB38-D404-4199-A27E-1D7FD3FC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553D-8192-4302-B3F7-FB11CC6E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3F53-29D4-430C-AA56-EFE7872E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2B3B-7F93-49BF-8601-E9210801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E0AC-6510-40C5-90FD-3C47EF19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47BB-E7EE-418D-8020-FC569EEA6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while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36Z</dcterms:modified>
  <cp:revision>166</cp:revision>
  <dc:subject/>
  <dc:title>Lecture 1:</dc:title>
</cp:coreProperties>
</file>