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1DE2-58F2-40A2-BA87-4C47763D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769-006C-48C9-815A-4FFCB3EB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7B70-D90E-4536-8C8E-C3C240DA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3E9-E482-489C-9BAA-50979308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B41-E2C3-41A3-AD79-A729AC40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FD9-5139-49C6-A601-B43FABC3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04B-FD1A-45C7-A639-CCC2DF42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715-EB88-4957-A277-437B9931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B9C-AD4B-42B2-8179-CCB8357F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475-744A-477B-BE51-77BA652B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EA0A-2543-470B-A243-122ABA9B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EEE-7F07-4DD9-B289-DB1D0E98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160D-5CF9-45D3-96F7-ADE306CFE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2T13:00:05Z</dcterms:modified>
  <cp:revision>91</cp:revision>
  <dc:subject/>
  <dc:title>Lecture 1:</dc:title>
</cp:coreProperties>
</file>