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6305-6932-4C67-87D4-EC841AD2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0E1-517B-4F00-A7D4-FACE9780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8D9-F000-43AF-9597-23D0147D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5A2-FC0C-43A1-B2F8-7CE662CE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BDB-5A82-4BC6-B1C4-29CF6F50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3080-2205-4163-9917-57B292FA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BAF-27E9-4185-BCE9-D9E05E2B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299-E664-4B6D-9ACA-2A3CC3EE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473-3F98-4FF8-A2F8-0D769538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CCC-EC1B-4D0A-99FE-E57E851B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B23-82F9-402F-9764-3AA948A7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527-F259-4761-889D-B940AE2E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714B-DA29-4221-AD2E-02AAE5F32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1T17:03:35Z</dcterms:modified>
  <cp:revision>84</cp:revision>
  <dc:subject/>
  <dc:title>Lecture 1:</dc:title>
</cp:coreProperties>
</file>