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F8EE-FDE6-4E99-8FC0-3ED9EEA5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8051-C840-49B3-8C95-23D516F6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E105-A604-4E4D-B71E-12C34363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7361-CC2E-424D-B6A0-D80DD46B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B378-447C-46A4-97D8-EC3FC829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FFE5-E7EC-4181-A26F-E976D22C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D46-A8FD-4AE1-9851-3C9F34EF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54B6-8A07-4AC8-8325-D0E6418A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79B-32D4-4E17-9904-1479872D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6315-7B52-41AF-A8BA-387CA14A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4286-3097-430D-84B3-618AF0E7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7EAE-F913-4C02-BCE7-0505EF3A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CBFC-FF0A-40E2-9891-40D2EFEBE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zed reading according to the teac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07T11:10:47Z</dcterms:modified>
  <cp:revision>17</cp:revision>
  <dc:subject/>
  <dc:title>Lecture 1:</dc:title>
</cp:coreProperties>
</file>