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03DB-7FEB-4404-8433-D266B756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45E4-D36C-422D-84E0-7FC92BDE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B98E-CD06-4BA8-B0DD-37C369FC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99A2-38C6-4689-B1E0-5BA83954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5FB1-D542-4981-8857-054897A1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D968-4BEB-4FE7-BC47-1C746485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CFDC-1D91-40B0-97AE-EE1E5D99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A587-9D75-4C19-8291-FF63238E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BE52-8A3A-467A-86D2-3F7CECD3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04F7-7A3A-4A96-88B0-E81D00B6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3B6F-44AA-4EEB-A063-B2284D46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6586-D423-4250-BC34-970C6825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EC17-970F-4458-AE64-B6C32ABC6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ever was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the 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0-14T12:58:08Z</dcterms:modified>
  <cp:revision>31</cp:revision>
  <dc:subject/>
  <dc:title>Lecture 1:</dc:title>
</cp:coreProperties>
</file>