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50CF-B53B-4BFA-9D53-0EB883B8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083D-D7A5-430E-BC03-562CFC6F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D36-020B-4FB8-A853-9EE1B925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AC36-621F-4305-9A55-AD08B16B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F18-90BA-459B-8924-DDF95FD2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5375-EEA3-4923-BB44-56DF83A1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B4F3-1914-4061-81D3-51E96124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0805-7215-472F-931D-96059663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E5F-D2FD-4AC1-9470-4C0819E4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C008-E115-4CD0-BE7A-68777547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2DC-26C2-45BD-A1BD-8F9266D8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190B-7CE8-44E9-B395-5C629CF2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9977-D5DE-4E0F-B720-7651B3E76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56Z</dcterms:modified>
  <cp:revision>194</cp:revision>
  <dc:subject/>
  <dc:title>Lecture 1:</dc:title>
</cp:coreProperties>
</file>