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342D-4A32-41AC-A9B0-C79B4196E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E342-B786-49B0-A361-DDF052E4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65E9-FBF1-4396-921B-FED224AA6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DCED-5FEF-4986-B820-134BAED80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BFFF-6C38-419B-BCD4-B13C7927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B31C-3FE6-4606-A21D-2B2FB06C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2C82-3A3B-4019-8240-47EE036B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453A-EF71-4F5E-959C-A0B36C5E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AED9-D93B-447D-ACDF-6B2FCC3D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54C0-35D7-4C90-9843-C661937E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EB36-7D78-44A3-BC08-9ED00D69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75CA-B91A-45C3-908B-C59E1947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004B-D847-4286-90A1-7D0F34B8B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8:33Z</dcterms:modified>
  <cp:revision>144</cp:revision>
  <dc:subject/>
  <dc:title>Lecture 1:</dc:title>
</cp:coreProperties>
</file>