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5BF-7C51-4673-88BF-8287F5D2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D6D-3F42-403F-868A-2CFF9AA9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CEC-E4B0-4171-81C9-8611EDD8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8B5-7EA1-4E76-9C11-5210ED12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70B-F1C6-4300-BAEA-F63759AC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854-AE41-4636-92B1-979A3566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6AB-8F4A-4162-B2D2-329B82EF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AB4-9565-4CC5-9184-5A850FC5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957-BFDB-44D7-811C-BF53016C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36A-3A1F-4ADD-83A2-6E95D06D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EAA-2116-48D2-A9E4-F88C4FC6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C09-1BE9-4DCF-AB88-50F708D8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65EE-32F2-421D-9C4A-C17D127CE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1-18T14:25:59Z</dcterms:modified>
  <cp:revision>68</cp:revision>
  <dc:subject/>
  <dc:title>Lecture 1:</dc:title>
</cp:coreProperties>
</file>