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495D-F017-4FC9-9C3E-51201101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20FA-6EE0-4C67-8B8B-10924DA1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E30-8B5C-4380-8BD9-159E0290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FCD1-DB42-4187-AE6A-91E3B13B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579A-262C-46F5-A593-D1A644F9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5DD-FEC9-4C01-8045-7B584784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A3A-E644-40EB-BCE2-A00F3DB4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460-FA83-41C3-BFF1-8344C9E6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58E-3C8A-4BF0-8248-2903A17C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3499-193D-44F1-96D5-9B34CFAB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5AD-9ED3-4E80-9D58-C088EDF2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EDE-B0F5-4067-ACF0-C0E24272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3CB3-2F32-4C25-858B-C9A51E37B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7:33Z</dcterms:modified>
  <cp:revision>124</cp:revision>
  <dc:subject/>
  <dc:title>Lecture 1:</dc:title>
</cp:coreProperties>
</file>