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4098-C83C-45D2-8DB1-68961AE37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BC34-274D-42D2-ACD9-9D360C7E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33F8-CAC1-4C47-B4BE-A7CC50EA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F21B-DAD9-430C-A540-E94EACA9A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3D81-8494-48A2-BC02-0EAA61BF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BFEC-9D36-4D01-AF5E-F8350DD8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0BA4-09F0-481D-9530-13A8CF69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D375-3F1D-465D-8359-2E39B22C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ED3B-25C6-4402-8E39-EE44FE08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32B7-DBD6-4BD6-8459-6C891E8B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042B-1392-48BF-8734-7B016091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E58F-6F07-407D-8080-9B959408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A8D1-B667-4399-9996-1693ECB9E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dnesda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ednesda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2-02T13:00:05Z</dcterms:modified>
  <cp:revision>91</cp:revision>
  <dc:subject/>
  <dc:title>Lecture 1:</dc:title>
</cp:coreProperties>
</file>