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EE11-E847-487F-ADC6-FF215A2F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53AF-5AC9-42C5-B76B-56EB1DAA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EEC2-9FC8-48A9-97FB-E4DE0094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53D7-2874-4FF4-B232-A53FCD3C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3208-A894-44E6-8948-BB1DD9A4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C0F8-0152-40EB-BE01-5F3D1A0F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12E3-4A15-43AC-BE8B-35ADB9DC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2394-70E2-4ABE-B1B7-F36D7102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940F-E6D8-454A-BCFE-4D981AE7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BB9D-2D9E-4B5D-96B5-8D71BAEC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1750-7EB7-4F02-AB5A-4FCD16F0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56D2-D6C8-460C-BD1A-BB9B0C66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C1EB-3458-4F6B-8149-B672DA5E3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56Z</dcterms:modified>
  <cp:revision>194</cp:revision>
  <dc:subject/>
  <dc:title>Lecture 1:</dc:title>
</cp:coreProperties>
</file>