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63C5-D48C-4CBB-81A3-5BFA5F67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6383-E4C8-420A-A648-C7DEC66D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F48-2875-466E-B378-1DF056A4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BC4-03EB-446E-9B76-97DA5CC7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D62A-4C25-49C9-B35E-CCDB15F2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FE12-16AD-42C7-8C09-FC536E2C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C11B-0F63-47DC-B17E-B8824572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070-BF85-4C9A-9B4A-232B86C7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688-8B90-445F-A65B-836F4E5D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1D8-EB16-45A3-BE72-415016F8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662-4DE7-417F-9BA0-BFC544F8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8599-BE35-492A-B414-81E8330F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E9C4-D161-4611-A6B7-7D3017509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43Z</dcterms:modified>
  <cp:revision>187</cp:revision>
  <dc:subject/>
  <dc:title>Lecture 1:</dc:title>
</cp:coreProperties>
</file>