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C413-3065-4FDC-A39C-5B6DD3C35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DFC7-5A13-4F1F-BC14-3F8F1824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FA59-B1B7-4505-A4A0-3D5BC3409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8A2B-FABC-4A17-9AB0-FB940FAA5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043C-000E-401A-8F3D-BD776CB6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8840-CE8A-4E3B-A49C-D10411A3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8B22-F457-4F58-8B9C-53F7BE27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C3DF-89B9-475F-80CE-479B5DCC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F864-167C-407A-B67F-5F94878D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CF58-262A-462A-9BE9-D3FF6ADA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3F80-2F75-4C1C-B2FC-F2330ADC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55B0-3156-476C-8B32-4E215ED6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EF90-67ED-4390-B697-50BD736D2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6-03-30T11:54:41Z</dcterms:modified>
  <cp:revision>167</cp:revision>
  <dc:subject/>
  <dc:title>Lecture 1:</dc:title>
</cp:coreProperties>
</file>