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7FD36-CFB0-4898-BD62-D6F805785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8FFCB-6547-41B5-8CC1-355666230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DA1FA-D42E-44A7-8E7F-FCBFFC5D6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42C25-7228-4837-A9CC-C35AE3C23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0A4E6-5396-4B86-9F13-1271A9FDA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923C7-2755-46C8-B86D-E1C5AA3F2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5D868-6E20-43D0-930F-9ABB1717C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4825D-89A9-4CFC-9916-4F659B2A9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AE901-D210-4440-A6D4-D2CF270C0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343BA-53F1-4D59-9921-FC46B1AF2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BD18C-6B49-44CE-A84B-ECBCF1CFA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C41C3-06C8-4D08-A3AB-FB6BA979C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DE5CA-7570-4105-B252-609ECAAFB1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8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 that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hrasal Verbs 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9480" y="1676520"/>
            <a:ext cx="792504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23 exercise 31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bsite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ML takes on 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that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14300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 th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an be used two different ways - either meaning Czec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b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used if the subjects of the clauses are not identical) 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a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ž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When used in the sense of Czech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aby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can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may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usually (but not always) follow it provide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ain clause (the first part) contains present tense, present perfect or future tens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, however, the main clause (the first part) contains past tense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igh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usually u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update my virus definitions regularly for my system to operate flawless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update my virus definitions regularly so that my system can (may) operate flawless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that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600200"/>
            <a:ext cx="8382240" cy="46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have recently installed a new spam filter for him to receive less junk mai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have recently installed a new spam filter so that he can (may) receive less junk mai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ur network administrator will try to get that e-mail client to work for us to be able to contribute to the discus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ur network administrator will try to get that e-mail client to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 that we can contribute to the discus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that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2120" y="1523880"/>
            <a:ext cx="7391160" cy="42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lotted the data into graphs for his students to read them easi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lotted the data into graphs so that his students could (might) read them easi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et his e-mail client to use IMAP4 for the others to be able to read messages from other loc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et his e-mail client to use IMAP4 so that the others could read the messages from other loc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that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143000"/>
            <a:ext cx="7925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 o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hould not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 th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usually follow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ould n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vided the clause preceding it contains past tense and the speaker wants to express a negative in the clause following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ut the knife away for the children not to cut themselv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ut the knife away so that the children should not cut themselv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ystem locked the file for it not to be overwritt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ystem locked the file so that it should not be overwritt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that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1971720"/>
            <a:ext cx="8001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replaced his heat sink for his processor not to overhe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replaced his heat sink so that his processor should not overhe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type-cast the variable for the assignment not to be erroneo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type-cast the variable so that the assignment should not be erroneo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hrasal Verb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37160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o tak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learnt he had not received my message, I was taken aback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zaražen, překvap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ake the bloody lemon away! I can’t bear the sight of it any mor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odnést pryč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tried to take me in, but did not succeed.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napálit, oklam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aking into account my previous experience, he decided to hire m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vzít v úvahu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tudents are required to take their shoes off before entering the computer hall.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vyzout, odlož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oarded the plane shortly before it took off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vzlétnou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 had better take on some more people because otherwise we will not meet the deadline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přibrat - zaměstn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hrasal Verb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134928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doing the job for 10 years he wanted someone to take (it) over (from him)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převzí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much disk space does the program take up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zabírat - o rozloz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o pu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uts aside a good deal of money every month to be able to buy a more powerful computer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odklád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put the book back on the shelf after you are done with it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dát zpět, vrát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put down everything I say, please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apsat, zaps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fact I have to know all those commands puts me off from working with that system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odrad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hrasal Verb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33520" y="1752480"/>
            <a:ext cx="8001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uld rather you did not put on that jacket. Look how dirty it is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obléci s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his computer caught fire, he did his best to put it (the fire) out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uhas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please put me through to Mr. Smith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spojit s - při telefonování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dismantling the device, do you think they will ever be able to put it together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slož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we were in England, we were searching for someone to put us up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ubytovat, většinou dočasně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had better put up with the situation and make the best of it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mířit 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6-04-20T13:18:32Z</dcterms:modified>
  <cp:revision>195</cp:revision>
  <dc:subject/>
  <dc:title>Lecture 1:</dc:title>
</cp:coreProperties>
</file>