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0B64-23BD-495C-A81B-71C6F2198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4ED1-5557-45BF-9CAA-5211AE359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EA77-ACB6-4F6E-8A8F-C012C9718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E5A8-6939-4663-88B8-650AFD879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D96B-50DE-4B64-80B1-1F899FC6C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DAB6-5349-453E-9812-D8D03827D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4E24-EA09-453C-8BBA-C9C79B70C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3AC2-8D7A-4C66-9E22-75A60790B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1151-A40D-40F9-A566-91B2C5E61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5836-E785-486C-A0B4-700328986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A51B-AD32-4522-BFFB-06FDAD203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BB11-0ED8-4195-9B42-0B918F118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18FB2-69BD-4A13-82AF-6854345BC3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the combination of unreal conditions in the past and unreal present or future res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uter had not ca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disk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mpty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be able to sh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data with the others now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mputer to the network and configured it right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not 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a while ago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 frustrated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205740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nse shift in condition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w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ake an umbrella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pli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 not p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i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+ would (expressing politenes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ould let me use your CD writer, I would really appreciate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ould really be helpful if you would rent some disk space for us with an AS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90512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 if, as though, like (informal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oe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 chalk from chee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keybo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ok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a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o go into piece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ense shif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talk to him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old man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econd conditional - he is not o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keyboard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brother had play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y brother did not play with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5 exercise 12.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9 exercise 1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ltimedia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lay MP3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ricks to MPEG’s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ditional Conjuc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78740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jestli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e, kdyby (depending on the type of conditional)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unles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jestliže ne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ovided/providing (that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za předpoklad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ppose/supposing (that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za předpokladu, předpokládejm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kud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 condition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d podmínko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ro případ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838080"/>
            <a:ext cx="8382240" cy="56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always tru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resent tense,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esent tense + conditional conju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overcloc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cesso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produ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heat than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do not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antivirus software, 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me antivirus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p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lt on ic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mel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not prep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ta righ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boi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for more than 12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371600"/>
            <a:ext cx="8382240" cy="50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usually probable and related to the futur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struc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resent tense, future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ture tense + conditional conjun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c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 lesson without your home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consider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s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50192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high bandwidth connection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abl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wnload large amounts of data without any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ant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nect to the Internet via the mode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hav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dify its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ill ta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umbrella with me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t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perform the query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man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onnect to the net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filled 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debugged the progra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s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6383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improbable (or impossible) in the present or future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ast tense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ction + pas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different refresh rat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s monitor w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e flicke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understa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word he says 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sp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ittle more slow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866960"/>
            <a:ext cx="8381880" cy="31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ll version of the progra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 all its fea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rd item of the array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tring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ossible to assign it to this type of variab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knew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how to use logical operators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he mak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such a mista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o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a million. What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</a:t>
            </a: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 yo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chec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the syntax of that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70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unreal condition in the past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+ past infinitive (without to)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+ past infinitive (without to) ...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 enough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pa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n’t have bur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or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tur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ff before plugging in the prin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13660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st nigh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iler wouldn’t have repor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yntax erro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ogrammer had termina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line with a semicol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ls -l command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know the contents of the directory with all file attrib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had kn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 punishment you would ge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have owned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de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8T15:03:15Z</dcterms:modified>
  <cp:revision>124</cp:revision>
  <dc:subject/>
  <dc:title>Lecture 1:</dc:title>
</cp:coreProperties>
</file>