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9226-94FF-45E6-AE08-7094F37B9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5C8B-5884-4FC2-B8C8-DA5170B1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6FAA-B158-4271-B3F4-78C639EB5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68E5-8533-4CBD-851A-D4D50F5EF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6C1C-A056-4745-B14E-45ED7D2B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659C-6BA8-4D8D-8EC6-BB7176A2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DEAB-7042-47D4-A2C7-481BC8AE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58E3-0E44-4DB7-87FD-07F4ED84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0618-3B3F-4760-A0EF-48D869B3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3776-D34C-4E50-BE87-1B88F464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792F-1ACB-4067-840A-EC403DBC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B31C-8142-4630-87F2-A320DA1A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C190-FAB4-45B6-B320-E6CCFFB6C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24T13:47:53Z</dcterms:modified>
  <cp:revision>92</cp:revision>
  <dc:subject/>
  <dc:title>Lecture 1:</dc:title>
</cp:coreProperties>
</file>