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E571-BEDE-476D-A969-6D36D3D6D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8F86-70F6-4E33-824C-BE2BA4FE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978F-3D19-4CE1-842E-982DA2F12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C2F6-5769-4992-9208-F4D7590A0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13B4-569C-4A98-8003-9458B26E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AA6D-8684-46B9-BF8A-529380B5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468C-5846-4984-877E-2F966CBE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1914-44CB-4D92-9591-35E02237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D42B-DF7C-4A0B-85F0-B681CF42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DAB5-85D7-46C8-A6AF-7056BB9D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A199-C4D4-4FA2-A546-BA6E12FC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A78C-9996-413F-8C59-56FFE507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C9FE-BF59-46AA-BBD8-EE994C1CF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pecifi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13T16:30:45Z</dcterms:modified>
  <cp:revision>189</cp:revision>
  <dc:subject/>
  <dc:title>Lecture 1:</dc:title>
</cp:coreProperties>
</file>