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05A8-AC44-4278-947D-352A985FC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71CE-4A8B-43EA-950E-AF1CFAED0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912F-FBF3-4589-954C-F54BE814C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11EB-E1BF-4EBC-987C-24DF1EACE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15E4-39BC-414A-BB55-415969838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26C0-A2F3-4C0A-980D-0C949DA62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9060-1156-4FEC-8DA5-70566CC5A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A02E-5E90-4A81-98B3-0A7B86CFC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1878-8578-4B56-89DF-B13504361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6576-65A0-4AC6-B105-BA6A817E6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3310-FFC9-4502-A7A6-103F7755F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6046-CB45-4265-922F-FA309FF13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E599A-6171-4C0B-93E3-99A5AB0D67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3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14400" y="190512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152388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ost common verbs combined with preposi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gree with, apologize for, approve of (souhlasit s, schvalovat), benefit from (m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t prospěch z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depend on, feel like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mít chuť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insist on (trvat na), look forward to, object to (m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t námitky vůči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rely on, resort to (u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chýlit se 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succeed in, think of, vote for (hlasovat pr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pologized for sending him a virus-infected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trongly objected to using FLASH technology on that si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feel like learning to work with another 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resorted to launching the applications from the command l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teacher succeeded in mastering some basic Unix comma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676520"/>
            <a:ext cx="792504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56 exercise 21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twork Configu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alog and Digital 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52388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iciples are often used to shorten senten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simple -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g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form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to refer to simultaneous actions or parallel stat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he was browsing the site, he received several cook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When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rows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ite, he received several cook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he subjects are identic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he was tampering with the hardware, he made a real mess of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Whil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mper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the hardware, he made a real mess of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600200"/>
            <a:ext cx="8382240" cy="43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gateways amplify the signal they receive, they ensure its appropriate streng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mplify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received signal, gateways ensure its appropriate streng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it is a terminal which comprises a monitor and keyboard only, it is considered a dumb cli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termina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ris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monitor and keyboard only, it is considered a dumb cli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676520"/>
            <a:ext cx="8001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ive for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the file was transferred in the binary mode, it was stripped of carriage retur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ing transferred in the binary mode, the file was stripped of carriage retur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they are not asked, they should be qui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t being asked, they should be qui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523880"/>
            <a:ext cx="792504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ast participle form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matter which was discussed many times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matt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iscu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any times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ceived the e-mail which was addressed to every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ceived the e-mai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ddre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every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station which is connected to the net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statio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nec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the net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37160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ast Gerund form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aving + past participle) - used to denote chronological sepa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the data-link layer  receives confirmation that the packet has arrived undamaged, it deletes the pack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received confirmation that the packet has arrived undamaged, the data-link layer deletes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the modem detected noise on the line, it terminated the conn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detected noise on the line, the modem terminated the conn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37160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she found out her boyfriend was cheating on her, she broke up with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found out her boyfriend was cheating on her, she broke up with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the message was not re-routed properly, it did not avoid the conges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t having been re-routed properly, the message did not avoid the conges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e: Use of participles makes speech (writing) sound (look) formal and academic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137160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king scripts for my boss is my worst nightm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aking of scripts for my boss is my worst nightmar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archa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most common preposition-free verbs followed by gerund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mit, appreciate, avoid, celebrate, commence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začí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consider, deny, detest (nes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š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dislike, enjoy, fear, finish, go, imagine, keep, mention, mind, miss, postpone, practice, resist (odo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láva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stand (vyst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sugg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golden rule to remember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en you can put “something” behind the verb, if you want to put another verb behind it, it should be in the gerund fo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14400" y="190512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1523880"/>
            <a:ext cx="8381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admitted making a mist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ppreciate her debugging the source code. (I appreciate that she is debugging/she debugs the source cod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ppreciate her having debugged the source code. (I appreciated that she has debugged the source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schoolmate considered buying himself a new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oes not enjoy working with that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te him/his smoking in this ro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39:03Z</dcterms:modified>
  <cp:revision>153</cp:revision>
  <dc:subject/>
  <dc:title>Lecture 1:</dc:title>
</cp:coreProperties>
</file>