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C0EE-D49C-4EE3-9190-837379555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F321-02CB-4858-9EF8-2D5EADBC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536D-1977-4FE6-9D7C-A53D507BE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1DC2-8C69-45C0-A5C0-F66CD29AB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1DFA-B8D7-4998-A0D7-87438159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D5EF-1757-4BF4-8C37-1F4E0C6A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3A35-8C15-4DAC-914A-551FF666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23A0-1448-4B1C-805F-D8C8485C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B966-8299-46BC-98FA-20BB9F5D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351F-B29B-4F71-8C10-2B3274D3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79D6-D5F6-4B85-92B9-F78F5DD8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18DD-7A00-4E49-BFBC-D286480C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F40C-840E-4C15-B2B0-10099E2F7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2859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I've heard those city singers singin' 'bout how they can lov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oceans, …. than the stars abo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I come from the country, and I know I …. seen it 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 heard that ocean's salty, and the stars, they sometimes f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 would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jus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way I feel for yo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 had to sing this song about all the things I kn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time window .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onger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per Than the Holler - Randy Tr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808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back roads to the Broadway shows with a million miles betwe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's …. a million love songs that people love to s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one is different, and every one's the sa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is is just another way of sayin' the same thin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-time window …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….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Jana Smržová</cp:lastModifiedBy>
  <dcterms:modified xsi:type="dcterms:W3CDTF">2005-11-09T20:11:07Z</dcterms:modified>
  <cp:revision>33</cp:revision>
  <dc:subject/>
  <dc:title>Lecture 1:</dc:title>
</cp:coreProperties>
</file>