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9DC9-EA93-4F81-899E-9408BB267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DC5C-0C4C-471A-AC1D-CD646F5A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1AE8-BD98-4EB4-8D71-B85091B9A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BEFF-E64C-410C-A696-3E4F260DA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6210-C386-4EBD-9D8C-B5CD90A9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734C-6E3B-41AD-82B1-8B4E7578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5307-56BD-4EA1-AFD7-827B26A9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B155-C85A-4F29-946A-2EE6EBBA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234D-3EBE-4ECD-8E78-BB4F2E4F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6CD3-B931-4E63-82F8-6F4150E0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0CA1-DC51-41AA-9CEC-E5C79DAD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12EB-5D88-4447-84AD-37522FB8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BEA5-8957-4CE2-9EF5-26DC1FD1F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24Z</dcterms:modified>
  <cp:revision>177</cp:revision>
  <dc:subject/>
  <dc:title>Lecture 1:</dc:title>
</cp:coreProperties>
</file>