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DB61-71FD-4622-B843-74AFAA4F5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F98D-49E2-4A1B-A623-E51FD5FD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C303-79A5-4F7F-AD96-2FD2F7B86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AFCB-DD8E-41C8-97B7-A3D01E11C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0AD2-E57A-458F-B311-744ED6A9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9747-9BDE-4C2F-B4D9-132670E5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C803-06F0-453B-A7CB-1F3C2DC5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58FA-9232-44A3-9BFC-80A2DF03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B288-4E30-4F32-B122-A9C5360B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E129-2329-4944-AC88-C465E4A4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BDF4-D04B-4597-8AF3-28278231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9D56-2122-469C-B32D-C47BACA3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2F60-43AD-4EF7-A0D4-ED2F26D83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24T13:47:53Z</dcterms:modified>
  <cp:revision>92</cp:revision>
  <dc:subject/>
  <dc:title>Lecture 1:</dc:title>
</cp:coreProperties>
</file>