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A2BF-2CDA-4CE4-AE2D-085178B11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8E7A-759C-47CD-AA1B-892BFB8D1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6312-DAD6-4DC0-AF51-4D7CA0E84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FBAD-FE37-4F89-95BE-E4451B17B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4048-26ED-46A0-BA95-877BC5563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76DD-F710-44DF-AC8D-3253C6B97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E380-303F-48FB-8234-9734FCF6A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1870-57B9-4C5A-A47A-650C4D4D2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187D-24C0-486F-AA8B-3EA816FC3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1DC4-80B1-47BD-BE78-FA407CBB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F577-8E1C-4341-BCCA-CD13EC58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C52D-176A-4466-A49C-80BE7AF0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9E1F6-064A-444F-8A8B-771CD5A114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ish …, If only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1240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d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 and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play computer games when he was young. He no longer does s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rával, ale už nehra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chase chick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nil, ale už neho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s used to be unstable, but now it is the best O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ýval, ale už n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8 exercise 2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1 exercise 3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e specified l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4097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n sentences that are in Czech known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ací vě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 The rules governing their formation are the same as those which hold for the clause following conditional conjunction in 2nd or 3rd conditio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, I would wipe the monitor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 (to wipe the monitor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, I would loosen the scr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have assembled the compute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, the computer would not have reported buffer underru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sed to express a wish for something that the speaker finds annoying to change in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…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express a “neutral” wish concerning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he would not play with the live wire next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weather would impr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computer would stop freez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monitor would not flicker that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they (will) fix the drive by 6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she (will) marries (marry) me on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ective aspect - doko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erfective aspect - nedokona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e imperfective aspect is usually expressed by means of continuous tenses - stress is laid on duration (trvá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as reconfiguring the system the whole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 programmer has been writing the manual since he finished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y say it will be raining the whol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ome verbs cannot occur in continuous tenses or they change their meaning in these (see Lecture 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, however, a sentence refers to a repeated action, simple ten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onfigured the system every other day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reconfigur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usually wrote the manual when he was fre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was usually writ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Greece, it often rained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monitor flickers every now and then. X My monitor is flickering all the ti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pression of annoyance - see Lectur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off actions are usually expressed by mean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a + infinitive (without “to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how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it’s O.K. with you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sprcho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ing a drink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da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, but I turned him dow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t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č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fired because he would often leave his offic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m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ko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y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loo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it? It may only need some cleanin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dí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past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ually used a temporary file for storage of calculation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gularly failed to notice his neglig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s never did the handshaking right with these initialization str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717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+ infinitive without “to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ould ask for assistance whenever he was in trouble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žádával mě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 would get a blue screen after installation of some new hardware under Windows 3.11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etkávával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at operating system would give me sleepless nights on week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4-13T16:30:45Z</dcterms:modified>
  <cp:revision>189</cp:revision>
  <dc:subject/>
  <dc:title>Lecture 1:</dc:title>
</cp:coreProperties>
</file>