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9F50-C28C-4F66-AC0B-56BA1F8F0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88E8-FEAC-4E4F-9E65-189267C2A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B27C-BF80-4E8C-A66E-D272F5CA0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AACA-DDC6-4488-9322-44D96B806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84F5-6A10-44D7-BB4B-8E96D11F7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A72F-60AD-4AF3-92F2-C19E74CF9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EAD8-4692-4AD5-B687-6225446DF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E386-3026-4348-8F0A-7A4DA2DCA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2B08-E438-4A9B-9EBB-FE83EC274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31BF-6F1F-417A-80B1-BF877A38C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103B-9ECC-49EF-A740-4D30C29FB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F32D-E845-4D53-9DBD-AEA8578A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3D0EE-02C0-49FB-ADC7-BC467FB97F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06668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an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x)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unction of the variable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at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iv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tiv] – deriva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expression representing the rate of change of a function with respect to an independent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f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the partial [‘pa: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l] derivative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(x,y)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4792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aiv] – odvodit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btain a function or equation from another by a sequence of logical steps (e.g. by differenti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tegra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grəl] – int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grál </a:t>
            </a:r>
            <a:r>
              <a:rPr b="0" i="1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nction of which a given function is a derivative (which may express the area under the curve of a graph of th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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(x)d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-- the indefinite integral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ogarith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lo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riδəm] – logarit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common logarithm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logarithm (base a)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’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– calculated as a ratio of the side opposite a given angle to the hypoten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sine x, cosine x, tangent x, cotangen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447920"/>
            <a:ext cx="8001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x, cos x, tg x, cot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a| -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solute valu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maind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ri’me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zbyt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kwontiti] – ve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x], pl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si:z] – mati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rectangular array of quantities or expressions in rows and columns that is treated as a single entity and manipulated according to particular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 sum [sam]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676520"/>
            <a:ext cx="79250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pu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iding Hard Dr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5-04T12:50:07Z</dcterms:modified>
  <cp:revision>214</cp:revision>
  <dc:subject/>
  <dc:title>Lecture 1:</dc:title>
</cp:coreProperties>
</file>