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B28C-C9BC-4261-B453-F429542FE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7B3E-A999-4771-9B47-465B8B73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8D85-F403-46DC-8330-EF321E6D0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84B2-C6E4-4280-A2A3-3CE59FF8F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940C-B049-4DEC-A846-A15F0914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A0E2-8823-48D4-A74B-5195CD01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CE70-42BA-436E-95C8-CAA6F1FE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F95A-ED32-4F6D-93F9-404BC777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8FC8-4A84-4C52-9192-D01815B0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0B7D-7A1D-4BB9-8745-D4376E6B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7D95-5C13-4D8F-A54B-87E2DAAD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1E3C-5BE1-4C6F-AA99-CD847963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0C33-4F1E-407C-88F1-A92E2E04A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24Z</dcterms:modified>
  <cp:revision>177</cp:revision>
  <dc:subject/>
  <dc:title>Lecture 1:</dc:title>
</cp:coreProperties>
</file>