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20EE-4665-4741-903F-4DF05F208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C1B7-DB20-45F7-A023-5CB5980E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9D1A-B912-4EBC-A2BE-E91C60936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9FAE-6DAF-4CFE-9F33-84F5ACBF6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E7D1-3E21-473C-A05B-562FB004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524E-42C8-4697-BA21-547D151D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3CD9-9F37-498B-AF81-50AC4BE4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EC65-8749-4578-BED2-96E91EC6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8EF5-C735-4D16-B99F-F345D2B9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61F8-AC96-42EA-9E7B-D25EBE1A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A597-CACA-464E-828D-E7B1E046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14B2-7CE4-41E1-8248-0CC21C45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E54C-6F28-4C8D-BF87-3BBFB5343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24T13:47:53Z</dcterms:modified>
  <cp:revision>92</cp:revision>
  <dc:subject/>
  <dc:title>Lecture 1:</dc:title>
</cp:coreProperties>
</file>