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5C44-E882-48DD-8782-89DE5C12F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31D6-C18D-4AE6-BB91-287ECB032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50B4-614E-4CF4-B311-2314980EC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8F59-8161-4D76-AEB8-710D6950D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4206-D534-494D-8A16-892BC3C92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C825-4D64-4FD7-867C-B8E38B63F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F992-E057-4FFF-97B9-8FB007D28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35C4-1075-40D8-B182-89FD40BAF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99A3-38CD-4F89-B8AA-BA46EF334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BC37-81DC-416B-A8DA-669B63D4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730A-FD7A-4D62-A8B1-375E4B60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5200-BA81-49A1-97A3-F5D40EBE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5CAB8-FECE-474B-9AC4-E5B46ED02F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tha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3 exercise 3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bsit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ML takes on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14300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used two different ways - either meaning Cze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ed if the subjects of the clauses are not identical)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hen used in the sense of Czech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b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usually (but not always) follow it provid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clause (the first part) contains present tense, present perfect or future tens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, however, the main clause (the first part) contains past tens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ually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for my system to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so that my system can (may)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for him to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so that he can (may)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 for us to be able to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 we can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523880"/>
            <a:ext cx="739116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for his students to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so that his students could (might)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for the others to be able to read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so that the others could read the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ould no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ually follow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d the clause preceding it contains past tense and the speaker wants to express a negative in the clause follow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for the children not to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so that the children should not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for it not to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so that it should not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97172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for his processor not to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so that his processor should not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for the assignment not to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so that the assignment should not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tak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learnt he had not received my message, I was taken aback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aražen, překvap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the bloody lemon away! I can’t bear the sight of it any mo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nést pryč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ried to take me in, but did not succeed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napálit, oklam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ing into account my previous experience, he decided to hire 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ít v úvah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are required to take their shoes off before entering the computer hall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yzout, od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arded the plane shortly before it took off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létn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had better take on some more people because otherwise we will not meet the deadlin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ibrat - zaměstn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34928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oing the job for 10 years he wanted someone to take (it) over (from him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evzí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much disk space does the program take up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bírat - o rozlo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s aside a good deal of money every month to be able to buy a more powerful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klád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the book back on the shelf after you are done with i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át zpět, vrát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down everything I say, pleas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sat, z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act I have to know all those commands puts me off from working with that syste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dra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752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rather you did not put on that jacket. Look how dirty it i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bléci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his computer caught fire, he did his best to put it (the fire) o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has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put me through to Mr. Smith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pojit s - při telefonová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ismantling the device, do you think they will ever be able to put it togethe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England, we were searching for someone to put us up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bytovat, většinou dočasně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put up with the situation and make the best of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míři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4-20T13:18:32Z</dcterms:modified>
  <cp:revision>195</cp:revision>
  <dc:subject/>
  <dc:title>Lecture 1:</dc:title>
</cp:coreProperties>
</file>