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91FE-E53C-4C49-93EF-637F73647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BCD5-88DC-42AE-BB58-C5E19B6C9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73CC-8BAC-4F53-893E-5ABD778ED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C956-4068-41C1-BB89-3E09204A4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A066-3202-4694-9CE9-4ABB0B927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73F1-F160-402D-9D69-8CDD71935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B510-0763-4384-BABC-E70F37746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A154-0F70-4F97-B1BD-0E5373F92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CFDE-DA3D-4AEB-B340-B6CF9102D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FF5B-979B-4703-8F43-B16217A1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FCCB-1509-4793-8952-2A8D7488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3614-4940-473A-8A56-E43BA04C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5B7F9-24BE-4D1B-8E24-C6C4CFF6FF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13372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nctions introducing tim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while, before, after, as soon as (jakmile), till, until, once (jak jednou), by the time (kdy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whenever (kdykoliv), the moment (v tu chv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li, k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ule to remember: Time clauses (introduced with one of the conjunctions above) must never conta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referring to future, they have to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ent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icture will be breaking u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 you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laying the file without the new cod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fter you pl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piece of hardware in, Windows will automatically detect it and assign the right driver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start selling the progra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til I deb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say they will check my hardware setting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ile I wa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na p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kán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be able to install that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 soon as you re-parti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receive the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time you are d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conve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ever he ask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for it, I will not help him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981080"/>
            <a:ext cx="79250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 of present perfect in time clauses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as soon as, after, onc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 to describe an action which will be completed before the action in the main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get a pretty well-paid job when you have graduated from this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ce I have finished reading the manual, I will try to get it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let you go out as soon as you have done your ho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tudent will be admitted to a higher grade after he/she has passed all the necessary ex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06668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xon Genitive 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belonging to a person or, sometimes, anim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my father’s mod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one is allowed to touch my children’s to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achers often underestimate their students’ learning pot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o express place, distance, periods of time, measure, valu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et out for an hour’s walk. (a one-hour w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ought a sixteen inches’ monitor. (a sixteen-inch moni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wenty kilometers’ trip will never end. (twenty-kilometer tr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what I told you at the last week’s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pe they don’t thwart the tomorrow’s plan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only brought me a fifty centimeters’ cable. (a fifty-centimeter 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nday’s newspapers (this Sunday’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unday papers (Sunday edition - gener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hirty Year’s War (the name of the wa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thirty-year war (the one lasting thirty ye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12400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á také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o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ither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 také 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either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s the FLASH technology. So does s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an’t work with that program. Neither can my 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overslept today. So has my br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bandwidth does not enable us to transfer a large volume of data. Neither does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as thick as two short planks. So is his si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2604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got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mustn’t increment that value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th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needn’t have used fractions in the equation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ed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mustn’t speak during the lessons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s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duce bug-free software. Neither do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5 exercise 1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6 exercise 1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8 exercise 1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8:33Z</dcterms:modified>
  <cp:revision>144</cp:revision>
  <dc:subject/>
  <dc:title>Lecture 1:</dc:title>
</cp:coreProperties>
</file>