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840D-E332-4D16-B41A-5FC52032A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748B-3B99-42FE-BC59-C325A4ADA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98E7-0D77-4F69-A50D-E26DFFE8F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078B-87E9-464B-83B3-85D7C7C61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E796-68BF-4856-85B3-CCBF2D53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4F93-5DA0-4B5B-82C5-A2FBEC055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1513-5DCC-46B3-92CE-21C0B1E83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606E-F3BB-4E3B-93B0-6DA9681CC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0D3E-8CAE-4E98-94C0-7801D8BFD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48DF-1037-44AF-8704-F594C9B7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C7B6-914D-4E80-8DF9-52A8AD48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FDEE-B7FD-4807-8E93-249D43B1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1F877-6550-4762-8ABF-A97CC0EE5D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nunciation – phonetic tran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other, the other, other, others, the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is … There ar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other, the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ther ... (”ostat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..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plural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n druh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in singular), the others (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statn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prefer the other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other processor is much fa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ohn and the other students always leave the keyboards gr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I named Marry never freezes, unlike the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st, 2nd, 3rd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rst, second, thi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th, 5th, 6th …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urth, fifth, sixth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25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re is … There are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is in a certain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xistential u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a card in the sl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re there any jumpers on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lots of stupid people in th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sites I always love returning 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plural in declarative sentence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was moving some jumpers around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brought us some WR C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singular (uncountable) in declarative sentence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-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some information about it in the 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n’t bring me just some diskettes! Bring me the Verbatime on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in ques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lite offer expecting “y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t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w about some cook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further information abou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positive declarative sentence = j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ýkoliv, jakákoliv, jakékol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uld you bring me any CD you can lay your hands 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mistake she makes is seri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questions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nějaká, 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received any information from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got any questions concerning this phenomen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computer at home? (colloqui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negative declarative sentences meaning 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žádný“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n’t any free space on my hard dr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haven’t given me any project to work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don’t have any spare mod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94 exercise 1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118 exercise 21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Architecture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che Memory - How a Disk Cache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nunciation – phonetic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at, hat, fat, mat, bad, hag, f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tman, confirm, modem, bird, proliferate,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three, thick, thin, thumb, thistle, th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, these, those, fathom, sunb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g, ring, bring, string,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,t – aspiration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ree, take, true, during, 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re is basically no Czech phone (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hláska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t has its absolute counterpart (pro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tějšek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n  Englis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chwa" descr=""/>
          <p:cNvPicPr/>
          <p:nvPr/>
        </p:nvPicPr>
        <p:blipFill>
          <a:blip r:embed="rId2"/>
          <a:stretch/>
        </p:blipFill>
        <p:spPr>
          <a:xfrm>
            <a:off x="942840" y="2590920"/>
            <a:ext cx="200160" cy="228600"/>
          </a:xfrm>
          <a:prstGeom prst="rect">
            <a:avLst/>
          </a:prstGeom>
          <a:ln w="0">
            <a:noFill/>
          </a:ln>
        </p:spPr>
      </p:pic>
      <p:pic>
        <p:nvPicPr>
          <p:cNvPr id="46" name="pth" descr=""/>
          <p:cNvPicPr/>
          <p:nvPr/>
        </p:nvPicPr>
        <p:blipFill>
          <a:blip r:embed="rId3"/>
          <a:stretch/>
        </p:blipFill>
        <p:spPr>
          <a:xfrm>
            <a:off x="958680" y="3429000"/>
            <a:ext cx="184320" cy="276120"/>
          </a:xfrm>
          <a:prstGeom prst="rect">
            <a:avLst/>
          </a:prstGeom>
          <a:ln w="0">
            <a:noFill/>
          </a:ln>
        </p:spPr>
      </p:pic>
      <p:pic>
        <p:nvPicPr>
          <p:cNvPr id="47" name="pthe" descr=""/>
          <p:cNvPicPr/>
          <p:nvPr/>
        </p:nvPicPr>
        <p:blipFill>
          <a:blip r:embed="rId4"/>
          <a:stretch/>
        </p:blipFill>
        <p:spPr>
          <a:xfrm>
            <a:off x="990720" y="3886200"/>
            <a:ext cx="183960" cy="276120"/>
          </a:xfrm>
          <a:prstGeom prst="rect">
            <a:avLst/>
          </a:prstGeom>
          <a:ln w="0">
            <a:noFill/>
          </a:ln>
        </p:spPr>
      </p:pic>
      <p:pic>
        <p:nvPicPr>
          <p:cNvPr id="48" name="ng" descr=""/>
          <p:cNvPicPr/>
          <p:nvPr/>
        </p:nvPicPr>
        <p:blipFill>
          <a:blip r:embed="rId5"/>
          <a:stretch/>
        </p:blipFill>
        <p:spPr>
          <a:xfrm>
            <a:off x="990720" y="4371840"/>
            <a:ext cx="196560" cy="276480"/>
          </a:xfrm>
          <a:prstGeom prst="rect">
            <a:avLst/>
          </a:prstGeom>
          <a:ln w="0">
            <a:noFill/>
          </a:ln>
        </p:spPr>
      </p:pic>
      <p:pic>
        <p:nvPicPr>
          <p:cNvPr id="49" name="opene" descr=""/>
          <p:cNvPicPr/>
          <p:nvPr/>
        </p:nvPicPr>
        <p:blipFill>
          <a:blip r:embed="rId6"/>
          <a:stretch/>
        </p:blipFill>
        <p:spPr>
          <a:xfrm>
            <a:off x="914400" y="2179800"/>
            <a:ext cx="228600" cy="1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nd     pronunc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tongue" descr=""/>
          <p:cNvPicPr/>
          <p:nvPr/>
        </p:nvPicPr>
        <p:blipFill>
          <a:blip r:embed="rId2"/>
          <a:stretch/>
        </p:blipFill>
        <p:spPr>
          <a:xfrm>
            <a:off x="2832120" y="2692440"/>
            <a:ext cx="3263760" cy="1803240"/>
          </a:xfrm>
          <a:prstGeom prst="rect">
            <a:avLst/>
          </a:prstGeom>
          <a:ln w="0">
            <a:noFill/>
          </a:ln>
        </p:spPr>
      </p:pic>
      <p:pic>
        <p:nvPicPr>
          <p:cNvPr id="52" name="pth" descr=""/>
          <p:cNvPicPr/>
          <p:nvPr/>
        </p:nvPicPr>
        <p:blipFill>
          <a:blip r:embed="rId3"/>
          <a:stretch/>
        </p:blipFill>
        <p:spPr>
          <a:xfrm>
            <a:off x="1746360" y="1066680"/>
            <a:ext cx="234720" cy="352440"/>
          </a:xfrm>
          <a:prstGeom prst="rect">
            <a:avLst/>
          </a:prstGeom>
          <a:ln w="0">
            <a:noFill/>
          </a:ln>
        </p:spPr>
      </p:pic>
      <p:pic>
        <p:nvPicPr>
          <p:cNvPr id="53" name="pthe" descr=""/>
          <p:cNvPicPr/>
          <p:nvPr/>
        </p:nvPicPr>
        <p:blipFill>
          <a:blip r:embed="rId4"/>
          <a:stretch/>
        </p:blipFill>
        <p:spPr>
          <a:xfrm>
            <a:off x="3352680" y="1066680"/>
            <a:ext cx="23508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  to express a future fact or predi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will always mal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ill be windy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o express a sudden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o it right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o express an offer or re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all I install the application for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tell me how to work with those variab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  to express an opinion about the future (following verbs such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nk, suppose, dou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in combination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bab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think I will have my sound card repla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suppose you will hate me after all these le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doubt he will ever pass the exam without studying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will probably upgrade thei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to express strong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onitor’s flickering. Oh, that will be the c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dditional no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= I’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not = I wo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: i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other (je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ště jede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, 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ed with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ngula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untable nou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ill have another cup of coffee, p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ou had better install another application processing im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 need another computer. This one is too slow for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some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 other (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ějaký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– used with uncountable nouns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 or plural countable nouns (nějaké jiné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uld like to use some other hard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ow about asking some other stud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other,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…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…), oth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plural 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 application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would love to work with (some) other computers, not th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at is, (some) others would not be down all th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9T12:50:47Z</dcterms:modified>
  <cp:revision>18</cp:revision>
  <dc:subject/>
  <dc:title>Lecture 1:</dc:title>
</cp:coreProperties>
</file>