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2C51-02D5-49CD-BED3-4E0C969D8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D13D-7BE2-462B-B909-C803DAAC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7331-95DC-477B-92E9-F317ED983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B71A-2A08-4509-89A5-CE2D3B560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9CB0-1B85-4339-840C-1434D41E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2A5F-A554-404E-9A40-F1C1FF0D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1281-2015-483F-907E-BF113965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21E0-CFA0-4BBB-83ED-59976647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B656-0077-4C8C-82F8-EB7A8787B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161D-A535-4DF7-AE3D-A07D9B23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67B2-AF75-4CAD-9698-927D07B6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D5D3-D879-48FC-B9A3-E94E49F0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D780-A04B-422A-A314-1FD851AF45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20T13:18:32Z</dcterms:modified>
  <cp:revision>195</cp:revision>
  <dc:subject/>
  <dc:title>Lecture 1:</dc:title>
</cp:coreProperties>
</file>