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CD71-0F59-401F-8F73-D98D3FFA3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153A-AFC5-461B-AFC5-89F6525B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38BA-F74F-42ED-834A-1BB8BCA29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BA79-98DC-4F84-8747-D660B04A9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5DF5-65D8-42D5-8CB1-460192E2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539E-808E-4107-B4AF-C51B466F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0C9C-0614-46F2-8A7F-BEFEB6C5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764C-896A-46DE-B8DC-217236B6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2F54-2CC1-4232-8AD1-C9597E5D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796B-E40D-41C3-8D49-2385764B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7B6D-52A1-4652-99EA-AAA9C2F0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1BAE-F034-4CDE-A9F3-EE0159A6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5766-CDEE-4E13-AE4D-0AC489DB7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32004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2-02T12:38:36Z</dcterms:modified>
  <cp:revision>83</cp:revision>
  <dc:subject/>
  <dc:title>Lecture 1:</dc:title>
</cp:coreProperties>
</file>