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B5138-3E1E-420C-A528-6A68461B9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37157-F4DB-4AAD-97AF-29C1FDF82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4C44A-1B9C-4583-A425-66D92CAE6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76E3D-1934-4C98-83BE-BF92AD4BC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687C4-029C-42FB-83F1-E329EB849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5F550-06A3-4F8E-982D-BD44B9667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6C555-3A1F-42E9-AC81-BAE2EC786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F2C38-6B81-45C5-8317-A0A744CFE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FDA2A-9875-4E25-9582-CA887FAD7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326BC-469B-49C8-A4EE-6AC7D8129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8CB97-C5CD-4D42-8840-E51E1D08A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6D30D-9405-48B4-974E-4999E1F02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2C595-684C-480E-A738-D7C512F9F4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9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st perf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60 exercise 8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75 exercise 10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76 exercise 11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pplications Program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pplication Service Provi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Perf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990720"/>
            <a:ext cx="8382240" cy="58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express an action which took place before another action in the past provided the former is mentioned after the latt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installed the program I had bought from Microsof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rought me the scanner he had disconnected from his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ompiler reported an error because he had not declared one of the varia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got fed up with the system since I had been configuring it for a wee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 the time he moved in there, I had been living there for five yea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Perf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371600"/>
            <a:ext cx="8382240" cy="39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form tense shift (souslednost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časová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 he had never used hashes in his progra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told us the experiment had never been conducted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replied they had been working on the solution to the security hole problem for the last fourteen day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oss told me I had seriously violated the company’s ru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Perf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1835280"/>
            <a:ext cx="83822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form the 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ditional (ner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álná podmínka v minulost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I had known it, I would not have come he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he had not declared the variable, the compiler would have reported the err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d she realized how serious the problem was, she would not have dared solve it by hersel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she had found out how much he snores, she would never have married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175248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nse shift is used to convert direct speech into reported speech provided the main clause contains past tense (the main clause introducing something that was said in the past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ense chang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 simpl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 continuou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contin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t simpl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perfect 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t continuou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perfect contin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 perfect simpl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perfect 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 perfect continuou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perfect contin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t perfect (simple, continuous) rema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tur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“would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143000"/>
            <a:ext cx="8381880" cy="53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Verbs introducing tense shift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ay, tell, ask, answer, reply, announce, report, want to know, know, learn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dovědět 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feel, think, add, admit, agree, claim, confirm, deny, doubt, find, hope, mention, promise, propose, remark, repeat, state, suppose, swear (swore, sworn), threaten, underst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  he knew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told me he was giving a lecture at that mo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wore he had never used the disket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added they had been debugging the source code for three day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claimed she had never worked with hash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bears found out someone had been sleeping in their be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nted to know how she would handle the probl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127332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tences that are not subject to tense shif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those which specify the exact time an action happened a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told us he lived there in 198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those that express, or are considered to be, general trut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 the Czech Republic has about ten million citize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told us the square root of 4 is 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those that contain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u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 or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ustn’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 expressing permanent necessity or ba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doctor told me I mustn’t smo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said the processor must be cooled because otherwise it overhea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1273320"/>
            <a:ext cx="8381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tences that are not subject to tense shif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those containing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,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ou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,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ou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 said: “You should not execute the file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 said I should not execute the fi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oss told me: You should not get off with that woman. She is a vam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oss told me I should not (not to) get off with that woman because she was (is) a vam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226044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85800" y="1371600"/>
            <a:ext cx="78487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onversion of direct speech into indirect involves the following adverbial chang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w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esterda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day bef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st yea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year bef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morrow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day after, the following 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xt week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week after, the following w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: “I will replace this cable here with a new one tomorr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 he would replace that cable there the following 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2-01T13:50:21Z</dcterms:modified>
  <cp:revision>103</cp:revision>
  <dc:subject/>
  <dc:title>Lecture 1:</dc:title>
</cp:coreProperties>
</file>