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4852-22FA-462A-9578-074C4B2D2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76C2-FF07-478F-90DE-1EB0061F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5EC4-2570-4D0D-9B11-3FDA95180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92F2-C944-43F7-BA26-261C2B2A8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ADFE-420C-4169-AF42-3E7AE370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C433-BBCB-479B-8CA3-42AB5E95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AF9B-85D8-4DCA-A13F-0EFE44D2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B97C-7904-4505-B130-EBED22C1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17FF-F629-4036-A7B0-3AF8EE36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B4D5-7D74-4DCA-A8E3-9C230C1E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59B1-C513-4F8A-A328-831741A8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0794-7F7B-4BA8-AE94-795A7BC1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0121-E1FB-4BD9-A8FF-6A4CBE258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runk" descr=""/>
          <p:cNvPicPr/>
          <p:nvPr/>
        </p:nvPicPr>
        <p:blipFill>
          <a:blip r:embed="rId2"/>
          <a:stretch/>
        </p:blipFill>
        <p:spPr>
          <a:xfrm>
            <a:off x="2062080" y="1795320"/>
            <a:ext cx="4948200" cy="3310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00200" y="5715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Mormon girl: “As drunk as a lord! This can hardly be my boyfrien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20:18Z</dcterms:modified>
  <cp:revision>52</cp:revision>
  <dc:subject/>
  <dc:title>Lecture 1:</dc:title>
</cp:coreProperties>
</file>