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9367-3BB2-4A80-A278-798C7979C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8DA7-836E-4D57-A8C9-A3BD5DDE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165B-B5DE-455B-83CC-492B8DC0C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8A90-89F9-4699-94FE-E0CD8E8F8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99CC-A8E5-42B6-91F4-76B1C4D0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BCB9-2902-4350-A99B-E35B710E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8973-CF6A-4422-AA19-6DA49487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C87F-0572-471B-8D25-F33EDE1A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1D2C-FD06-42E2-8F39-89C915AD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9246-2FBF-4DCB-9383-B55DA949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4C29-21AE-48FC-8ED9-C18D372A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B5AB-8BFB-479D-B7B6-1C7D5EE0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DA28-DDC0-43AD-AF95-77D6E6FA4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1-04T13:54:20Z</dcterms:modified>
  <cp:revision>59</cp:revision>
  <dc:subject/>
  <dc:title>Lecture 1:</dc:title>
</cp:coreProperties>
</file>