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648C6-DFBD-4A3F-B1E9-25D405567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AFABB-9EE6-4FE2-BD30-7269C8CE0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78D04-02A2-4D7C-85F1-1D84CC4AA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2098C-D412-48CB-9BB6-073285AED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DFA9A-7F8B-44C0-A92D-56E78FE13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B8199-E313-429D-8D84-CFC7E8401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870F4-7C8C-4B06-8F5A-6156568AD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3DFBA-8DC3-4D01-B62F-1AB0EF463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FA316-C62F-441D-B140-2B2307EF7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23E22-FC18-4303-828E-E9D99E51B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63FCF-DF1E-46E5-AC80-225ED032E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E41B5-F9E2-4B15-AE31-8C0EA529C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40B0C-4EB6-4DB7-86C0-37B65EE76B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6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o be going 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o, whom, whose, which, th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hrasal verbs - g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est-related in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o, Whom, Whose, Which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2443320"/>
            <a:ext cx="822960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ch, wh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defining and non-defining relative claus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roth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 (that) is 10 play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omputer games by day and nig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sential, defining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rother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 is 10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plays computer games by day and nig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, non-defining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o, Whom, Whose, Which, Th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33520" y="1523880"/>
            <a:ext cx="8076960" cy="52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assignment statement which (that) is at the beginning of the source code is wro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sential, defining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assignment statement, which is at the beginning of the source code, is wro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, non-defining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lost the CD (which, that) I had lent him, which got me down. 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sential (Czech “kter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é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) and additional information (Czech “co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hrasal Verbs -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G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33520" y="990720"/>
            <a:ext cx="8076960" cy="575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nev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along wit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. I will nev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on wit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. (see eye to eye with h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canno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along withou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CD writer. (do withou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nev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o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tragedy of my Marry contracting the vir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usuall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up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t 5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at are 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ting a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ot on/off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b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e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/out of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car! I’m leav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nted to marry her, but 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ot out of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. (backed out of 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onder how I ca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b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the money I mak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et’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is lectu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(and done with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09480" y="2133720"/>
            <a:ext cx="792504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61 exercise 53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71 exercis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reading assigned this w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Going 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758960"/>
            <a:ext cx="8382240" cy="41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hrase 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ar future” - Czech has its equivalent in “hodlat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ěco uděla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 or “chystat se něco udělat”; used when something is planned before being defin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going to assign this value to the scalar vari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is not going to have her license renewed unless they tell her to do s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re you going to change the IRQ of the modem to reconcile it with your sound car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Going 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1752480"/>
            <a:ext cx="83818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phrase 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action that is likely to happen (taking into account the conditions we are witnessing and that normally lead to the ac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ky has got overcast. It is going to r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’s turned red. He is going to 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is tampering with the computer. It is going to freez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icrosoft have raised prices. Linux is going to be praised for being free ag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Going 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1461960"/>
            <a:ext cx="8381880" cy="52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 the differe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going to fix the computer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fix the compu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eci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going to divorce him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divorce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decision, fact (high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probabilit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not going to do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 don’t plan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not do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ision, fa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Going 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1752480"/>
            <a:ext cx="8381880" cy="39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 the differe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re you going to do it?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ll you do it?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ll you be doing 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s your programmer going to use this GUI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ll your programmer use this GUI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ll your programmer be using this GUI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Going 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2260440"/>
            <a:ext cx="8382240" cy="395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rrect: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thin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 will not succeed in getting the OS to ru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suppo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modem will not work with this initializa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str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reck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 will never get round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rong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think he is not going to succeed in getting the OS ru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suppose the modem is not going to work with thi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itialization str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reckon he is never going to get round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Going 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2260440"/>
            <a:ext cx="8382240" cy="39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raction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onna + infinitive 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ly informal sty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gonna grass on yo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’s not gonna discuss that with yo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ways of expressing inten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as about to say it, but you beat me to th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girlfriend was on the point of starting the virus-infected program when I entered the roo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o, Whom, Whose, Which, Th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0880" y="1905120"/>
            <a:ext cx="8382240" cy="45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o, whom, who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used in connection with people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o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lso allows other uses; h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ho, him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hom, hi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ho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is the kind of perso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ll never learn programm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not going to tell 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gave me the inform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id you give it to?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id you give it t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on’t know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 was done by. I don’t know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 was done by. I don’t know b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 was d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iskette is th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on’t know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iskette it 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o, Whom, Whose, Which, Th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1905120"/>
            <a:ext cx="8382240" cy="32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uses of “whose”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is the computer whose hard disk is faulty. This is the computer the hard disk of which is faul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not going to buy a disk whose size is lower than 10 GB. I am not going to buy a disk the size of which is lower than 10 G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brought me a keyboard whose cable was frayed. He brought me a keyboard the cable of which was fray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1-03T13:55:32Z</dcterms:modified>
  <cp:revision>69</cp:revision>
  <dc:subject/>
  <dc:title>Lecture 1:</dc:title>
</cp:coreProperties>
</file>