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7A2E-CF4D-4DCD-A633-9D912B6B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7DFB-70FE-475D-9146-BE0EE834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E563-8E5B-471A-96BD-A25AB9B8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CA70-AE57-4FE6-87E3-32BB8890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3F26-73EF-4D0A-88D3-8BFF7E28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8AE6-B89F-4088-B2BE-3F601D60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B763-A432-4A7E-9C27-BD5DD439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70D0-FB72-4AD3-8646-E70FE95A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37FD-C12D-4C93-9188-51C7E9C0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2780-3592-44E1-926A-A49ABECF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3D72-954E-47D6-BF46-D6F2EC4B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D225-180D-46C8-8F7F-D1247231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6FB8-B9E7-475A-BBAA-FF0F00F42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24T13:47:53Z</dcterms:modified>
  <cp:revision>92</cp:revision>
  <dc:subject/>
  <dc:title>Lecture 1:</dc:title>
</cp:coreProperties>
</file>