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0ABB-0476-4CEA-86B2-0CBD1197A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89F0-2E96-46FC-8A87-0963755C8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861B-A4C1-4D45-8294-C9DE3B3A1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F2E5-674E-4C7B-9496-B06F8C7BC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F1B8-FCEB-4942-809C-63BF9EC72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2DCE-7286-482F-8611-ACB3C7764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87C4-13CC-4D8F-879A-7B7FD818C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C8BD-4116-42F4-935B-D61A09E1E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1293-BEDB-44AE-AA63-24440E50E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E69E-052B-4DF2-9BF2-8D7692ED3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1AED-27AA-4F94-B788-EFAE635EB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154B-D1A3-416B-B6DB-47F40E024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37234-E0DD-402A-A462-65F8EB4348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2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294920"/>
            <a:ext cx="6400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nunciation – phonetic transcrip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uture t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other, the other, other, others, the ot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rdin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re is … There are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other, the oth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other ... (”ostat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í ..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n plural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n druhý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 in singular), the others (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statní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prefer the other programming langu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other processor is much fas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ohn and the other students always leave the keyboards greas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omputer I named Marry never freezes, unlike the oth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rdin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st, 2nd, 3rd 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irst, second, thir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th, 5th, 6th … 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urth, fifth, sixth ..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ne 25, 20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re is … There are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express something is in a certain pl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express something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xis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existential us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is a card in the slo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re there any jumpers on the bo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are lots of stupid people in the worl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are sites I always love returning 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” + plural in declarative sentence =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ějak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was moving some jumpers around the bo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brought us some WR C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” + singular (uncountable) in declarative sentence = nějak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ý, -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is some information about it in the boo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on’t bring me just some diskettes! Bring me the Verbatime on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” in question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olite offer expecting “ye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ould you like some te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ow about some cooki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ould you like some further information about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” in positive declarative sentence = j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ýkoliv, jakákoliv, jakékol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Could you bring me any CD you can lay your hands 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ny mistake she makes is seriou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” in questions = nějak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ý, nějaká, nějak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ave you received any information from hi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ave you got any questions concerning this phenomen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ny computer at home? (colloqui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” in negative declarative sentences meaning “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žádný“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isn’t any free space on my hard dri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haven’t given me any project to work 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don’t have any spare mod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čtina pro jazykové školy 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. 94 exercise 18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. 118 exercise 21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pecialist Read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puter Architecture - 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ache Memory - How a Disk Cache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nunciation – phonetic symb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bat, hat, fat, mat, bad, hag, f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ostman, confirm, modem, bird, proliferate,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 three, thick, thin, thumb, thistle, throug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, these, those, fathom, sunba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ng, ring, bring, string, du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,t – aspiration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ree, take, true, during, dou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re is basically no Czech phone (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hláska)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at has its absolute counterpart (pro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tějšek)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in  English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schwa" descr=""/>
          <p:cNvPicPr/>
          <p:nvPr/>
        </p:nvPicPr>
        <p:blipFill>
          <a:blip r:embed="rId2"/>
          <a:stretch/>
        </p:blipFill>
        <p:spPr>
          <a:xfrm>
            <a:off x="942840" y="2590920"/>
            <a:ext cx="200160" cy="228600"/>
          </a:xfrm>
          <a:prstGeom prst="rect">
            <a:avLst/>
          </a:prstGeom>
          <a:ln w="0">
            <a:noFill/>
          </a:ln>
        </p:spPr>
      </p:pic>
      <p:pic>
        <p:nvPicPr>
          <p:cNvPr id="46" name="pth" descr=""/>
          <p:cNvPicPr/>
          <p:nvPr/>
        </p:nvPicPr>
        <p:blipFill>
          <a:blip r:embed="rId3"/>
          <a:stretch/>
        </p:blipFill>
        <p:spPr>
          <a:xfrm>
            <a:off x="958680" y="3429000"/>
            <a:ext cx="184320" cy="276120"/>
          </a:xfrm>
          <a:prstGeom prst="rect">
            <a:avLst/>
          </a:prstGeom>
          <a:ln w="0">
            <a:noFill/>
          </a:ln>
        </p:spPr>
      </p:pic>
      <p:pic>
        <p:nvPicPr>
          <p:cNvPr id="47" name="pthe" descr=""/>
          <p:cNvPicPr/>
          <p:nvPr/>
        </p:nvPicPr>
        <p:blipFill>
          <a:blip r:embed="rId4"/>
          <a:stretch/>
        </p:blipFill>
        <p:spPr>
          <a:xfrm>
            <a:off x="990720" y="3886200"/>
            <a:ext cx="183960" cy="276120"/>
          </a:xfrm>
          <a:prstGeom prst="rect">
            <a:avLst/>
          </a:prstGeom>
          <a:ln w="0">
            <a:noFill/>
          </a:ln>
        </p:spPr>
      </p:pic>
      <p:pic>
        <p:nvPicPr>
          <p:cNvPr id="48" name="ng" descr=""/>
          <p:cNvPicPr/>
          <p:nvPr/>
        </p:nvPicPr>
        <p:blipFill>
          <a:blip r:embed="rId5"/>
          <a:stretch/>
        </p:blipFill>
        <p:spPr>
          <a:xfrm>
            <a:off x="990720" y="4371840"/>
            <a:ext cx="196560" cy="276480"/>
          </a:xfrm>
          <a:prstGeom prst="rect">
            <a:avLst/>
          </a:prstGeom>
          <a:ln w="0">
            <a:noFill/>
          </a:ln>
        </p:spPr>
      </p:pic>
      <p:pic>
        <p:nvPicPr>
          <p:cNvPr id="49" name="opene" descr=""/>
          <p:cNvPicPr/>
          <p:nvPr/>
        </p:nvPicPr>
        <p:blipFill>
          <a:blip r:embed="rId6"/>
          <a:stretch/>
        </p:blipFill>
        <p:spPr>
          <a:xfrm>
            <a:off x="914400" y="2179800"/>
            <a:ext cx="228600" cy="18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and     pronunci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tongue" descr=""/>
          <p:cNvPicPr/>
          <p:nvPr/>
        </p:nvPicPr>
        <p:blipFill>
          <a:blip r:embed="rId2"/>
          <a:stretch/>
        </p:blipFill>
        <p:spPr>
          <a:xfrm>
            <a:off x="2832120" y="2692440"/>
            <a:ext cx="3263760" cy="1803240"/>
          </a:xfrm>
          <a:prstGeom prst="rect">
            <a:avLst/>
          </a:prstGeom>
          <a:ln w="0">
            <a:noFill/>
          </a:ln>
        </p:spPr>
      </p:pic>
      <p:pic>
        <p:nvPicPr>
          <p:cNvPr id="52" name="pth" descr=""/>
          <p:cNvPicPr/>
          <p:nvPr/>
        </p:nvPicPr>
        <p:blipFill>
          <a:blip r:embed="rId3"/>
          <a:stretch/>
        </p:blipFill>
        <p:spPr>
          <a:xfrm>
            <a:off x="1746360" y="1066680"/>
            <a:ext cx="234720" cy="352440"/>
          </a:xfrm>
          <a:prstGeom prst="rect">
            <a:avLst/>
          </a:prstGeom>
          <a:ln w="0">
            <a:noFill/>
          </a:ln>
        </p:spPr>
      </p:pic>
      <p:pic>
        <p:nvPicPr>
          <p:cNvPr id="53" name="pthe" descr=""/>
          <p:cNvPicPr/>
          <p:nvPr/>
        </p:nvPicPr>
        <p:blipFill>
          <a:blip r:embed="rId4"/>
          <a:stretch/>
        </p:blipFill>
        <p:spPr>
          <a:xfrm>
            <a:off x="3352680" y="1066680"/>
            <a:ext cx="235080" cy="3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Future Tense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   to express a future fact or predi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mputer will always malfun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ill be windy tomorr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to express a sudden deci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do it right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to express an offer or reque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all I install the application for yo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tell me how to work with those variab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uture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   to express an opinion about the future (following verbs such a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ink, suppose, doub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in combination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obabl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think I will have my sound card replac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suppose you will hate me after all these lectu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doubt he will ever pass the exam without studying ha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y will probably upgrade their hardw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uture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 to express strong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monitor’s flickering. Oh, that will be the c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dditional no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will = I’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will not = I won’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stions: inver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nother (je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ště jeden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, jin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ý) –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used with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singula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untable nou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ill have another cup of coffee, ple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ou had better install another application processing ima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 need another computer. This one is too slow for 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some 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ome other (n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ějaký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jin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ý)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– used with uncountable nouns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 or plural countable nouns (nějaké jiné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ould like to use some other hardwa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ow about asking some other studen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other, oth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… (ji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í …), oth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ji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í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plural us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 applications are user-friendly, other applications are n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 applications are user-friendly, others are n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would love to work with (some) other computers, not the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at is, (some) others would not be down all the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09-29T12:50:47Z</dcterms:modified>
  <cp:revision>18</cp:revision>
  <dc:subject/>
  <dc:title>Lecture 1:</dc:title>
</cp:coreProperties>
</file>