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322C-BE91-46D3-8B11-8C7C88B9B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F0F8-9882-4251-A8FB-0A00C3BF6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47BC-2A9A-4C41-B905-F16AF7142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1970-D87A-4EA4-BD30-C09BD0316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1AA3-C1E2-41BD-93D7-1AF32C8D3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DD0B-0A4F-453C-A686-24C0E155E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D926-DDE5-49F8-A84C-CFEB8E257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DEE1-16EF-4787-B0A1-FE47CD62D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C71F-FBFC-4C89-AAE2-98159680E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65C5-AFF2-4DC0-9202-0BA71A8D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E72B-B46B-460D-89C2-86891B42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E807-D6F7-4EF0-A2D9-6E964DD2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EF922-C26A-4147-B528-F8D7C71814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13372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nctions introducing tim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while, before, after, as soon as (jakmile), till, until, once (jak jednou), by the time (kdy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whenever (kdykoliv), the moment (v tu chv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li, k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ule to remember: Time clauses (introduced with one of the conjunctions above) must never conta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referring to future, they have to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ent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icture will be breaking u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 you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laying the file without the new cod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fter you pl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piece of hardware in, Windows will automatically detect it and assign the right driver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start selling the progra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til I deb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say they will check my hardware setting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ile I wa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na p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kán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be able to install that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 soon as you re-parti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receive the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time you are d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con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ever he ask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for it, I will not help him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981080"/>
            <a:ext cx="79250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 of present perfect in time clauses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as soon as, after, onc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 to describe an action which will be completed before the action in the main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get a pretty well-paid job when you have graduated from this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ce I have finished reading the manual, I will try to get it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let you go out as soon as you have done your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tudent will be admitted to a higher grade after he/she has passed all the necessary ex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06668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xon Genitive 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belonging to a person or, sometimes, anim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my father’s mod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one is allowed to touch my children’s to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achers often underestimate their students’ learning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o express place, distance, periods of time, measure, valu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et out for an hour’s walk. (a one-hour w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ought a sixteen inches’ monitor. (a sixteen-inch moni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wenty kilometers’ trip will never end. (twenty-kilometer tr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what I told you at the last week’s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pe they don’t thwart the tomorrow’s plan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only brought me a fifty centimeters’ cable. (a fifty-centimeter 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nday’s newspapers (this Sunday’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unday papers (Sunday edition - gener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hirty Year’s War (the name of the wa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thirty-year war (the one lasting thirty ye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12400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á také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o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ither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 také 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either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s the FLASH technology. So does s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an’t work with that program. Neither can my 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overslept today. So has my br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bandwidth does not enable us to transfer a large volume of data. Neither does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as thick as two short planks. So is his si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2604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got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mustn’t increment that value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th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needn’t have used fractions in the equation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ed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mustn’t speak during the lessons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s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duce bug-free software. Neither do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5 exercise 1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6 exercise 1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8 exercise 1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3:27Z</dcterms:modified>
  <cp:revision>144</cp:revision>
  <dc:subject/>
  <dc:title>Lecture 1:</dc:title>
</cp:coreProperties>
</file>