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8EE9-7607-4003-8B56-46D43E417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02E9-BCDE-415B-BFB7-19256D653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987A-9029-4D40-ADD5-A12C22C93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BC51-BC97-4E55-9FC2-FF7EFB0BA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39AB-E280-492C-A770-82E8FA7C8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BB49-EBA4-4036-AEB6-BFB7CA71E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80BE-7D9F-41D4-9794-694452741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263A-1C91-4B96-A943-D7B43C36D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7D5B-0BFE-412B-8E89-E4494C0B0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803C-2F89-40E5-B4C2-D034D601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257C-5DAB-4183-92D4-16B33B24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7A8E-4362-4D82-94AF-E59D1E02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4C487-1444-423D-B0F6-A477EFADD3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the combination of unreal conditions in the past and unreal present or futur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uter had not ca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disk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mpty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be able to sh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data with the others now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mputer to the network and configured it right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not 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a while ago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 frustrated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0574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se shift in conditio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w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ake an umbrella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pli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 not p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+ would (expressing politene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ould let me use your CD writer, I would really appreci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ould really be helpful if you would rent some disk space for us with an A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9051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if, as though, like (informa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oe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 chalk from che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keybo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ok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a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o go into piece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nse shi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talk to him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old ma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cond conditional - he is not 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keyboard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brother had play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y brother did not play with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5 exercise 1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9 exercise 1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media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y MP3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ricks to MPEG’s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ditional Conjuc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78740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jestl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e, kdyby (depending on the type of conditional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jestliže n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ovided/providing (that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za předpoklad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ppose/supposing (tha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za předpokladu, předpokládejm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ku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 condition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d podmínko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ro případ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838080"/>
            <a:ext cx="838224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always tru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resent tense,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sent tense + conditional conju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overcloc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cesso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produ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heat than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do not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antivirus software, 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me antivirus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p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lt on ic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mel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not prep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ta righ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boi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for more than 12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371600"/>
            <a:ext cx="838224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usually probable and related to the futur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resent tense, future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ture tense + conditional conjun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c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 lesson without your home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consider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50192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high bandwidth connection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abl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wnload large amounts of data without 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ant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nect to the Internet via the mode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hav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dify its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ill ta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umbrella with me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t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perform the query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man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onnect to the net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filled 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debugged the progra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s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383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improbable (or impossible) in the present or future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ast tense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ction + pas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different refresh rat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s monitor w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e flick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underst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word he says 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sp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ittle more slow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866960"/>
            <a:ext cx="838188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ll version of the progra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 all its fe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rd item of the array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tring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ossible to assign it to this type of variab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knew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how to use logical operators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he mak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such a mista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o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 million. What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 yo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chec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the syntax of that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70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unreal condition in the past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+ past infinitive (without to)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+ past infinitive (without to) ...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 enough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pa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n’t have bur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or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tur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ff before plugging in the pr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1366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st nigh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iler wouldn’t have repor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yntax erro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ogrammer had termina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line with a semicol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ls -l command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know the contents of the directory with all file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had kn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 punishment you would ge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have owned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d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8T15:03:15Z</dcterms:modified>
  <cp:revision>124</cp:revision>
  <dc:subject/>
  <dc:title>Lecture 1:</dc:title>
</cp:coreProperties>
</file>