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4698-4ACC-4CDE-9001-BE7B48691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31EA-EA5D-4AB5-B214-A96D7F81B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5594-734B-4A39-A6F1-ACACC6F7E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61CA-2F86-4AAF-9627-A15B76110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5A54-73E9-4FE2-A080-9F455DAF3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5DB8-38CB-46A1-811E-6B12999DB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DB9A-4275-4B4F-A155-47999D4E0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1CEE-39D2-4E23-AD21-772C64978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F7D0-03D2-4DD2-A15E-7B751412C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2C4C-C973-47CF-A946-6DF497A3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7586-9F62-4C77-A541-80904FCF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FC3D-1CDA-47C6-A05F-F3D38DF7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62392-FC6B-4BBB-AC91-D3F0F1EA66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itional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67 exercise 2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0 exercise 2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2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Internet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TCP/IP Links Dissimilar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und is also used after the prepositio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,after, before, instead of, besides, without, despite, in spit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rund after these prepositions c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used provided the subject of the Czech subordinate clause (ved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ší věta) is the same as the subject of the main clause (hlavní vět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yping a wrong password, he could not log in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ím, že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installing cables in every office, they mounted sockets on the walls. (po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é, c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consult the documentation before changing its default settings. (před tím, než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tead of trying to fix the computer by yourself, you should call in a programmer. (místo toho, a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9528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 pushing the variable into the array, she also changed its value. (kromě toho, že …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you think you could write the source code without using any ‘while’ loops? (aniž bys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pite having terminated the chain, he could not get the SCSI hardware to operate. (přesto, že …)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terminated the ch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could not get the hardware to op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lleague could not hear any sound  in spite of turning his speakers up as much as he c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sound could be he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spite of the fa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lleague turned the speakers up. (different subject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spite of the fact, despite the f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nt out despite the fact it was raining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We went out despite the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decided to tell him in spite of the fact he was angry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They decided to tell him in spite of his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P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řípustkové vě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ssions are usually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spite of, despite, although (though), even if, even though, no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though he updated his virus definitions, his anti-virus program could not detect the worm. (ačkol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ayed at home though he did not want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you searched the Internet for it, you would not find it. (i kdy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he searches the Internet for it, he will not find it. (i když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same rules like those governing condit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o = whoever = kd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at = whatever = c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= whichever = který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n = whenever = kdy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re = wherever = kde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+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verb or adjectiv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!!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= however + adverb = jak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ever (no matter who) told you to uninstall the driver, he/she (they) was (were)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ever (no matter which) man she marries, one day he will turn into a fat friend any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(whichever) of them says so, don’t believ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ever (no matter when) he hooks up the computers tomorrow, we will not be able to us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ll him to drop me a line wherever (no matter where) he is. (n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ever (no matter how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malfunctions, I don’t want to throw her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(however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ll-writt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cript is, it always takes some time to exec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ecided to marry her how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rib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lip fissure loo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part of the sentence containing “no matter” or (-ever) does not contain future tense even if it refers to the future. The future tense is put into the other part (main clau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ever happens, I will always stand by your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echat si 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sure you always keep the items making up the phrase in the same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have the system configured by a specia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having the software delivered or do you plan to pick it up on your ow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ever had your hard drive repartitio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must have got the homework done by someone. It does not have a single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uld you have had a live wire insulated by him. Look at his fingers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d her purse stolen. - Ukradli j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 peněžen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juction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f, whe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- additional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04804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ses in whi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ollowed by a future tense since they do not function as time conj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 not know if he will use the disk. Its capacity is too low for him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when he will drop by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like to know when we will start using the device in the full-duplex mode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’t really tell you now if I will let her know about it. It depends on the circumstances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5:06Z</dcterms:modified>
  <cp:revision>175</cp:revision>
  <dc:subject/>
  <dc:title>Lecture 1:</dc:title>
</cp:coreProperties>
</file>