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16A7-E94F-408B-BA6A-5DD2E8052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B681-1661-409E-B89C-5917D17F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E7B0-35A8-484D-8A20-44FDCAEB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0133-DFB0-4874-AFC2-4C244DE4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C542-79F2-487A-836F-40FAEB04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ED1F-34E4-467E-A42F-933D8209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CBCD-E127-4BB8-977F-53A48596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14D4-ACA5-49FF-81DE-497CEF78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754F-648F-4F29-9D1A-45C0BB69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1636-19F2-4950-826C-92F1D6CB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C9DA-6B02-42B6-B7E2-F555EE81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0BF1-0D77-4D71-9B10-8126D8D4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D44F-1320-42AD-A8A9-3F1AA4F5E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20T10:55:42Z</dcterms:modified>
  <cp:revision>198</cp:revision>
  <dc:subject/>
  <dc:title>Lecture 1:</dc:title>
</cp:coreProperties>
</file>