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517DB-4707-42B9-8E95-0718149F8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1D17E-F931-4EF3-8FC9-A03348217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5EE26-92C8-4927-A2B1-AA8D09ECD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7184E-C4A0-40EA-9DE4-944A35262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10F80-4B9F-4092-BEA3-D302B85DF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65220-3CB0-43D5-B77E-CF2147CDD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5BA8F-9E8C-4CE4-80C6-DBFB5816F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FE65B-940E-40DD-8D3F-DAF9E979E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7C81F-F1F0-4010-BFA6-C61EF73B8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D9488-DD17-4D82-A035-5DDE891E7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9DC09-7782-4C20-A1F0-23093D10E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083AA-B3A8-4F68-8807-5082A74615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A55F-F149-4563-ABC4-BA93108731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8"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2:44Z</dcterms:modified>
  <cp:revision>131</cp:revision>
  <dc:subject/>
  <dc:title>Lecture 1:</dc:title>
</cp:coreProperties>
</file>