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0D09-FE20-4BD6-A0E5-01E273846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C974-9B91-4DC4-AD7E-A26A71331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79A9-2673-4DC4-BD6B-8760B69DE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6CA3-85DC-42A5-89AC-0C2496147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7FB7-1233-4214-98C0-37F56778A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0039-290D-4B4B-AEB2-B5E5136FA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8FB0-1A87-458C-8BE9-0C6C9299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4F9F-DD14-44B5-B83F-61EFCD43A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14CA-0BC7-4747-BA7C-5C993060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E0D1-993B-4B4A-9D12-BE592CAF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2C45-5C29-48CF-8022-2DA803E0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F7C3-3CCE-43D0-A38E-E2EBEDC7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9CC75-08ED-4FC1-AF40-86C4B24A7C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of a correctly composed messag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ar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r. Dvořá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 you th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you could check m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swer shee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nd possibly award 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e more point for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question you mentioned at 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’s lecture? I am writing this e-mail since I am not completely sure of what alternatives I have selected for the qu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nk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s sincerely (Best regards, Kind regards, Regards, All the best, Best wishe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ra Polofor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l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676520"/>
            <a:ext cx="792504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incipal rules to 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 reply to any e-mail you receive letting the sender know you have received it and you have not ignored its contents. You should do so even if it were in the form of a simple ‘Allright’ no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ware of the person who does not reply to your e-mail despite receiving it since there is always a problem to surface in the future!! That is, such a person is likely to turn out slapdash, boorish, conceited, complacent, or having any other negative trait that might eventually get you in trouble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6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pu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ing Hard D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nd of Lecture Se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0666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an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unction of the variabl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at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tiv] – deriva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expression representing the rate of change of a function with respect to an independent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f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the partial [‘pa: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l] derivative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(x,y)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4792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aiv] – odvodit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btain a function or equation from another by a sequence of logical steps (e.g. by different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gra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grəl] – int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grál </a:t>
            </a:r>
            <a:r>
              <a:rPr b="0" i="1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nction of which a given function is a derivative (which may express the area under the curve of a graph of th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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(x)d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-- the indefinite integral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garith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lo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riδəm] – logarit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common logarithm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logarithm (base a)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’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– calculated as a ratio of the side opposite a given angle to the hypoten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sine x, cosine x, tangent x, cotangen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44792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x, cos x, tg x, cot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a| -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solute valu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maind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ri’me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zby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kwontiti] – ve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x], pl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si:z] – mati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rectangular array of quantities or expressions in rows and columns that is treated as a single entity and manipulated according to particular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 sum [sam]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6920" y="4005360"/>
            <a:ext cx="7632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inomial [bai’nə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m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əl] coefficient [kəui’f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ənt] of the natural number n and the integer k is the number of combinations that ex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e binomial coefficient of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is often read as "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choose 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>
            <a:lum contrast="76000"/>
          </a:blip>
          <a:stretch/>
        </p:blipFill>
        <p:spPr>
          <a:xfrm>
            <a:off x="3995640" y="2205000"/>
            <a:ext cx="804960" cy="1368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71640" y="148428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binatoric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[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bi: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’to:riks]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328464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where n is the number of objects from which you can choose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is the number to be chosen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>
            <a:lum contrast="36000"/>
          </a:blip>
          <a:srcRect l="0" t="0" r="10290" b="-2151"/>
          <a:stretch/>
        </p:blipFill>
        <p:spPr>
          <a:xfrm>
            <a:off x="611280" y="1844640"/>
            <a:ext cx="78483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676520"/>
            <a:ext cx="79250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of a poorly composed messa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 teach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nt the point for the question I wrote correct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r Bal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k Balíkovi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676520"/>
            <a:ext cx="792504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of a correctly composed messag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ar Sir/Madam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sending this message with regard to your e-mail of April 2, 2007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ere you say I might be awarded one more point for a question in my t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 h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swered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orrect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I wonder if you would be so kind as to check the test and make sure the question has been evaluated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nk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s faithfu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niel Kultivova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rak</cp:lastModifiedBy>
  <dcterms:modified xsi:type="dcterms:W3CDTF">2007-05-03T10:57:33Z</dcterms:modified>
  <cp:revision>221</cp:revision>
  <dc:subject/>
  <dc:title>Lecture 1:</dc:title>
</cp:coreProperties>
</file>