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8821-BE34-4C56-A96D-F2A334F7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A622-7E39-4128-9912-355934E4F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D316-779F-4B90-AE02-32C11966E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B63-2852-4D87-9D35-657DF6865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4C6-DDC3-4F9E-82A3-0621F1DC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4466-F0DD-41AB-8F84-857C8568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AFE-877F-497F-BDE1-E6590576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0EB1-2102-4F7C-AD94-B85286E6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4B4-78BB-44C3-8B22-B638FD58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11CB-F203-4E0C-8C78-3164C84D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F75-1BCB-45DE-98E6-8E4C1DE1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AC4D-2E8E-4870-8759-8633E636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D7965-42B0-4CC5-80E9-4FA597056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600200"/>
            <a:ext cx="815328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eripherals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Ready for the Bazillion-Byte D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6:32Z</dcterms:modified>
  <cp:revision>54</cp:revision>
  <dc:subject/>
  <dc:title>Lecture 1:</dc:title>
</cp:coreProperties>
</file>