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3864-82E0-419A-A106-37D8185BE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B4A9-C333-4378-879B-2C1EE039C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627A-5C5A-46A4-930A-4E81BDCE4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6B19-A017-4C45-AA00-311D493C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940E-A72B-4B86-B181-3B631509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0B5-BDAE-4F65-86FD-6FAB0A13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0EBC-4A00-4284-839E-EBD15114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E152-B241-49A1-815A-BA61A031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B931-1B9C-44A5-9939-91E9DA54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5B13-7958-4E8B-9D1E-7BA1BBAB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69D3-77BB-4507-8426-CD59D0E5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1FC-3477-4A47-9045-3708DC51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AF53-1B8F-448D-A64C-765F5B4C81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i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03:36Z</dcterms:modified>
  <cp:revision>34</cp:revision>
  <dc:subject/>
  <dc:title>Lecture 1:</dc:title>
</cp:coreProperties>
</file>