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328-730F-4B05-9E84-507A527E6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37C0-5669-47EF-AF1B-771D8084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0BE4-8EBC-468E-9D24-C169026DB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308-2A5F-4FA1-9091-B195D544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231F-53D6-4A17-8DB6-3715EAD7E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4700-F5D8-4FF5-9624-5EE6C4CBA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518-6961-4BEF-9882-F73D006C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8255-76D3-4AB1-AD80-8F611879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8A6A-8DEF-4413-A662-DF3E085ED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78FB-6660-4D04-8960-16698DA4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FDA2-E73F-42B6-BEEE-A421D1BA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4C0-7E1F-4FFB-AFD7-CEC062FA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F485C-CC57-4E6A-A817-64398BF58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00800" y="3581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goldilocks" descr=""/>
          <p:cNvPicPr/>
          <p:nvPr/>
        </p:nvPicPr>
        <p:blipFill>
          <a:blip r:embed="rId3"/>
          <a:stretch/>
        </p:blipFill>
        <p:spPr>
          <a:xfrm>
            <a:off x="1600200" y="1905120"/>
            <a:ext cx="4876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23T13:48:35Z</dcterms:modified>
  <cp:revision>84</cp:revision>
  <dc:subject/>
  <dc:title>Lecture 1:</dc:title>
</cp:coreProperties>
</file>