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36DD-1806-45BE-9A3F-10E8CCDDF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783-4D2E-4C1D-BF2F-98D71EA3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8F92-189E-4EBB-A28B-8C5DA6284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F567-BD0A-4C3B-9D22-74A7F2FA2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A67A-8528-4934-BFF3-6AE2FBA2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F3E5-934E-4090-A572-6244E640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2181-3585-4923-B715-8E6A78287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EA8C-AA53-4CBD-A6D5-99756DC82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64F-CBD3-4635-B15F-695DCFD9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856E-B961-4D0D-AE27-2449D81B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A8C7-AEDF-4C80-962B-FA6E3E8A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51E8-E190-4D78-B892-CDA40A50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CFB28-4D1B-4933-A6A0-4258174A7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so as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so as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so as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11-01T17:34:23Z</dcterms:modified>
  <cp:revision>60</cp:revision>
  <dc:subject/>
  <dc:title>Lecture 1:</dc:title>
</cp:coreProperties>
</file>