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3218-EA0A-4695-968B-098D6B044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02ED-B3A6-4B9B-8134-AD1A3BDF4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1707-D358-4AA1-BDD6-2069ECDA4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89F0-1322-4805-843D-E35C6E99F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B6FE-BEF4-470C-8BEC-450153DC8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2394-0E96-4E01-BFFF-7AFBDCFB6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6030-17A6-466B-9483-58CCF3C31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9DF6-CDD5-4191-A1D9-A6C82B06C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F911-8CC3-44AD-99D6-26434411D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1885-AE81-4551-BEB4-4B8CA761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C61B-A15D-469A-BF95-73871B26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5B2A-1F98-4931-8529-34E0AC42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25AF1-919E-461A-A1C8-2C23F9D208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s / were, h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aratives, superlatives (adjectives + adverb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 … as …, so …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95280"/>
            <a:ext cx="8229600" cy="54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processo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st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girl’s legs a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iri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 my compute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powerful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, he envies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my comput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r more amusing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y girlfriend because it nev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lks bac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I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uch more usefu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t has ever been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ong !!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gave me a bigger sum of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perl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905120"/>
            <a:ext cx="822960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st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easiest w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going about it is by upgrading you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the girl with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smoot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egs I have ever m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modem established the connection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bsolutely the hig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ossible transfer 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h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st fascinat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 and Superlatives – additional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comparative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solutely, entirely, completely, utterly, downright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lative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úplně ne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ules concerning comparatives and superlative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rt adver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same as those of long adjectives (e.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nicely, most precise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ng adverb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in) a more beautiful way, (in) the most wonderful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rregular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od – better – the b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d – worse – the wo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s … as 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; so … a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boyfriend’s on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efficien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er friend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processor is twic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fas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hundred times as good at English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m (he i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gebra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 nearly as enjoyable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bi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operating system is no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 powerful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 thought it to 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 … as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only used in negative sentence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d 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indirect questions is the same as in declarative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o is the producer of the USB controller? He wants to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o the producer of the USB controller 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re did the virus come from? I don’t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re the virus came fro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 time is it? He asked m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the time w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’s he doing now? I don’t have a clue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he is doing no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62120" y="53352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1600200"/>
            <a:ext cx="79246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31 exercise 2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44 exercise 2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7 exercise 28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0 exercise 3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ized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 Applications Introduction, 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, she, i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x wasn’t, were x were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hard disk drive needed replacing because it was faul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pplications we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th download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we found them use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t was you that called me last night, wasn’t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as able to install the application without his ass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program able to communicate with all the hardware flawless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were allowed to enter the building without their ID c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udents were allowed to jumper the p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had an SCSI card, but I never succeeded in getting it to r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y computer did not have enough memory resources to run smooth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ever had any operating system that was bug-fr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s type of modem can no longer be h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students had to make a website to pass the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administrator had to chang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cess right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f the file to prevent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isus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id not have to have his licence renewed. (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 renew a licen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d all the employees hav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bmi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i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V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? (curriculum vita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990720"/>
            <a:ext cx="777240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o refer to completed actions or events which took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a particular time or over a period of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bought my first computer when I was seventeen and then I worked with it every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n did you last use this word process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configur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e system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to refer to repeated actions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played tennis on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gular bas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ve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s did not use any WIFI when I attended colle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447920"/>
            <a:ext cx="815328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hen two actions happen one after another (the sequence of the actions in the sentence corresponds to the real one – typical of storytelling, etc.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, logged in and started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gging i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tarting th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 and found ou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my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leaving the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coming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nding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inserted the diskette into the drive and formatted it becau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y anti-virus software had detected a virus on i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tecting a vi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serting the diskett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ormatting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dem was initialized before it dialed the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formatting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as not completed du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rfa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m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 the computer still being repa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D is still being bur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CD burnt yester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03:36Z</dcterms:modified>
  <cp:revision>34</cp:revision>
  <dc:subject/>
  <dc:title>Lecture 1:</dc:title>
</cp:coreProperties>
</file>