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14342-AD20-4EC5-8091-7F2DE5343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30DDA-918D-467F-903B-FE4E6C3DB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AF8E7-C4A0-4F0E-884E-ECF894E1B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4C445-7D69-4EA6-B31C-1D58A1D50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D7542-FD06-47BB-8783-C5AE2AA70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B65CD-65D7-4D6A-8021-B751C679F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E5778-42E2-4B84-98EB-F5D26F4F5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EDE03-FDB9-4BA3-BE29-E92CD7E1E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C610B-4D42-486A-93F4-B3167A19A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B4261-DAF1-490A-802F-02F4F1F8A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E3503-85C0-4D23-9FE1-F8F31456D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917CE-517B-4819-A2B1-8F5E82900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D2323-29D3-406A-9B30-04C3BF7392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3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as / were, h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st tense (simpl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ssi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mparatives, superlatives (adjectives + adverb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s … as …, so … 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direct ques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mpara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1295280"/>
            <a:ext cx="8229600" cy="546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med by means of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-er suffi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in short adjectives – one or, sometimes (but not always!), two syllables) and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or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long ones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uch, far = mno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y processor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aster tha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hi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girl’s legs are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hairier tha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mi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nce my computer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ore powerful tha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his, he envies 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find my computer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ar more amusing tha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my girlfriend because it never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alks back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I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uch more useful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now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a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it has ever been befo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rong !!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e gave me a bigger sum of mone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uperla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57200" y="1905120"/>
            <a:ext cx="8229600" cy="39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med by means of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-est suffi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in short adjectives – one or, sometimes (but not always!), two syllables) and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os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long on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e easiest way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of going about it is by upgrading your hardwa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he is the girl with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e smoothes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legs I have ever me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is modem established the connection of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bsolutely the highes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possible transfer ra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find her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ost fascinating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of a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mparatives and Superlatives – additional no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uch, fa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 comparative = mno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bsolutely, entirely, completely, utterly, downright +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erlative 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úplně nej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rules concerning comparatives and superlatives of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hort adverb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the same as those of long adjectives (e.g.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ore nicely, most precise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Long adverbs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(in) a more beautiful way, (in) the most wonderful 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rregulars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ood – better – the b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ad – worse – the wor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as … as …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; so … as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y boyfriend’s one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s efficient 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her friend’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is processor is twice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s fast 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mi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he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 hundred times as good at English 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him (he i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lgebra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not nearly as enjoyable 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biolog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is operating system is not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o powerful 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I thought it to b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 … as …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only used in negative sentences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direct 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ord ord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indirect questions is the same as in declarative sentenc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ho is the producer of the USB controller? He wants to know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ho the producer of the USB controller i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here did the virus come from? I don’t know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here the virus came from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hat time is it? He asked me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hat the time w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hat’s he doing now? I don’t have a clue of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hat he is doing now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762120" y="533520"/>
            <a:ext cx="739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1600200"/>
            <a:ext cx="7924680" cy="30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gli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čtina pro jazykové školy 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31 exercise 24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44 exercise 26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57 exercise 28.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70 exercise 32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ialized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mputer Applications Introduction, Data M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as / we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a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e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, she, it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a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as x wasn’t, were x weren’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hard disk drive needed replacing because it was faul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applications were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orth downloading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ince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we found them usefu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t was you that called me last night, wasn’t i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as / we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was able to install the application without his assista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as the program able to communicate with all the hardware flawlessl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were allowed to enter the building without their ID car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tudents were allowed to jumper the pi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had an SCSI card, but I never succeeded in getting it to ru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y computer did not have enough memory resources to run smooth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ave you ever had any operating system that was bug-fre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is type of modem can no longer be ha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students had to make a website to pass the exa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administrator had to chang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ccess rights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of the file to prevent it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misus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did not have to have his licence renewed. (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o renew a licenc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id all the employees have to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ubmi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their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Vs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? (curriculum vita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Tense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800" y="990720"/>
            <a:ext cx="7772400" cy="58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to refer to completed actions or events which took plac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t a particular time or over a period of ti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the pas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bought my first computer when I was seventeen and then I worked with it every d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hen did you last use this word process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reconfigured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the system yesterd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to refer to repeated actions in the pas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e played tennis on a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regular basi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five years ag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tudents did not use any WIFI when I attended colle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Tense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33520" y="1447920"/>
            <a:ext cx="8153280" cy="50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 when two actions happen one after another (the sequence of the actions in the sentence corresponds to the real one – typical of storytelling, etc.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came to school, turned on my computer, logged in and started the progra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equence: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oming to school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turning on the computer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logging in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starting the pro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Tense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examp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came to school, turned on my computer and found out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 had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left my CD behind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equence: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leaving the CD behind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oming to school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turning on the computer coming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finding o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inserted the diskette into the drive and formatted it becaus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y anti-virus software had detected a virus on i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equenc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etecting a viru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inserting the diskette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formatting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s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modem was initialized before it dialed the numb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formatting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procedur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was not completed due to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urfac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dama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s the computer still being repaire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CD is still being bur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as the CD burnt yesterda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7-10-24T18:03:36Z</dcterms:modified>
  <cp:revision>34</cp:revision>
  <dc:subject/>
  <dc:title>Lecture 1:</dc:title>
</cp:coreProperties>
</file>