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C37E-B3FC-4216-8366-CE4EEEEED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6669-E332-4301-B3F8-3ECEA2A95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643B-A129-41F8-A744-CC87B5D14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CCB4-DCBA-463E-BE0D-859D6FDCA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4800-279A-41C1-8455-BB7BA4A5F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8168-28D8-439E-B374-88E92440B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9B92-BF2F-4386-899E-8D124B23D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5ADC-D744-466C-9C07-F87215B9C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A7A9-B48D-456A-9B43-D5D149EE7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1CBA-7444-4CA1-846E-A2132E05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F8C5-E9DE-41EB-B724-335EAE2F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A6CB-6880-4DA1-8F24-5A94A440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AF5D8-E196-4DF0-82A3-62FE2ADAE5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ha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 order in an English declarative sentence is govern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VOM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ubject, verb, object, adverbial of manner, place and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speaker refers to an activity which takes place regular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get up at six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very mornin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rk with the compute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l the ti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updates his softw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w and the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upload the file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ree times a wee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speaker refers to scheduled activities in the future (usually those occurring at fixed time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performance starts at 6 p.m. (is scheduled to sta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time does the bus leave tonight? (is scheduled to lea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attention should be paid to word order - questions asking about subject vs.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broke the computer dow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has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went there with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 has he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have you met t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did you go there wi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Users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s Make the World Smaller and Sma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čtina pro jaz.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42 exercise 8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53 exercise 10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72 exercise 14.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got any money on you? No, I have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 you have any money on you? No I do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eel free to use any of the two alternatives,but never any oth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ttractive chick.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irl was so beautifu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ew computer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ld lemon of 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mad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oftware by himself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rash no one can 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ion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ngerous animal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eferring to the whole species, group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  speaking about an activity taking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the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ou can’t speak to him now because he is giving his le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omputer is being repaired. Could you use another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ound is breaking up. Is there anything wrong with your sound c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  speaking about someone’s plan, arrangement or intention (usually when referring to the fu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not debugging the source code to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leaving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ndon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she having her computer fixed or is she dumping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Referring to the activities taking place repeatedly which the speaker considers annoy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is talking nonsense all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nitor is flickering (all the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not usually occurring in continuous form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dmire, adore, astonish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believe, belong, concern, consist, contain, deserv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tes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lik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doubt, envy, exist, fit, forget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t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hear, imagine, impress, include, involve, keep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now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lack, last, lik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v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matter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owe, own, please, possess, prefer, reach, realize, remember, satisfy, seem, sound, stop, suppose, surprise, survive, suspect, understand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an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oes not like this programming language, does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speaking too quickly, aren’t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not speaking too quickly, am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 be a good programmer, mustn’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n’t plug the mouse in now, mus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needn’t have his card replaced, need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got two disks, ha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two disks, doe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, cannot, can’t (to be abl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, may not, mustn’t (to be allowed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, needn’t (to hav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ork in that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st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ormat the di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ed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have the monitor replaced. It’s still all right. (she would do it in v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3T15:39:01Z</dcterms:modified>
  <cp:revision>11</cp:revision>
  <dc:subject/>
  <dc:title>Lecture 1:</dc:title>
</cp:coreProperties>
</file>