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80E2-F5E2-4C87-A63F-D43AE012B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0FCB-A140-455E-9E6B-EE9272B8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4331-A691-4870-8009-8705923D3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AAE9-C3BD-4FCF-A3F5-4D759A7C5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69D2-E4E3-4961-88EF-F2977FC8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834E-1E81-4FF6-B945-88A1F726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449A-BCAC-4C72-9331-DFDD9216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5894-D48F-4E84-9007-64F822B4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F6DC-95BC-4F80-A456-D2822A85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A7F9-EB60-4FB3-877B-D7028495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6D88-F073-4592-8A65-095BD962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D759-927F-43A2-B70C-5DE150E3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BBDF-6624-4949-B967-F3991CC8E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600200"/>
            <a:ext cx="815328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eripherals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Ready for the Bazillion-Byte D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6:32Z</dcterms:modified>
  <cp:revision>54</cp:revision>
  <dc:subject/>
  <dc:title>Lecture 1:</dc:title>
</cp:coreProperties>
</file>