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3DB4F-84BF-4418-80F5-EE7629890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91C2C-185E-478A-9C6E-B36125EB4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EFAFD-40F9-4719-B69C-E5ED06463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FC670-300F-4345-8909-9EE3F7A84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97D82-689E-43A9-8DE9-D53B8CB9C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CF54A-5669-4663-95F9-00185BC01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9D623-A740-42AC-981C-FF8FE939C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F5685-7407-44CF-B9D1-CAE034617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EE41E-3749-4E07-945B-A61FD6657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4F7A9-927F-43A7-960E-B136D93BE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95426-0576-4359-8EB6-5C674AEB9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23CD5-775C-4EC8-89B5-3A7AE7E1A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3422A-A3C0-4D70-9069-854867387D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8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ubject + infini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st continu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1905120"/>
            <a:ext cx="8382240" cy="42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that two or more actions were under way at the same tim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le I was debugging the source code, she was chatting with her frie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girlfriend was talking to someone on the phone and I was wondering who it w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le he was giving a lecture, I was thinking about the probl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 were enjoying sunshine in Europe while they were getting drenched in the U.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1835280"/>
            <a:ext cx="83822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an action that was taking place at a certain moment in the past and we place emphasis on its du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couldn’t come at three because I was begging my computer to star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t was snowing for quite a time yesterday, wasn’t 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trying to get the computer to run but did not succe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installing the system the whole day yester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sister was doing her best to be allowed to borrow my electric cord, but I was as hard as nai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80880" y="1835280"/>
            <a:ext cx="83822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an action that was under way at the moment another action (expressed by means of past simple) took place; Czech 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ráv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telephone rang while we were discussing the ma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omputer froze when I was working with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le he was downloading the file, the connection dropp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entered the room while her boss was raising he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le (he was) listening to her, he noticed something remarkable about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80880" y="1143000"/>
            <a:ext cx="83822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indignation; in this respect past continuous represents a past alternative to present contin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was talking about her problems all the time, but never m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damn brother was changing the settings over and over ag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reason why I quit teaching is that my students were making the same mistakes time and time ag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blasted scanner was failing to operate properly so I dumped it in the e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. modesty, polit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as trying to suggest we should not act like th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43 exercise 5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44 exercise 6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47 exercise 7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raphical User Interface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ser Interfa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758960"/>
            <a:ext cx="8382240" cy="39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verbs of sensual perception - infinitive is without “to”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aw him inser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infected diskette into the dr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ard him swea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ike an old sailor when he was installing the operating syst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never seen my Dad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y other medium than a flash dis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overheard him s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371600"/>
            <a:ext cx="8382240" cy="53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par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aw him inser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infected diskette into the dr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Vid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ěl jsem ho zastrčit tu infikovanou disketu to mechaniky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aw him insert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infected diskette into the dr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Viděl jsem ho, jak str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á tu infikovanou disketu do mechaniky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ard him s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(Slyšel jsem ho to říci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ard him say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Slyšel jsem, jak to říká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1143000"/>
            <a:ext cx="83822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verbs expressing a wish, request, order, or permission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ant, wish, would like, ask, tell, order, allow, persuade (somebody to do someth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ial case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et, mak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no “to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teac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ants me to sol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mathematical problem by the end of this wee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ished her to st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me a little longer for me to find some more mysteries in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ouldn’t like my small sister to touc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y CD again. It’s already scratch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sked me to st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her. She said she was afraid of ghosts. A nice tric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1752480"/>
            <a:ext cx="8381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llowed us to ent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computer hall despite the fact we had no cards on ourselv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riend’s persuaded me to bu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more powerful VGA. He said it would be compatible with my motherboa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it my head off withou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etting me s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wo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promised me a bonus, my bos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de me wor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ver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r baby blue eye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de me forg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out my brand new ORC softwa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’l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et you d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hatever you wis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ach time I meet her, 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kes me regr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moment I broke up with he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461960"/>
            <a:ext cx="83818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1905120"/>
            <a:ext cx="82296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verbs expressing an expectation or assumption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pect, think, believe, consi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pected me to patc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progr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nk me (to be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 idi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believ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at (to be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mporta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ost computer user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nsider Windows (to be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ore user-friendly than Linu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990720"/>
            <a:ext cx="83818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ait, arrange 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ollowed by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aited for 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finish my lun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come she’s passed away? He’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rranged for her not to gi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secret aw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ait for me to shut dow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computer or shall I do it later 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 installing Linux, he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rranged for no one to wor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n his computer ag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. Other verbs followed by object and infinitive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dvise, encourage, beg, forbid (forbade, forbidden), force, get, help, invite, prefer, recommend, remind, urge, warn (somebody to do someth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u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226044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85800" y="1752480"/>
            <a:ext cx="7848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bj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em, app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eems (to be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etty scar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eem to have studi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uncl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oes not seem to be conte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his hard dr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alway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ppears to know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hom the fault lies with. But it’s never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ppears to have caught a col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u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2260440"/>
            <a:ext cx="83822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bj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ay, expect, believe, think, suppose, assum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pas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s said to know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ow to configure the syst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tudent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re expected to stud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nglish for at least 20 minutes a day to pass the ex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book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s believed to contai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ll the necessary inform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ystem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s thought to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nst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upposed to d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ything about 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roblem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s assumed to be mo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volved than it really 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6-11-30T13:46:59Z</dcterms:modified>
  <cp:revision>93</cp:revision>
  <dc:subject/>
  <dc:title>Lecture 1:</dc:title>
</cp:coreProperties>
</file>