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A11F-664A-4C19-BFA5-7B90A68D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0063-D525-49C6-B4CD-ECBD0BBD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C859-E246-490D-9EF7-DACCA30F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EF14-6253-4EC0-BE68-90EB9ADB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9B0E-ED1F-48DF-9BDA-86454D2C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2056-8237-4234-B961-7280BA16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F917-F367-4EB5-81D9-3FD18CCD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6815-7EE2-49F7-B801-67C17789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75BE-8179-44C0-B81C-6893012B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BA68-0AD1-439A-8377-726877D9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4521-C826-4ED8-92E9-F7129537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BD4-7C16-4417-9252-B3B4DAD3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6C06-AF3A-4644-ACBD-72217D4CB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so as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so as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so as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01T17:34:23Z</dcterms:modified>
  <cp:revision>60</cp:revision>
  <dc:subject/>
  <dc:title>Lecture 1:</dc:title>
</cp:coreProperties>
</file>