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131D0-87A5-448E-B59F-CB7F37D67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9AB89-C673-4545-83C3-9FB0EA282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9691E-095B-4FC4-BD04-2E7ED6E3E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26D93-433B-4A4B-AFE3-5404B4320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205F2-E021-4F5D-A32D-D2CE33EE2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25F27-B737-4908-9246-EDF29F7B6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534A3-12F3-4AD4-AC6A-C8134E4C6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034E8-04F3-4D62-88B1-79E52F861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FEEF0-D9EC-4415-8835-680DC7334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1A858-12D0-4F61-A87D-2FF8DB4AD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4ECE0-3003-4757-B388-CF2A4A423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66194-4A79-498D-8295-6DB9CD734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4F365-0479-4088-AF7D-D08364D288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4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2209320"/>
            <a:ext cx="64008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uch – many, little – f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ry, each, both, a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uld, should, wou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me, a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egative sent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uch – Many, Little - F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33520" y="1752480"/>
            <a:ext cx="807696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little + uncountable nou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meaning “trochu”, “n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ějaký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re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little wat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 the gla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you bring m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little suga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few + countable nou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meaning “p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ár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re a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few CD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lying on the t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ource code ha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few bug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very, Each, Both, Al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1828800"/>
            <a:ext cx="838224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rybody, everything, everywhere, every tim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verybod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knows such a th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as looking for my glasse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verywhe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(often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ach of these cable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s no shield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ach of these site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s some pornographic cont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ach of them sit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 front of their computer by day and nig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very, Each, Both, Al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0880" y="1828800"/>
            <a:ext cx="838224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oth, both of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oth my girlfriend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on’t want me to find myself another 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oth the CD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re scratch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oth of these image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ve the same resolu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ll, all of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ll program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ritten in C don’t work proper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ll of the program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ritten in C don’t work proper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uld, Should, Woul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33520" y="2001960"/>
            <a:ext cx="815328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you please attach the cable to the car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you stay away from that device? It might kill yo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e shouldn’t delete the files without knowing what they cont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ogrammers should keep to these syntactic ru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ould buy the program if it were not so expens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ould you be so kind as to debug the source code for 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, An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33520" y="1905120"/>
            <a:ext cx="807696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ring m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n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ti-virus software you can lay your hands on, plea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ould you lik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o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ssistance?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polite off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kept the initialization fil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omewhere el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can take i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nywhe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you wa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on’t tell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nyone el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plea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cannot lend 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n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oney for I have n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Negative Senten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09480" y="1447920"/>
            <a:ext cx="7848720" cy="48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aske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 o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bout that yet. He has not asked anyone about that y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rdly 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uses that type of variable, does h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an hardl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understand what I am talking abou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of the disks is large enough to store so much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ch of them do you prefer?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I am afrai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 girl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an ever fully satisfy my needs. That’s why I have the virtual 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e: Negative sentence in English always contains only one negative expression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33520" y="1600200"/>
            <a:ext cx="8153280" cy="49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1 exercise 35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3 exercise 36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204 exercise 38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05 exercise 39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Peripherals –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Ready for the Bazillion-Byte Driv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822320"/>
            <a:ext cx="8382240" cy="38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definite artic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ed in the sense of 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ějaký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 (the first occurrence of noun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bought himsel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new digital camer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re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loose screw o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hass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an came up to me and asked me for a lig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controller house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USB sock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assed m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iskette and told me to install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rogram it b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’ll be able to ope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file. He h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ompu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1905120"/>
            <a:ext cx="838188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finite article 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if a noun refers to something that is contextually defined, implied or simply giv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give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new monitor. A fortnight later he found ou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onitor malfunctio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rogram you were talking about a while ago does not run under Window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ak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bloody keyboard and leave me alon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1905120"/>
            <a:ext cx="838224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finite article 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if a noun represents somebody or something of unique charact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un was shining all day lo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me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resident of the Czech Republi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rime Minister hopes the situation gets be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ruth is he hates command-based operating syste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1905120"/>
            <a:ext cx="838224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finite article 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if the speaker, using an adjective, intends to refer to a group of people sharing a certain quality denoted by the adjective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you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lways know be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mputers can help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disabl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l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chronologically disadvantag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re often seni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blin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an make use of screen read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1897200"/>
            <a:ext cx="8305920" cy="47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finite article 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. if an expression represents a proper name containing a noun that can stand on its 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visite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Tate Galler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last wee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Prague Castl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s a popular site sought after by foreign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Czech Republic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s the population of 10 mill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United State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ttacked Iraq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. i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Ukraine, the Hague, the Netherla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1447920"/>
            <a:ext cx="8229600" cy="47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95360" indent="-4953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 articles used in front of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buClr>
                <a:srgbClr val="000000"/>
              </a:buClr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s of days and months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une, Thursd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buClr>
                <a:srgbClr val="000000"/>
              </a:buClr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s of people, cities and countries (except those containing nouns that can stand on their own)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eter, Russ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buClr>
                <a:srgbClr val="000000"/>
              </a:buClr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s of languages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nglish, American, Cze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buClr>
                <a:srgbClr val="000000"/>
              </a:buClr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uns denoting meals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unch, breakfast, supp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buClr>
                <a:srgbClr val="000000"/>
              </a:buClr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s of sports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ennis, squash, swi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e: No indefinite articles used in front of uncountable nouns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uch – Many, Little - F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1752480"/>
            <a:ext cx="8229600" cy="470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uch + uncountable nou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usually in questions and negative sentences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uch mone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ve you got on you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re isn’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uch dat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downlo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ny + countable nou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usually in questions and negative sentences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ny student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tudy conscientiously? There aren’t many of them, are ther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positive sentences, there is a tendency towards using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lot o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ots o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front of both countable nouns and uncountable 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uch – Many, Little - F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520" y="1295280"/>
            <a:ext cx="8076960" cy="52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ittle + uncountable nou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gave m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little informa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for me to do anything about the situ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s a university teacher, he earns ver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ittle mone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earn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es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oney than 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ew + countable nou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nl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ew programmer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ork like th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brough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few girl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the party for the boys to have fu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re we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ewer cluster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amaged than I had expect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7-10-24T18:06:32Z</dcterms:modified>
  <cp:revision>54</cp:revision>
  <dc:subject/>
  <dc:title>Lecture 1:</dc:title>
</cp:coreProperties>
</file>