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7694-5565-48BD-9417-467C6D6A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93BA-F1AA-4324-8CE1-6D748F57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91DD-E9F1-4ED3-959A-3689BCBE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533D-87FF-4430-8AFD-C8D997E63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43F3-4C4F-42BD-965D-D595167D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6EFB-AA1F-4755-BE0B-FBA69854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EB94-FF8C-4E5F-8EE6-7E3311D6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0CCF-1B71-45E3-A36F-5D042881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19E1-3F1E-4C16-8D68-31C31663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3A9A-9ECF-46F8-BF32-39B5AD67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0D18-0F5A-4AB6-9F81-7C8660D8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4B90-E888-415F-82AE-0AF5D0B0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F3D3-D258-4EA8-90F2-5DDAFE1F1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99072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30T13:46:59Z</dcterms:modified>
  <cp:revision>93</cp:revision>
  <dc:subject/>
  <dc:title>Lecture 1:</dc:title>
</cp:coreProperties>
</file>