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0472-496C-4203-BCF2-01A4C8586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E82E-33D9-4E6D-A225-E9B49D80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F2B1-48D4-4FE4-88E4-476A69199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DDFF-B268-4AB4-A557-08C3E7311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8260-8EDD-4C56-95E9-FF42A6D1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48E8-A653-4384-A94C-827C8D91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C466-BB85-4AE0-92B8-AE3D7362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761E-1C61-4664-B6F3-E2DCC66E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4D5F-CE4A-4785-8A63-7574FF78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D584-0C9F-4FFF-885E-45FED443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7A24-B080-4BA5-B778-F9D4CF6F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154C-0C7C-4F43-AF2E-ACB59D97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32E8-BB76-4C4D-BE44-F4BC3548C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i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03:36Z</dcterms:modified>
  <cp:revision>34</cp:revision>
  <dc:subject/>
  <dc:title>Lecture 1:</dc:title>
</cp:coreProperties>
</file>