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0DD4-C6AC-4E04-89BC-61C4F0A8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6715-6620-47BF-ABEE-E4A3929D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DE44-33E8-486F-8828-F79FA2AE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9B45-0ADA-49AE-89A9-67D07ABCD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B4FB-3233-4AB8-ACAC-B58A4B3F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BC18-B6B1-4627-AB66-C79300ED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22F9-4FE4-4657-8D3E-7BA015D0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4854-9493-4B5D-A064-596C4410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2786-59DC-4088-9D26-99523F24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E8E6-56AF-4475-B605-DE4C1AFB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E1A6-9655-476B-AB94-913FE177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FE12-4CE7-4F55-A3F5-065FC26D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748A-324F-4367-84F9-902D8EB2E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so as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so as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so as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01T17:34:23Z</dcterms:modified>
  <cp:revision>60</cp:revision>
  <dc:subject/>
  <dc:title>Lecture 1:</dc:title>
</cp:coreProperties>
</file>