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2B88-4775-4451-92BD-54D01977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5998-0A2F-4C85-9193-82250496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8F29-3F4E-4974-BC20-F39C99535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BF18-B5D1-4C5E-92C2-68160D2B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C2D8-446D-4CB3-A7B4-94A546EB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7B14-7916-4A63-83AB-E8D171E6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3B8A-FC8E-414C-9AA1-557392B4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A0AA-367E-4A52-8D7C-72F5A732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0118-6D77-43B7-8F56-CB6710C4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DCDC-35D1-490C-B5F2-38397CF4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C481-A515-44F0-8D26-87CFDAAC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5483-BB9F-4DC7-8845-3BAC965E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1E55-9E1F-4848-B6FD-E4DC7029C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20T10:55:42Z</dcterms:modified>
  <cp:revision>198</cp:revision>
  <dc:subject/>
  <dc:title>Lecture 1:</dc:title>
</cp:coreProperties>
</file>