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620B-E31E-43C2-9028-921814012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46CB-73C3-4613-9A0D-D2F40650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ED43-2A2E-4D2D-AC2C-07D5DB133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D55F-BE46-4173-BDE5-E17BF569D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5AA1-5041-4785-90AE-F362B33D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70A8-3228-4B1C-90A0-54E1E994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7F21-84CD-42C3-B127-AE9FA8DE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7F05-1411-49E2-AE67-057037C8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0C63-934F-4FF6-B0DD-1D463D14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3FB6-90A6-4793-BECA-BBB37BAC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45FF-856D-4064-8BB0-ED7DEF8A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CBE3-15A6-4D3E-9277-E341AC08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D5E8-B141-48C2-9890-94A10E38D1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World Wide Web –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6:39Z</dcterms:modified>
  <cp:revision>190</cp:revision>
  <dc:subject/>
  <dc:title>Lecture 1:</dc:title>
</cp:coreProperties>
</file>