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29C-44D1-48B4-BC5B-1EC7C0AE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 klíčové slovo „ref“ pro tří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měníte obsah objektu uvnitř met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ím informujete ostatní programátory, že objekt může být změně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xistují tři odlišné cesty, jak interpretovat objekt v run time s odlišným význam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oxován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telné pro libovolné typy včetně základn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stliže boxování selže, je vyvolána výji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spektuje objektovou hierarchii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př. Všechny zděděné třídy mohou být boxovány na typ před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onver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n pro základní ty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hodnota není aplikovatelná, je vyvolána výji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ž 20 krát rychlejší než boxování =&gt; upřednostňuj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perátor „as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ko boxování, ale negeneruje výjim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selže navrací null a není vyvolána výji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NET v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sahuje sadu různých kolek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NET v1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obsahuje generické kolek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rray třídu lze použít pro operace s p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řednostňujte generické kolekce před negenerickým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tatní kolek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ed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ed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ěkteré z těchto kolekcí obsahují metodu pro převod 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íce o generických prvcích v příštím modu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ponuje metodou k ověření, jestli kolekce již neobsahuje daný klí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of(...)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yObject.getType()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 získání informace o tříd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 vždy nejmenší možný modifikátor přístu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paces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čkou oddělená stromová struktura skupin tří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embl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ůže obsahovat jeden nebo ví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paces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pac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ůže být rozdělen do jedné nebo ví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poručuje se používat následující konstrukci namesp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.project.subproject.group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stliž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pac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 definová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k je použit výchoz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doporučuje 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 použití třády z jinéh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pace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řeba uvé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líčové slo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každém soubo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de chceme použít tento typ bez uvedení úplného jmé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plné jméno třídy obsahuje úplnou stromovou cestu namespace k definici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stliže soubor obsahuje více stejně pojmenovaných tříd z různých namespace, pak musí být uvedeny úplným jmén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Jedna třída může dědit pouze z jedné tří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le může implementovat libovolné množství rozhra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tract: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elze vytvořit instanci tří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Je třeb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abstraktní členy v odvozené tříd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led: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d třídy nelze dě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člen specifický pro třídu, ne pro její instan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stru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r: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kud není definován, pak je vytvořen výchozí bez parametr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kud definujete vlastní konstruk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ak zabráníte použití výchozí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Konstruktor může být i privátní (viz. návrhový vzor singlet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truktor v C# nejsou skutečné destruktroy jako v C++, ale jen možností compilátoru vytvořit vlastní CLR fin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jsou inicializovány v opačném pořadí než konstrukto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A: object   { StringBuilder fieldA = new StringBuilder()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B: ClassA { StringBuilder fieldB = new StringBuilder()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C: ClassB { StringBuilder fieldC = new StringBuilder()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tup inicializ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lass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lassB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lassC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estruktory jsou použity jako 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++,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le doporučenou cestou je použí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Disposable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řídy do diagramu lze přidat tažením ze solution explore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s diagram toolbar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louží k modelování v diagra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stranění třídy 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gr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nevede ke smazání souboru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p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 tento diagram jako doplněk dokumentace ve vašem pro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čítá ukazatele na instan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okud dosáh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k je objekt označen pro smaz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á očíslovaná generace je vytvořena, poku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C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jde nové objekty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e smaz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možné ručně vymazat vybrané generace nebo vše najedn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použí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ystem.G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e zjištění obsazené paměti nebo ručnímu uvolně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ěžně není třeba použít GC ručn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de najít dokumentaci 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VS 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 browser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k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i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kó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 když nemáte zdrojové soub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 vytvoření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kumentačního souboru zapněte v nastavení projektu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 zálož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„Build“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ložku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„XML documentation file“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zkompilujte projek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tvořen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ubor není naformátovan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ůžete jej naformátovat do html použití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blony dostupné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N we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použít externí nástroj jak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andcas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itečn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lavní dokumentační 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rametr funk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jimka, kterou může váš kód generov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vratová hodn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p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xistuje free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lug-i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S „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GhostDo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ý umožňuje rychlé vytvoření dokumentace z kontextového menu v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yntax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msdn.microsoft.com/en-us/library/618ayhy6(VS.80)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kument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sandcastle.codeplex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oland-weigelt.de/ghostdo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msdn.microsoft.com/en-us/library/5ast78ax(VS.80)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dofactory.com/Patterns/Patterns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objekty.vse.cz/Objekty/Vz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ndows presentation foundation a jiné tutori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vyvojar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použít všechny koncep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OP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NET: interfaces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ědičn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olymo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ism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dálosti ap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existuje objekt mimo objekty odvozené od základní třá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„object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é základní typy jsou boxované do objektu nap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zavolat meto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tring()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teg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i = 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ToString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é Main metoda je metoda uvnitř aplikační tří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lavní sou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.sl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pono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skupuje projekty v jeden cele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lutio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ůže obsahovat jeden nebo více projektů různého ty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web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plikace společně s knihovno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: VS XM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ubor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.csproj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ponou obsahující soubory ke kompil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stavení a reference. Výsledkem je jedna vytvořená 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mbly: Ex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ll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ždy vytváříme jednu assembly v jednom projekt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yp může být kdykoli změněn v nastaveních projekt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ssembl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sahuje interní meta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á slouží jako informace o obsažených type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é obsahuje dokument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stavení zabezpečení ap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tadata v assembly lze procházet také pomocí knihov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stupné typ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mb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 application: ex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zolov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application: ex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ndows Forms GU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řeba specifikovat spouštěcí formulá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libra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vykl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ipojení jiných zdrojů typů, jak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, manage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manage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nihovny nebo projekty v sol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řeba připojit i referenci na projekt ve stejné solution, před použitím tříd z tohoto pro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kony, texty a jiné soubory použité v kó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ssembly info a typ assembly v nastavení projektu &gt;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okování s parametry příkazové řádky: Nastavení projektu &gt; Build &gt; Command lin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přímo přiřadit méně přesnou hodnotu typu do přesnějších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loversCount2 = 10/4; //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ouble = double/int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vyvolá chy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.MaxValu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 nalezení limitu ty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zavol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tring()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todu i na základních typ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ulovatelné typy mohou být  použity pro uložení hodno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l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základních typech např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Nullable&lt;int&gt; intNull = 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? intNullB = null;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zk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cený ekvivalentní zá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erator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hodnotový výčtový ty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který definuje aplikovatelné hodno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doporučeno vždy přiřadit hodnot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le není to vyžadová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sledující hodnota je automaticky o jedna vyšš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jednoduše konvertov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dnotu 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přistupovat ke kolekcím názvů a hod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řídy jso vždy volány referen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řeba myslet na to, že je rozdíl mezi DBnull a 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užijte třídy, pokud objekt obsahuje nějakou log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řednostňujte struktury s malým počtem položek (fie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ze použít běžné operátory k porovnání a přiřezen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řetězc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třída obsahuje metody pro textové operace jak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m, Substring, ToLower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jte pozor 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witch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loku při použití řetězce v case podmí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přiředíte textové property hodnot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k je vytvořena nová kopie textu v pamět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ring je vždy jen pro čte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ring je nulovatelný ty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tring.isNullOrEmpty proper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pe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kv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ý řád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 – carriage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 – tabul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eferuj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vironment.NewLine OS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závislou proměnnou p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\r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x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řída může být použita pro práci s regulárními výr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ochranu escape sekvencí lze použí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ak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“ před stringem. Následující zápisy jsou ekvivalen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@“C:\slozka\podslozka\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:\\slozka\\podslozka\\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044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160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7044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0160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044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160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28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17044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80160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17044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1600" y="159048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28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17044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801600" y="4017600"/>
            <a:ext cx="1553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58480"/>
            <a:ext cx="61405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1400" y="401760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11400" y="1590480"/>
            <a:ext cx="235404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017600"/>
            <a:ext cx="48243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9280" y="159084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ct val="110000"/>
              </a:lnSpc>
              <a:buClr>
                <a:srgbClr val="889ea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40360" y="6488280"/>
            <a:ext cx="281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Technology C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79200" y="5013360"/>
            <a:ext cx="857160" cy="12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614520"/>
            <a:ext cx="9144000" cy="802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7280" y="262080"/>
            <a:ext cx="8856720" cy="97128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201080" y="423720"/>
            <a:ext cx="1600200" cy="320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40360" y="6488280"/>
            <a:ext cx="281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Technology C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618ayhy6(VS.80).aspx" TargetMode="External"/><Relationship Id="rId2" Type="http://schemas.openxmlformats.org/officeDocument/2006/relationships/hyperlink" Target="http://sandcastle.codeplex.com/" TargetMode="External"/><Relationship Id="rId3" Type="http://schemas.openxmlformats.org/officeDocument/2006/relationships/hyperlink" Target="http://www.roland-weigelt.de/ghostdoc/" TargetMode="External"/><Relationship Id="rId4" Type="http://schemas.openxmlformats.org/officeDocument/2006/relationships/hyperlink" Target="http://msdn.microsoft.com/en-us/library/5ast78ax(VS.80).aspx" TargetMode="External"/><Relationship Id="rId5" Type="http://schemas.openxmlformats.org/officeDocument/2006/relationships/hyperlink" Target="http://msdn.microsoft.com/en-us/library/5ast78ax(VS.80).aspx" TargetMode="External"/><Relationship Id="rId6" Type="http://schemas.openxmlformats.org/officeDocument/2006/relationships/hyperlink" Target="http://msdn.microsoft.com/en-us/library/5ast78ax(VS.80).aspx" TargetMode="External"/><Relationship Id="rId7" Type="http://schemas.openxmlformats.org/officeDocument/2006/relationships/hyperlink" Target="http://www.dofactory.com/Patterns/Patterns.aspx" TargetMode="External"/><Relationship Id="rId8" Type="http://schemas.openxmlformats.org/officeDocument/2006/relationships/hyperlink" Target="http://objekty.vse.cz/Objekty/Vzory" TargetMode="External"/><Relationship Id="rId9" Type="http://schemas.openxmlformats.org/officeDocument/2006/relationships/hyperlink" Target="http://objekty.vse.cz/Objekty/Vzory" TargetMode="External"/><Relationship Id="rId10" Type="http://schemas.openxmlformats.org/officeDocument/2006/relationships/hyperlink" Target="http://www.vyvojar.cz/" TargetMode="External"/><Relationship Id="rId11" Type="http://schemas.openxmlformats.org/officeDocument/2006/relationships/slideLayout" Target="../slideLayouts/slideLayout15.xml"/><Relationship Id="rId1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08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chod na .NET C#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2160" y="1957320"/>
            <a:ext cx="365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211280" y="1341000"/>
            <a:ext cx="4608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ří Pokor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i.pokorny@siemen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wug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olání met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n pro hodnotové ty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m „ref“ klíčového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pro referenční typy (většina případ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3 - Základní ty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verze typ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xování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 a = (int)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vert.To... Metod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 a = System.Convert.ToInt32(“5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erátor „as“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 a = 5 as 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4 - Konverze typ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lek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590480"/>
            <a:ext cx="79200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ray: pevná dé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ric List: variabilní, silně typov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ctionary: kolekce unikátních klíčů a 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další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em.Collection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tarý .NET v1, negenerické, nedoporučova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em.Collections.Gen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5 - Kolek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OP modelován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y pří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OP modelován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á návratov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enovaný jménem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přetíž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S class diagram (C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er pro modelování tří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ML dokument s *.cd přípo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usměrná synchronizace mezi soubory tří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diagra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 neobsahuje třídy přím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n zapisuje/čte soubory tří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6 - OPP modelován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arbage collector (G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rá se o paměť využívanou vaší a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třeba psát de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em.GC třída pro práci s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nevíme, kdy GC uklízí instance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je označen k uklizení, jestliže již neexistuje jiný objekt na něj odkaz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ment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# obsahuje XML dokumentační tagy ukládané do assembly met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je použít jako interní úložiště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ny .NET framework knihovny jsou dokumentované tímto způsob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také vytvořit externí dokumentační soubor z tě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g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tváření dokument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něte psát „///“ na začátku vaší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dostupné dokumentační tagy naleznete v online nápověd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entace je okamžitě viditelná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trojích 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 7 - Vytváření dokument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kaz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aa"/>
                </a:solidFill>
                <a:uFillTx/>
                <a:latin typeface="Arial"/>
                <a:hlinkClick r:id="rId1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66aa"/>
                </a:solidFill>
                <a:uFillTx/>
                <a:latin typeface="Arial"/>
                <a:hlinkClick r:id="rId2"/>
              </a:rPr>
              <a:t>Sand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aa"/>
                </a:solidFill>
                <a:uFillTx/>
                <a:latin typeface="Arial"/>
                <a:hlinkClick r:id="rId3"/>
              </a:rPr>
              <a:t>Ghost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66aa"/>
                </a:solidFill>
                <a:uFillTx/>
                <a:latin typeface="Arial"/>
                <a:hlinkClick r:id="rId4"/>
              </a:rPr>
              <a:t>Do</a:t>
            </a:r>
            <a:r>
              <a:rPr b="0" lang="en-US" sz="2400" spc="-1" strike="noStrike" u="sng">
                <a:solidFill>
                  <a:srgbClr val="3366aa"/>
                </a:solidFill>
                <a:uFillTx/>
                <a:latin typeface="Arial"/>
                <a:hlinkClick r:id="rId5"/>
              </a:rPr>
              <a:t>k</a:t>
            </a:r>
            <a:r>
              <a:rPr b="0" lang="cs-CZ" sz="2400" spc="-1" strike="noStrike" u="sng">
                <a:solidFill>
                  <a:srgbClr val="3366aa"/>
                </a:solidFill>
                <a:uFillTx/>
                <a:latin typeface="Arial"/>
                <a:hlinkClick r:id="rId6"/>
              </a:rPr>
              <a:t>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66aa"/>
                </a:solidFill>
                <a:uFillTx/>
                <a:latin typeface="Arial"/>
                <a:hlinkClick r:id="rId7"/>
              </a:rPr>
              <a:t>Návrhové vzory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aa"/>
                </a:solidFill>
                <a:uFillTx/>
                <a:latin typeface="Arial"/>
                <a:hlinkClick r:id="rId8"/>
              </a:rPr>
              <a:t>Návrhové vzory </a:t>
            </a:r>
            <a:r>
              <a:rPr b="0" lang="cs-CZ" sz="2000" spc="-1" strike="noStrike" u="sng">
                <a:solidFill>
                  <a:srgbClr val="3366aa"/>
                </a:solidFill>
                <a:uFillTx/>
                <a:latin typeface="Arial"/>
                <a:hlinkClick r:id="rId9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aa"/>
                </a:solidFill>
                <a:uFillTx/>
                <a:latin typeface="Arial"/>
                <a:hlinkClick r:id="rId10"/>
              </a:rPr>
              <a:t>Windows presentation foundation a jiné tutori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9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tr Paleta: Co programátory ve škole neučí. Computer press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9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olf Pecinovský: Návrhové vzory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puter press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1 - Garbage coll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7680" y="404280"/>
            <a:ext cx="614016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ject oriented programming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OOP) in .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2138400"/>
            <a:ext cx="48243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% podpora OPP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o je 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m objektem je třída „objec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isual Studio 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bugging ok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ávesové zkratky a nas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 2 - Assemb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ty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ové ty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í typy zahrnují všechny běžné ty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boxované do„object“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lovatelné ty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ční ty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ruktury a tří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použít 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ohou obsahovat inicializace vlast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možňují dědi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být inicializovány pomocí konstru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61405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áce s tex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590480"/>
            <a:ext cx="48243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Unicode null ukonče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ar“ základní typ pro pís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dispozici jsou konverzní knihov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nakové s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ing ty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ing klíčové slovo je mapované n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indexované pole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pouze pro čt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680" indent="-183240">
              <a:lnSpc>
                <a:spcPct val="110000"/>
              </a:lnSpc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měny na úrovni znaků použijte StringBuilder tří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7:52:42Z</dcterms:created>
  <dc:creator>Jiří Pokorný</dc:creator>
  <dc:description/>
  <dc:language>en-US</dc:language>
  <cp:lastModifiedBy>Jiří Pokorný</cp:lastModifiedBy>
  <dcterms:modified xsi:type="dcterms:W3CDTF">2010-02-18T14:37:53Z</dcterms:modified>
  <cp:revision>481</cp:revision>
  <dc:subject/>
  <dc:title>Migrate to .NET C#</dc:title>
</cp:coreProperties>
</file>