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5988-9C7D-40D8-A5C9-61A5B9312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1967-37FD-476E-B84D-3F850D6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7FB6-8916-4018-AD53-A9E896DE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8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04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2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8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04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B2CF-F79F-4D80-ACF9-BF5768E88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629A-D58F-4B1C-935F-0974D98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C05D9-CF8E-4D78-AA17-B676BFC1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C7667-323A-460B-B2E7-5F409A5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0EB2-9C8B-4F25-A845-17BF8665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4068B-0EDF-4B99-8690-D437195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F5BDF-F8A8-4203-96D1-931C39F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6A1D-9C2D-4E65-960A-E85B2E7D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37DDB-E84A-49DC-8380-212E99A4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6D477-FB3C-4BD4-921B-1FD2F0D4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6777-E610-4A95-A590-ECABA8C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7EDD-4A5B-41B2-86E1-6FCBC9B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0035-6E23-4B7D-AB5F-294ABB0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B0E02-6CC0-4579-9EF3-074D56D8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48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04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48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904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F502B-CC85-4436-8228-EE2C610B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BD1A-7B3E-4183-BEE0-8E60B7C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48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0480" y="159084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48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90480" y="403596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2DB5-599E-4488-99FE-86DA71EF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FB8C-B282-433D-8D8E-BE0BAA25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D844-4B1C-434B-ACEE-A6F327E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5520" y="403596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13D0-5ED1-46F4-BD13-7921F50A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5520" y="159084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280" y="403596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EBB0-A42D-43CC-98E5-6148279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1918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18864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5000" indent="-18864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5000" indent="-1886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5000" indent="-1886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87280" y="263520"/>
            <a:ext cx="8856720" cy="96984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260280"/>
            <a:ext cx="59770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51640" y="6453360"/>
            <a:ext cx="12621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0E0-8B90-47C5-A85E-350765D1D683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78200" y="6427800"/>
            <a:ext cx="2846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39640" y="6453360"/>
            <a:ext cx="71928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9405-BC3C-46B8-AAF0-B737097ECBD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476280"/>
            <a:ext cx="15840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9080" y="-9360"/>
            <a:ext cx="918216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209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263520"/>
            <a:ext cx="8856720" cy="96984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57640" y="6464160"/>
            <a:ext cx="1131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66760" indent="-266760"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DC81-DB1D-472D-A9F2-034A05D5FAF1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236000" y="476280"/>
            <a:ext cx="15840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1924200" y="6488280"/>
            <a:ext cx="107928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3598920" y="6488280"/>
            <a:ext cx="234000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539280" y="6488280"/>
            <a:ext cx="87804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7047C9-B3CB-4386-95A6-F7A3BFE0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6488280"/>
            <a:ext cx="281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NF Data spol. s r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© Siemens AG Austria 2009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209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 algn="ctr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525240" algn="ctr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687240" algn="ctr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44680" indent="-870120" algn="ctr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44680" indent="-87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44680" indent="-87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71" name="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539640" y="258840"/>
            <a:ext cx="6140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209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NF Data spol. s r. o.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 Siemens comp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 Siemens AG Österreich 2009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rporate Technology Development Centr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CT D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DC CEE in Czech Republic was founded in April 2009 as part of CT CEE Austria after split of former Siemens PSE organiz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round 50 motivated people we support Siemens sectors by high quality engine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 work on our project from location in Prague and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partment head is Mr. Vladimír K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 DC I TS CE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Traffic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3280" y="1590840"/>
            <a:ext cx="5545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 develop and integrate SW solutions in the following ar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NET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Client/Server applications for traffic engineers (GUI, data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java servers using advanced J2EE 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for parking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Linu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server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Case and ClearQuest administration for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CT TS Portfolio"/>
          <p:cNvPicPr/>
          <p:nvPr/>
        </p:nvPicPr>
        <p:blipFill>
          <a:blip r:embed="rId1"/>
          <a:stretch/>
        </p:blipFill>
        <p:spPr>
          <a:xfrm>
            <a:off x="250920" y="1268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124000" cy="2735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 DC I IAS CE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ial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able partner 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bedded real-time development, industrial communication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near-shore development solutio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in Pra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t level PROFINET IO know-how from specification to system test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range of real-time operating systems (VxWorks, RT Linux, NRK, eCos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wide range of communication protocols (PROFINET IO, FF, HART, Wireless HART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IN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 DC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280" y="2565000"/>
            <a:ext cx="820908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ign, develop, install, configure and support the most reliable Meter-to-Bill solution for AMI meters infrastructure (Smart Metering) in Eu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with our partner eMeter company operating mainly in USA, we are bringing to our customers the most Capable &amp; Scalable and Exceptional Meter Data Management Syst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lso actively cooperating with Siemens AMIS team responsible for developing Smart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9600" y="1268280"/>
            <a:ext cx="88344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 ANF Data nabízí studentů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í hlavní činností je výzkum a vývoj v oblasti SW a poskytování maximální přidané hodnoty našim zákazníkům za použití nejmodernějších poznatků, trendů a technologií. Proto se orientujeme na spolupráci s univerzit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studenty nabíz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-time práce při stu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práce na zajímavých Bc. a diplmových prac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Ing. Jan Verner obdržel cen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ner von Siemens Excellence Award 200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stované přednášky našich exper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92" name="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630864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Siemens AG 200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1592280"/>
            <a:ext cx="4427640" cy="4681440"/>
          </a:xfrm>
          <a:prstGeom prst="rect">
            <a:avLst/>
          </a:prstGeom>
          <a:solidFill>
            <a:srgbClr val="889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396000" tIns="0" bIns="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Ondřej Skřeh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ection 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F DATA spol. s r.o., a Siemens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rporate Technology Central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velopment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ndýnské nám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39 00, B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Česká republ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hone      +420 538 776 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obile      +420 725 787 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Fax          +420 538 776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ndrej.skrehota@siemen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http://www.anfdata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51:56Z</dcterms:created>
  <dc:creator>Ondrej Skrehota</dc:creator>
  <dc:description/>
  <dc:language>en-US</dc:language>
  <cp:lastModifiedBy>Ondrej Skrehota</cp:lastModifiedBy>
  <dcterms:modified xsi:type="dcterms:W3CDTF">2010-02-26T10:58:03Z</dcterms:modified>
  <cp:revision>8</cp:revision>
  <dc:subject/>
  <dc:title>ANF Data spol. s r. o.   a Siemens comp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artment">
    <vt:lpwstr>CT</vt:lpwstr>
  </property>
</Properties>
</file>