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8E12-FF16-471A-832D-F862F297B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B5B1-5194-406D-894A-700EB54E8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D9C1-082E-451F-ACAA-9F939A28A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BF49-D603-441D-9761-7EE07EF77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F4FE6-093E-46DD-BE71-51DB3AF9F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9B62A-4B28-446B-BE99-D90021E5B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200F6-2C39-4AEE-87C7-0DAA5E91B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A90DB-E455-4126-9582-2E03FF166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48D26-872C-4A0D-9C64-E726628C3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10DD4-8248-444A-9B96-9F3186387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256AE-A85E-4F9A-B0CD-EE7104809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E8A2-78C2-4DB7-9779-E829F8EF4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576ED-477F-40AD-AE61-523EC11D3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C58FB-DB60-4DB4-A4EC-07E025432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50CC1-8708-4012-BAB7-78AF5DC9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172FF-D9C5-49DE-84C1-20A2E8ED2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B065F-BCB8-4123-A554-2F7E01968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F909-2CB7-48E9-BEA2-46B5323F7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6C80-29A1-447F-9DF6-29768AF95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ECBC6-49CF-481B-94FE-06EC3EEE9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B789-BF70-4107-8ACB-70F085BDE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0266-2A58-4F12-BD39-CEC5A653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5D6A-5D69-43FC-82AB-0A49C6358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EE56-FD3D-4ADA-8444-E576C88D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cc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cc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86E65-37DB-4C1F-8B1F-1C1FC4DACA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6CA8C-B429-4645-A3C8-571841D5134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cccc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cccc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idaktika p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á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ov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é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technik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Velikost plochy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Cvičení v kontaktu jednou částí těla (nejčastěji ruk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Cvičení v kontaktu s více částmi tě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Cvičení v kontaktu trup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Intenzita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Dotyková zátěž stoupá s intenzitou dotyku: dotykový podnět je přenesen z povrchu dovnitř tě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Letmý doty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cho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Objet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Taktilní zóna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Úpoly se provádí v intimní vzdále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ařazujeme postupně cvičení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kontaktu ruka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kontaktu zády nebo dolními končetinam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kontaktu přední části trupu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obli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jem, vnit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ranou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 steh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H</a:t>
            </a: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ygienické návyk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Cvičenci se navzájem dotýkají, je potřeba dbát 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Čistotu cvičenc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právné ustrojení (vhodný cvičební úbor, NE:hodinky, náramky, náhrdelníky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Úpravu (nehty, poranění kože, líčen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Bezpečnost u cviče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poly nejsou nebezpečnější než jiné sportovní aktivity (rsp. jsou stejně nebezpečné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Zamezení zranění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Cvičení vhodná pro danou skupinu z hlediska stupně vývoje fyzického, psychického, sociálníh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Popis cvičení dokonale pochopitelný cvičenců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Jasně vymezené úkoly jednotlivých cvičenc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Jasné instrukce učitele (začátek a konec cvičení, přerušení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Bezpečnost u cviče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ci jsou zodpovědni za bezpečnost svého spolucvič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Některá cvičení vyžadují určitou úroveň royvoje specifických úpolových dovedností (např. pádová technik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Emotivnost cvičení vtahuje cvičence do činnosti, jejich vědomá sebakontrola je omezen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bát na ontogenetické, fylogenetické, psychické a sociální faktory úpol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Pády v ontogenéze pohyb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3352320"/>
            <a:ext cx="8178840" cy="27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Leh na záde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Leh na bo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řevalování na str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asení koníč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ed a skutálení se vzad nebo stran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toj a pády vpř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Determinanty strachu z pádů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cit bezpeč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zdálenost těžiště od podložk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Rychlost pád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Způsob tlumení dopadové energi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vrch, na který se pad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1219320" y="2300400"/>
            <a:ext cx="63244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Dostatečné zvládnutí základních pád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z nižších polo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nacvičovat pomal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pády bez zaraž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na měkký povr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Pořadí nácviku základních pádových techník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zad s převratem bez zaraž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před bez převra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před s převratem bez zaraž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Stranou se zaraže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před s převratem a zaraže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zad bez převratu se zaraže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56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Kontakt: základní znak úpolů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otek je prvním a univerzálním (v ontogenéze i fylogenéze) komunikačním prostředkem člově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Moderní, informační společnost znehodnocuje komunikační funkci dote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Tělesná výchova a sport umožňuje znovuobjevování dote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í je emotivní, cvičenci „zapomínají“, že se styd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Kontakt: základní znak úpolů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e výuce musíme respektov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ěk cvičenců 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(některá kritická období psychosexuálního vývoj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hlaví cvičenců 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(u koedukované výuk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Individuální zkušenost s dotykem 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(zejména negativní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Determinanty fzyického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Mediátor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Doba trvání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elikost plochy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Intenzita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Taktilní zó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Mediátor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Kontakt prostřednictvím předmětu, nebo bezprostřední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Oděv – odě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Oděv – pokož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kožka - pokož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Doba trvání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Nejdřív zařazujeme cvičení s krátkodobým kontaktem (dotknout se soupeřova ramen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ak cvičení s delší dobou nevyhnutného kontaktu (udržet co nejdéle soupeřovo zápěst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09:21:32Z</dcterms:created>
  <dc:creator>Sally Reynolds</dc:creator>
  <dc:description/>
  <dc:language>en-US</dc:language>
  <cp:lastModifiedBy>HOME</cp:lastModifiedBy>
  <dcterms:modified xsi:type="dcterms:W3CDTF">2006-03-12T11:54:20Z</dcterms:modified>
  <cp:revision>12</cp:revision>
  <dc:subject/>
  <dc:title>Social Firms From NHS</dc:title>
</cp:coreProperties>
</file>