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25F3-7233-44E8-BF70-4C27E966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8878-E416-4040-B60A-E75D6A7F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7A954-DFF8-49B4-B0E9-0DA75A966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FC9-B24A-4171-8771-F07D11443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2640-0F69-4DC7-9A9E-A37DA02C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25339-A5BE-4BB1-9E60-F9CC455C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EF43-69FD-4A86-BCC0-5AD095824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CCA1-4062-4B26-B2EE-C42D0012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C3356-E35F-4C06-9037-0B067353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50BC7-AF88-480D-8B38-F85A50458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1582A-C066-4F70-B7EF-A2B35500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33C5-D55A-45BA-86ED-6A356519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92202-2DB1-45AF-89EB-B7EDD2BEE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5334-359C-4C4F-828E-CF13DB878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2311E-41B5-4BD2-A8CA-96C8328E8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490AC-2FD4-438C-8461-1CBCA9DC4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45A2-5562-490C-B720-0C8267165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879B-066D-49ED-B0E9-5420852ED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ADB3-604B-4FE5-BB9C-CA5F690F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F56D-5888-4393-85CA-3F149E002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AEBD-DF9E-4AD1-874A-A1111485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A280-A48C-42FE-92AC-1D31765D9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37D0-F017-4FD4-81F4-EEBF4C2C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9EB8-A1A5-441E-A4F9-B68F3AA7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C1D4-A708-4EF7-A6B9-2D8C26ACCC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387D-DFF7-4FA0-8BBA-3507995BB8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byl vychýlen do nerovnovážné polohy 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 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      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        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Home</cp:lastModifiedBy>
  <dcterms:modified xsi:type="dcterms:W3CDTF">2004-11-11T22:07:45Z</dcterms:modified>
  <cp:revision>1</cp:revision>
  <dc:subject/>
  <dc:title>Základní úpoly</dc:title>
</cp:coreProperties>
</file>