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0703-AB99-4638-A7CF-ADA184949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1F99-0D2E-4384-A0AA-F98A6A6F5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8FC1-DCF0-49AC-B7CF-4175051B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D34F-A7C6-4086-844A-8AC18AD1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EABB0-138D-4F25-95E6-8F487BEEB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21AF-D118-482F-A111-8B283F74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AAFB6-9C50-43F1-9B85-1347C35EF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ADE0-DD98-4D27-BE5D-505BBF84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20431-DF14-4064-A1F9-7B6F890CF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A7FA-363E-4C17-9999-15773EA6E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5D52A-425B-43FE-A8DC-61D287F2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F352-85AC-4B8A-949C-9645C3352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08314-CED5-4AB3-AB67-94113FFB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2F5EA-864B-4593-B44A-6A3DFDA4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36196-2FC0-482A-A837-50AEA8896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1E66-D621-4133-BBED-85500887E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8188-682C-4C31-9B19-C25FE5E36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FEE-85A8-440C-8FA4-1569B738B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8D8B-7CE8-4C68-90FA-C2682D0FC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87F1-0B2A-4A98-AE9B-FD733383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E837-5364-4A3F-A0AB-83F6A9653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BD01-B53B-4D9D-8373-1E88EA20F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0C815-780F-477F-A655-16B4D2DB9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5107-03AF-443E-9DFA-CCE2C006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1A541-E863-437E-B249-72575F04F93A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AE79-80E3-43D2-9FD1-52615B22EDEF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 sporty systém zkoušek, titulů 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 </a:t>
            </a: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é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é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Gracie džúdžucu, capoeira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ázijsk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394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8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8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Reguli</cp:lastModifiedBy>
  <dcterms:modified xsi:type="dcterms:W3CDTF">2006-03-07T13:48:26Z</dcterms:modified>
  <cp:revision>4</cp:revision>
  <dc:subject/>
  <dc:title>Úpoloo</dc:title>
</cp:coreProperties>
</file>