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F126-86F7-4142-AAB5-B69FE5967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A543-B2F3-4F49-95B5-7B4069933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9AD-C4EF-4997-A425-2ACFCBE6FA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97BEF-F164-4C1E-A869-083D55FA9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4B5E2-C728-4450-B403-3AA6554F6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7D6A6-1CF3-4D6B-B729-8E8767D4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E23B8-D34B-4903-8D87-234B805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BF0A-9D7E-4CD1-8F0F-DFF5E74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4AF2-BCC2-44BC-9E6F-D2D68B97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91C58-C5B1-47E7-84B8-39D3F5188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8E54D-4B8F-4398-BF1A-FCA1D6317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A1F-5D8E-42A0-96C9-C96FD31B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14EA-60C5-40FC-84E4-88976E44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60BAF-BB2E-45D9-A215-AB9AAF0B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3E46-FF74-4F48-81CC-B755B219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8E4BF-A037-4A14-B671-1E2128AD1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478FD-3515-4735-9752-3710F1B9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9B7D9-99D1-4837-9618-70D4E01B1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68E-011F-4F90-BA1C-C29E97EC5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0D19-C68A-4FD4-836F-8C7684262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1A1D-2EAC-4687-AE5C-E9A8B2EFF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F55-38D9-48AF-BCF0-4DD741D8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2A4-50A9-48E7-8EFA-A9FB4EA52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E712-54FC-493E-9A86-BE2BA627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2C8D5-8BBD-4F5F-ACD7-01C41395A1EE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5F0A4-DE1C-454A-BF47-CC02050129E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ska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i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y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y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 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 kolenech, případně ve vzporu, či podporu klečmo – vysoký a nízký parter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 paži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ůhlu stability (polohou těžiště nad plochou opory, čím ostřejší je ů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user</cp:lastModifiedBy>
  <dcterms:modified xsi:type="dcterms:W3CDTF">2006-03-07T12:03:18Z</dcterms:modified>
  <cp:revision>6</cp:revision>
  <dc:subject/>
  <dc:title>Základní úpolová technika</dc:title>
</cp:coreProperties>
</file>