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B36-24D7-4F1B-AD4F-949105298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A42E-C723-4A53-B781-BBBC27409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DF2C-A016-4130-8517-05715591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CC7DF-6D2D-41CC-98C9-8E746992A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55EF-8ACA-44D2-9270-204A3618C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E8F75-5584-4A39-B6DB-6D79DBB96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E2CBB-FDE8-4964-AFB8-1ED22D02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3CF5A-FA2A-4A08-9B24-F9E02456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3B975-5F4A-4D32-A650-917A6C9B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C62D-74B0-496D-98A9-342A5C5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4A8B1-5682-4270-B70A-EE305B071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E574-32C6-4502-918D-886E7A09C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5024C-6F04-4A8F-91DB-0E3E388D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639C-A0DD-4F03-AFA1-253E8179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0FD8-287B-4160-9984-E4C1C516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E086-19AF-41F0-A4F0-ECE01211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D649-AB4E-47F8-845D-5F6DF30E9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7E55-D9E3-4177-A274-B9629BCF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1ACBB-31D6-464E-BC96-22EEA742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8262-B938-4029-892D-3239C489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093E5-492F-4A43-93B8-689522B16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50A6-332D-4C78-A1B5-42FF158AE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985-607B-4DD4-8689-A4D506D7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35EA-B3CC-460C-9DA0-3F3125E5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527E8-5F92-42DF-8946-A9D6073D1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237AC-FF26-4A8F-A8D6-8EAB99AF5A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údó, džú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HOME</cp:lastModifiedBy>
  <dcterms:modified xsi:type="dcterms:W3CDTF">2006-03-12T09:26:20Z</dcterms:modified>
  <cp:revision>4</cp:revision>
  <dc:subject/>
  <dc:title>Úpolové sporty na světových hrách</dc:title>
</cp:coreProperties>
</file>