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1933-90E8-455B-8086-25446C35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CB96-3B49-4D7C-BD09-4F503CAE9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6D60-BE52-4357-861B-CA1222D3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4545-0FB4-4E5A-AC3A-A8166258B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9FADD-8C98-4BCC-A260-6472BC27D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98622-58D2-4D5E-8D46-C3B41C439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AE93-B61A-4FAF-A0E4-BC79A7EC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43163-2494-4953-AE1F-1B6A3381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5A2E-5C9D-4767-9939-19C654F9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0CF7E-7AE5-4DDF-929B-71FB70F89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BEA9-30E3-4715-97F7-2FB392DE0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D81F-0FC5-4570-8560-980601AD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B4153-8B27-412D-B565-940F8BDF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53D33-2B5A-4E95-8C8E-096D7517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6E67-8623-4431-9DEA-E40C146C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37ED-FB9D-4AF1-984A-72E6AB128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C237-8DA7-468A-9D7D-69465CF8B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E411-6058-457E-871A-BC6834F80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9498-79BF-4712-B0D8-38D63AB3C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6181-4C09-4DAE-8816-C4EA77116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E8AA-7DA9-49A9-A004-E4366D8E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17FC-A718-48A7-98EF-2FE4BC019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52C2-2DF8-4C9C-B653-C235D73B4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4EC03-DA84-465B-84A7-AA212C97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CCE7-F2E9-4B22-9A59-54B904A2760D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0022-60E2-4312-ADA0-7A4D282E490C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user</cp:lastModifiedBy>
  <dcterms:modified xsi:type="dcterms:W3CDTF">2006-03-07T11:12:11Z</dcterms:modified>
  <cp:revision>7</cp:revision>
  <dc:subject/>
  <dc:title>Z historie úpolových činností</dc:title>
</cp:coreProperties>
</file>