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D5CD-93AF-444F-8EAF-5F1DAA6E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0E45-84E0-4ECA-A0AA-036E31F5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11B7-52D9-462C-B088-9816546C7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2945-3F0E-4178-9EB4-B72CAACB3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69ABB-722A-4AD8-925A-208A6CA0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2FF1-75D1-4C1B-B714-60B205A1A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4FCD-739F-4AF9-A10F-F1740B937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AD7E9-5F40-48BB-B367-4F262DAB9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D2B7-D78C-4741-99E2-A4A18A11A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204B-5C4B-44E0-8A8F-38D7F573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E511-F28E-4E83-8119-7D022408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D4FA-EFFE-42C6-B769-54EE7EBDB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ECE59-D07A-44B4-AC38-3A2ADD78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DFDF-ABE4-43A7-A669-D05B90C4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A2D58-110E-4F3B-BF73-0F89D00E2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35C44-698A-4FC0-B7BC-2E50086A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E9EEE-FF9C-4A6E-91CD-919528C26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12CFC-8EC3-4FFD-9063-CFD2B9EAA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FC54-2A73-48CB-8678-D2DF8C59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7016-B97B-4704-BE60-812CEC0B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DE03-5AB9-4F10-8131-9B003BB5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1B0-A5A5-4873-AA77-ECBB0E2F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6B83-5980-4BAF-9B55-4211D155F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83AA-E524-442E-9193-272849B28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562C-E843-4CD3-A970-C66DD2F98F03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D1E41-6E14-474D-9127-91AE6E2DE003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organizova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outěžná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činno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Reguli</cp:lastModifiedBy>
  <dcterms:modified xsi:type="dcterms:W3CDTF">2006-03-07T13:39:17Z</dcterms:modified>
  <cp:revision>11</cp:revision>
  <dc:subject/>
  <dc:title>Systematika úpolov</dc:title>
</cp:coreProperties>
</file>