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8278-B64F-40FC-A36E-88D5B5A72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6921-0A75-4FF9-A2C3-4D99FFBB3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F0FF-74E5-428A-9F18-66D9E3F15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B2A7-634A-4B2D-840C-17AEAD146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F488-D47B-4042-AA79-504921241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D266-6997-46F6-88BD-1C2FD2CC0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DF8CA-2C8D-4499-BC07-B6F94E05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6FCE-06E3-4CA4-8293-77CD50DE7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B47A8-D789-47E4-886E-7D09C4A2B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494F6-FDC0-4E88-82EE-B5680D3A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C18F-73B6-4358-BA23-370B2463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9355-ACAF-4EB8-A300-83B47E93A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BCE58-21EA-417B-816D-CF62E97C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84686-D666-43B0-AA63-CA13FA24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55684-4F7C-4B3C-B33B-A7F14D26C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6EB-297B-4096-BFB6-5C028521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9C0F4-9160-4667-B8C0-1DC011784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52E2-DAC6-4697-8A96-ED894265F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3696-E6BB-4FC9-8106-5221F7DCF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DF1D-D5DF-4A6A-BD43-D7EE61EBA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6539-686F-4D11-9C3B-D362E70C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EE77-746C-43E7-AD18-3FFF1585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51CC-6986-40CE-8ECF-CDC2D3A45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2036-B60F-4265-AC3C-024B5964E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B5B1-1A15-48B1-ABD3-92874BD852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1DEFC-91C7-4180-89CD-4BE1A13D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I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3-12T11:48:31Z</dcterms:modified>
  <cp:revision>10</cp:revision>
  <dc:subject/>
  <dc:title>Úpoly v osnovách školní TV</dc:title>
</cp:coreProperties>
</file>