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EE45-14F8-421B-9445-91499AEA7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476C-08CD-47CC-8E6B-B63E4024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4C4D-E996-4B69-8A1F-E98359C6C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36FEF-5360-47BC-9EB5-42E9856C9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60491-6880-4CAC-899E-5BACD12A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23A3C-EC59-48B1-9CE7-CAEA0CCF3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5B5EE-21EA-4947-BEA9-1F9E69230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59C5-363E-481A-823D-F98FC938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882FD-60F4-4BD2-B772-CFA67E7D7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8E87C-DB45-4CF4-802E-AE90813F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1C41-F2B6-41AD-9D4B-7F2B40676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3EEE-7F0E-4923-ACE4-CCFF7B4D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1F9D0-47D2-49B3-8F2C-FD3BA7DAA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8240D-17DC-41CB-9B68-F835F2E8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ED463-A329-414A-8E71-912EBD9FC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EAE81-82FC-4799-9B91-0BEE53BF8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2F0BC-8A66-49FA-B83C-70207431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8E44-59D5-4E51-8962-D5C72C6E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2062-C66E-44C0-BAA9-79E56492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7068-9566-4F51-9FD9-925C6B6C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5FDB-381D-4D0B-B8FE-7E6F6433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DDA8-AD13-4FE9-9A05-EE3B117A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157B-41DF-491D-9C01-8BAD9241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6162-AD59-4633-A08C-02C1E2D3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8362-FCE6-44AA-AAFE-103F65E2FB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8672-880D-4622-9232-1B74D0A2B5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ccffff"/>
                </a:solidFill>
                <a:latin typeface="Tahoma"/>
              </a:rPr>
              <a:t>Determinanty didaktiky úpolů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becné determinan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Fylogeneze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ntogeneze pohy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ociální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sychologické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Fylogeneze lid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byly na počátku existence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ové aktivity člověka doprovázeli v kritických obdobích vý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chovaly se archetypy hrdinů – jsou často spojeny s úpolovými aktivit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ní překonání člověka je hluboko v podvědomí, je součástí vnitřní výbavy zdravého jednotli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ntogeneze pohyb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yk je prvním komunikačním prostředkem dítě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ěti spontánně jednají úpolově – v kontaktu (namají jiné prostředky aktivní obr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pontánní aktivity dětí v různých obdobích pohybového vývoje zahrnují úpolové ak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 didaktiku úpolů je kritické období 8 – 9 let, dítě začíná chápat vztah mezi příčinou a důsledk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Sociální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lze (dlouhodobě) provádět osamo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udují se sociální vazby (silněji v bojových umění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úpolových sportů působí na společnost a opač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úpolů musí být spojeno s přísným dodržováním spoločenských norem (etik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Psychologické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tráta vědomé sebekontroly po dobu cvi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s fyzickou (totální) porážkou, nebo vítězstv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bole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gresivita ano, ale konstruktivní (benig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05:35Z</dcterms:created>
  <dc:creator>Home</dc:creator>
  <dc:description/>
  <dc:language>en-US</dc:language>
  <cp:lastModifiedBy>user</cp:lastModifiedBy>
  <dcterms:modified xsi:type="dcterms:W3CDTF">2006-02-26T04:57:23Z</dcterms:modified>
  <cp:revision>3</cp:revision>
  <dc:subject/>
  <dc:title>Determinanty didaktiky úpolů</dc:title>
</cp:coreProperties>
</file>