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13AE5-4666-49C7-ABCF-4BFAA2193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ADBE0-7636-4345-B5D5-D42208680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ED9F0-BCBE-4148-8A6F-89F1E39D5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00E5E-66C4-4136-9F4D-D6789D67A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82F84-B751-4022-95CB-50465E529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1268D-0331-4F95-ACA5-2AD0806B9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95BAC-68B5-4B7C-B658-752A2660F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60564-7C3F-4957-A62E-5D84F9404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DAFE3-C3CA-4E15-BD89-C52AC8E24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044A0-8735-4767-AC01-A39B23D71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FF48C-02AE-4957-9FED-EAC14FD32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B11C6-3A1B-4028-AABB-254FF6987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0F121-F2FC-4481-A77C-B25DC1C2A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C0D17-A498-4452-9871-788952184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5348D-C0B6-4C2E-8B0F-CDDB23253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1D047-E22B-4ABE-9FF1-BB4B71548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0549D-5D2D-4BC1-ABAA-7C76E6D8B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6F5D1-5002-45E1-AB01-1E8A64281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EB6F2-EEBF-4E20-AF0D-6493071A9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8710F-9E84-44BA-97B4-30D78239F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20F94-7BE2-4C2D-9F9C-890667D22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0D21D-0E65-4150-83DC-738D37991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E761F-DF8F-4928-92F5-F6A55A62C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F2969-3603-4851-9242-92CE6708A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554F8-DE03-453B-8F7B-D3D7C96AA87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99" name="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88FFF-87CA-4A8D-A9B5-80432433548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 Black"/>
              </a:rPr>
              <a:t>Úpoly ve sportu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676520" y="4571640"/>
            <a:ext cx="6400800" cy="167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Definice úpolů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 Black"/>
              </a:rPr>
              <a:t>Definice úpolů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Cvičení, toliko za odporu jiného cvičence vykonatelné (Tyrš 1862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Cvičení, při kterém přemáháme sílu jiného cvičence, který nám klade odpor, nebo s námi zápasí (Sokolská s. 1935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Tělesná cvičení, jimiž se v přímém střetnutí s protivníkem usiluje o překonání jeho odporu či jeho přemožení (Fojtík 1980-90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 Black"/>
              </a:rPr>
              <a:t>Definice úpolů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Úpoly jsou pohybové aktivity zacílené na kontaktní fyzické překonání partner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Do úpolů zařazujeme i specifická cvičení, která jsou přímou průpravou na kontaktní překonání partnera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 Black"/>
              </a:rPr>
              <a:t>Spor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Dvojí chápán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Sport jako činnost zaměřena na vrcholní výkon prezentovaný na soutěž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Sport jako jakákoliv zájmová pohybová činnost (Evropská charta sportu, 1992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 Black"/>
              </a:rPr>
              <a:t>1992 – Evropská charta sportu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„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všechny formy tělesné činnosti, které ať již prostřednictvím organizované účasti či nikoli, si kladou za cíl projevení či zdokonalení tělesné i psychické kondice, rozvoj společenských vztahů nebo dosažení výsledků v soutěžích na všech úrovních.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 Black"/>
              </a:rPr>
              <a:t>Úpoly v soustavě TV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1862 M. Tyrš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I.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vičení bez nářadí a bez pomoci nebo odporu jiných cvičenců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        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II. Cvičení nářaďová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        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III. Cvičení se skupině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IV.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Úpo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 Black"/>
              </a:rPr>
              <a:t>Úpoly v soustavě TV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1939 František Smotlach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Přirozená (biologická) cvičební soustav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18 skupin základních a speciálních cviků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VI. skupina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Počátky úbrany a boj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Úpoly: zápas, box, šerm, brana (džúdžucu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 Black"/>
              </a:rPr>
              <a:t>Úpoly v soustavě TV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1945 Václav Fial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44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     </a:t>
            </a:r>
            <a:r>
              <a:rPr b="0" lang="sk-SK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Základn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pohyby z m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44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     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I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Výkonné pohyby s p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ř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dm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ě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44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     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II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Úpo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44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     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V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Pohyby a cvičen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v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vod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44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     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V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Pohyby z m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ta sklz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44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   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VI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Pohyby z m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ta pomoc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portov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níc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h dopravn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ch prost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ř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edk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ů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44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     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VII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anec a cvičen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rytmick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44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     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VIII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ě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locvik prost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44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     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X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ě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locvik na ná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ř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dí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44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     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X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Pohybové h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 Black"/>
              </a:rPr>
              <a:t>Úpoly v soustavě TV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1983 – Kody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-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heuristicko – individuáln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činnosti (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 úpoly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-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senzoricko – koncentračn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činnost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-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rizikové činnost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-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esteticko – koordinačn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činnost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- funkčn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ě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– mobilizačn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činnosti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 Black"/>
              </a:rPr>
              <a:t>Úpoly v soustavě TV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1985 Šprynar – Stráňa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-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ndividuáln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sporty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(atletika, gymnastika,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..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-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úpolov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é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sporty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(zápas, box, šerm, vzp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írání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, ..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-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portov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ní h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 algn="just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technick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é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port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 algn="just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st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ř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eleck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é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port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 Black"/>
              </a:rPr>
              <a:t>Úpoly v soustavě TV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1997 J. Mus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.</a:t>
            </a:r>
            <a:r>
              <a:rPr b="1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 </a:t>
            </a:r>
            <a:r>
              <a:rPr b="1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ndividuáln</a:t>
            </a:r>
            <a:r>
              <a:rPr b="1" lang="sk-SK" sz="24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1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sk-SK" sz="2400" spc="-1" strike="noStrike">
                <a:solidFill>
                  <a:srgbClr val="ffffff"/>
                </a:solidFill>
                <a:latin typeface="Arial"/>
              </a:rPr>
              <a:t>spor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tletick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I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Úpolov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II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Gymnastické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IX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B.</a:t>
            </a:r>
            <a:r>
              <a:rPr b="1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 </a:t>
            </a:r>
            <a:r>
              <a:rPr b="1" lang="sk-SK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portov</a:t>
            </a:r>
            <a:r>
              <a:rPr b="1" lang="sk-SK" sz="2400" spc="-1" strike="noStrike">
                <a:solidFill>
                  <a:srgbClr val="ffffff"/>
                </a:solidFill>
                <a:latin typeface="Arial"/>
              </a:rPr>
              <a:t>ní</a:t>
            </a:r>
            <a:r>
              <a:rPr b="1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h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Br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nkové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VI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Bojov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6T01:24:08Z</dcterms:created>
  <dc:creator>Home</dc:creator>
  <dc:description/>
  <dc:language>en-US</dc:language>
  <cp:lastModifiedBy>user</cp:lastModifiedBy>
  <dcterms:modified xsi:type="dcterms:W3CDTF">2006-03-07T09:50:17Z</dcterms:modified>
  <cp:revision>6</cp:revision>
  <dc:subject/>
  <dc:title>Úpoly ve sportu</dc:title>
</cp:coreProperties>
</file>