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EC6D9-CF25-4D7A-A3AE-7B3AE8ADA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711B-C3A2-496B-BFB4-12B06EC6F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B0E0-072E-4C5E-91C5-88189936F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A4A-227C-4136-9E3B-3E2F4EFB2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E31CC-B041-40A3-9A2F-BBD9F4322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FC261-6CB8-4787-B2A3-4160C8FFA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05DC3-B33C-4F74-AD85-5DE6BFCD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EC5F2-C4FB-4D78-B5FB-BA42432BF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95F-AD5B-4E3E-8AB3-9D407EF2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4D2E-93C7-422A-88EC-6AD5194B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820D7-1A20-4E1A-B828-D6625EAFB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FC9-AFEF-4A92-8976-A8864050C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DA9D1-D7A9-4E31-A3FB-98ED4BD98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73EE7-3489-482E-80A9-C31E013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9B25-239C-48E2-8601-D2128C2D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611D7-8177-45F3-BF55-861FEE4B2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EA0B-2E99-42C0-9DFF-7C0EBEEF0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99AB-799D-4A67-A491-7E3F9B0E5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2794-BD30-45EE-95D8-7A48FA1FE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7712-627C-47D0-9AED-5D5FC527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1D38-252F-4FF7-AC1B-667B5229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1831-2884-4606-830F-CD8902D55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BD5E-C231-4156-A7E4-2B65A745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C56C-7B66-4D22-884A-42B76AC2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6EED-1B6B-4C72-9CA8-12FA9EFED02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8A1F-67A0-4201-A493-0BE5DE827F3D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osobní (+s. že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,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a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09680" y="1447920"/>
          <a:ext cx="467388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1447920"/>
                    <a:ext cx="467388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user</cp:lastModifiedBy>
  <dcterms:modified xsi:type="dcterms:W3CDTF">2006-03-07T11:15:46Z</dcterms:modified>
  <cp:revision>4</cp:revision>
  <dc:subject/>
  <dc:title>Systematika (taxonomie) úpolů</dc:title>
</cp:coreProperties>
</file>