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E554-6A70-4066-8FB5-5C8AF1A9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AE99-BA7C-4042-BC82-E83BE8B42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725E-04FA-40C9-9E65-6AE6A298D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4CA5-062E-44D2-BD17-ECC6AF8D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7AB4-616A-45FD-BA14-647F7CDBB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675B-B723-4165-BEAB-B661FBC5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2FCE-3B2E-4E19-95B2-0178971E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8C7D9-A54F-4A7B-9306-FB487893B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4E24-0531-4777-95CC-0B1BCEC33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DA053-4DE8-4CE1-A5A2-E2DBADBD9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B5B6-7E8D-48A1-B6D5-773616886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1E75-EA2E-4012-8038-ACBAF08E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2EE3-A63A-4E48-A47B-1C559979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BAE4A-3381-46C7-BE2D-0455397E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659CB-5819-4FA5-B186-563D7E86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B49A-6C89-4ACE-B5BB-FAF3B01B4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68DD-37FA-4FE2-97F3-026190C44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D4FE-263F-4129-825C-075B8833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DFAA-9EB6-4766-9826-AEA49AFD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B081-A067-431A-8F7A-4DD267D87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DA3A-06F2-48C8-A06E-D968A682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D031-4E2F-46DF-83E0-71C29499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7671-F66D-4063-BF53-77188C7F5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52302-6D45-4112-9533-FFF8B81F0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F9A0-798F-4ABF-8EDE-D9D508B5A1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1A28-2225-4AA6-A485-60639E2480C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HOME</cp:lastModifiedBy>
  <dcterms:modified xsi:type="dcterms:W3CDTF">2006-03-12T09:24:25Z</dcterms:modified>
  <cp:revision>7</cp:revision>
  <dc:subject/>
  <dc:title>Úpolové sporty uznané IOC</dc:title>
</cp:coreProperties>
</file>