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BDF4C-4827-4D6F-B36D-D20DD2C6C62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13011-3D7D-4E67-BB5A-2FEB281C3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7AB0E-E36B-446B-9368-777809683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9AF47-28A6-4D7C-BAFE-5B46976CF71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F3783-2342-4BA4-ABD1-ECF40A9C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4C186-4632-4559-A52E-2F8A1BFA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D9E041-CD00-4DDF-9062-DD955F773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6032C-A971-4694-87EA-2D7FE3402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BB2BB-8F75-4E1B-949F-B51279C06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2B4B1-F015-4F5D-9379-236CD92AD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4779B-8D4A-4C29-B93D-D30E51136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928B6-EF45-4DEF-BCDF-721C4EEA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4292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44440" y="281160"/>
            <a:ext cx="8439120" cy="838332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4340000">
            <a:off x="2196720" y="819000"/>
            <a:ext cx="139680" cy="18720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360" y="1052640"/>
            <a:ext cx="819000" cy="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0800" y="1041480"/>
            <a:ext cx="0" cy="55548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4320" y="1582560"/>
            <a:ext cx="5545080" cy="2556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19160" y="6191280"/>
            <a:ext cx="9263160" cy="965160"/>
          </a:xfrm>
          <a:custGeom>
            <a:avLst/>
            <a:gdLst/>
            <a:ahLst/>
            <a:rect l="l" t="t" r="r" b="b"/>
            <a:pathLst>
              <a:path w="5835" h="608">
                <a:moveTo>
                  <a:pt x="0" y="241"/>
                </a:moveTo>
                <a:lnTo>
                  <a:pt x="3861" y="241"/>
                </a:lnTo>
                <a:lnTo>
                  <a:pt x="3861" y="202"/>
                </a:lnTo>
                <a:lnTo>
                  <a:pt x="3861" y="174"/>
                </a:lnTo>
                <a:lnTo>
                  <a:pt x="3861" y="145"/>
                </a:lnTo>
                <a:lnTo>
                  <a:pt x="3859" y="0"/>
                </a:lnTo>
                <a:lnTo>
                  <a:pt x="5834" y="0"/>
                </a:lnTo>
                <a:lnTo>
                  <a:pt x="5834" y="607"/>
                </a:lnTo>
                <a:lnTo>
                  <a:pt x="0" y="607"/>
                </a:lnTo>
                <a:lnTo>
                  <a:pt x="0" y="24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376440" y="6576840"/>
            <a:ext cx="2622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08760" y="6178680"/>
            <a:ext cx="15588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08760" y="6191280"/>
            <a:ext cx="0" cy="388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5720" y="281160"/>
            <a:ext cx="847656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400" y="1447"/>
                </a:moveTo>
                <a:arcTo wR="10800" hR="10800" stAng="-7200000" swAng="11040000"/>
                <a:lnTo>
                  <a:pt x="10800" y="10800"/>
                </a:lnTo>
                <a:close/>
              </a:path>
              <a:path fill="none" w="21600" h="21600">
                <a:moveTo>
                  <a:pt x="5400" y="1447"/>
                </a:moveTo>
                <a:arcTo wR="10800" hR="10800" stAng="-7200000" swAng="1104000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body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-6480" y="6526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D5BFA-3007-41B9-B815-4FB49E426C6C}" type="datetime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7154640" y="6526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D18E3-22B7-4A29-B11C-2C42A367D724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1448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4440" y="298440"/>
            <a:ext cx="8439120" cy="838368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2168640"/>
            <a:ext cx="55530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31680" y="2711520"/>
            <a:ext cx="9221760" cy="4309920"/>
          </a:xfrm>
          <a:custGeom>
            <a:avLst/>
            <a:gdLst/>
            <a:ahLst/>
            <a:rect l="l" t="t" r="r" b="b"/>
            <a:pathLst>
              <a:path w="5809" h="2715">
                <a:moveTo>
                  <a:pt x="5808" y="0"/>
                </a:moveTo>
                <a:lnTo>
                  <a:pt x="4322" y="0"/>
                </a:lnTo>
                <a:lnTo>
                  <a:pt x="4322" y="452"/>
                </a:lnTo>
                <a:lnTo>
                  <a:pt x="0" y="443"/>
                </a:lnTo>
                <a:lnTo>
                  <a:pt x="0" y="2714"/>
                </a:lnTo>
                <a:lnTo>
                  <a:pt x="3398" y="2713"/>
                </a:lnTo>
                <a:lnTo>
                  <a:pt x="4311" y="2713"/>
                </a:lnTo>
                <a:lnTo>
                  <a:pt x="5808" y="2713"/>
                </a:lnTo>
                <a:lnTo>
                  <a:pt x="5808" y="0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66840" y="3429000"/>
            <a:ext cx="46483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13720" y="2695680"/>
            <a:ext cx="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26320" y="2695680"/>
            <a:ext cx="8348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200" y="281160"/>
            <a:ext cx="839484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2" y="5753"/>
                </a:moveTo>
                <a:arcTo wR="10800" hR="10800" stAng="-9128530" swAng="12968530"/>
                <a:lnTo>
                  <a:pt x="10800" y="10800"/>
                </a:lnTo>
                <a:close/>
              </a:path>
              <a:path fill="none" w="21600" h="21600">
                <a:moveTo>
                  <a:pt x="1252" y="5753"/>
                </a:moveTo>
                <a:arcTo wR="10800" hR="10800" stAng="-9128530" swAng="1296853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47720" y="2476080"/>
            <a:ext cx="409680" cy="180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1152000" y="2374560"/>
            <a:ext cx="171360" cy="171720"/>
          </a:xfrm>
          <a:prstGeom prst="triangle">
            <a:avLst>
              <a:gd name="adj" fmla="val 49995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788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168640"/>
            <a:ext cx="58212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Funkce bojových umění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01680" y="3940200"/>
            <a:ext cx="55958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Historick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vyhnutelnost boje – rozvoj bojových dovednos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L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br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ít se znamená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lečenské rozdí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0" y="3276720"/>
          <a:ext cx="4237200" cy="28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276720"/>
                    <a:ext cx="4237200" cy="28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254BA3-A891-4FC2-A6D2-3BDAC832262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oučasn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oj tváří v tvář není nevyhnuteln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ransformace 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7720" y="350532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outěžní 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26480" y="42670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ebeobr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760" y="609588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Komplexní rozvo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3276720"/>
            <a:ext cx="2971800" cy="2971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EA2FF-7D8D-4196-BFD8-FA50D1B957E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696600"/>
            <a:ext cx="731520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Čtyřdimenzionální rozvoj (funkce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3481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7479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oc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53341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sych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16765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o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5" name=""/>
          <p:cNvCxnSpPr/>
          <p:nvPr/>
        </p:nvCxnSpPr>
        <p:spPr>
          <a:xfrm>
            <a:off x="2057040" y="5256360"/>
            <a:ext cx="38869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2057400" y="4191120"/>
            <a:ext cx="3962520" cy="10666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2133720"/>
            <a:ext cx="3962520" cy="3124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213372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C184A-9879-4065-8606-42831F9FC14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Funk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6080" y="1980720"/>
            <a:ext cx="4194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zdravý, funkční organizmus a umět ho použí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Být integrovanou lidskou bytos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dobré sociální vzta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smysl živo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410080" y="2438280"/>
            <a:ext cx="3581640" cy="2706840"/>
            <a:chOff x="5410080" y="2438280"/>
            <a:chExt cx="3581640" cy="2706840"/>
          </a:xfrm>
        </p:grpSpPr>
        <p:sp>
          <p:nvSpPr>
            <p:cNvPr id="122" name=""/>
            <p:cNvSpPr/>
            <p:nvPr/>
          </p:nvSpPr>
          <p:spPr>
            <a:xfrm>
              <a:off x="5410080" y="4868640"/>
              <a:ext cx="122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b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63000" y="3809880"/>
              <a:ext cx="126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soc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42440" y="4861080"/>
              <a:ext cx="134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psych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79840" y="2438280"/>
              <a:ext cx="109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no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6" name=""/>
            <p:cNvCxnSpPr/>
            <p:nvPr/>
          </p:nvCxnSpPr>
          <p:spPr>
            <a:xfrm>
              <a:off x="6083640" y="4806720"/>
              <a:ext cx="2149560" cy="14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27" name=""/>
            <p:cNvSpPr/>
            <p:nvPr/>
          </p:nvSpPr>
          <p:spPr>
            <a:xfrm>
              <a:off x="6084000" y="4101840"/>
              <a:ext cx="2190960" cy="705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84000" y="2740680"/>
              <a:ext cx="2190960" cy="20667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79840" y="2740680"/>
              <a:ext cx="0" cy="136116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473F95-FF31-40F8-AEE2-27DB1157513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Biodromalní charakt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Rozvoj těla, duše, společnosti a ducha by měl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kontinuál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končí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3886200"/>
            <a:ext cx="609840" cy="1371600"/>
          </a:xfrm>
          <a:prstGeom prst="downArrow">
            <a:avLst>
              <a:gd name="adj1" fmla="val 50000"/>
              <a:gd name="adj2" fmla="val 5622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518148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eloživotní ce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9A718-399D-4968-8A8E-F892901271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07:30:00Z</dcterms:created>
  <dc:creator>Mala Liyanage</dc:creator>
  <dc:description/>
  <dc:language>en-US</dc:language>
  <cp:lastModifiedBy>HOME</cp:lastModifiedBy>
  <cp:lastPrinted>2003-10-23T14:31:15Z</cp:lastPrinted>
  <dcterms:modified xsi:type="dcterms:W3CDTF">2006-03-08T07:54:27Z</dcterms:modified>
  <cp:revision>63</cp:revision>
  <dc:subject/>
  <dc:title>Selling an Idea or a Product</dc:title>
</cp:coreProperties>
</file>