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CD43F-1B8C-4707-8F53-BA48DF9BC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44C2-066B-4FA6-BABE-CAA7ACE89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AA72-987C-4EC4-A920-AC5882CEA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5052-C05B-49C4-84F2-7EBFE0BDC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6FA1-81B0-4F09-B46B-6ECCEBCB5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8FD5A-2824-4CC4-9352-8B861826B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2E0BB-7A61-49A4-8FEE-CA9F94A0D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BCFB9-959B-4338-9336-A1A8D8A67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2FDA-5036-4D2F-B8A1-8925D5B9D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0DEE-9693-4B93-B102-AC9E7C738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4ADBB-D722-4B08-8676-2F9DF91C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A5F8-A9BE-4A47-B43A-519DFC15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9DE83-3480-4953-A3FC-7C66DF1D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ABC36-5A5D-4D31-BA3A-6F5C0D0A7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146D-3C4D-4CD3-AD7E-7A83B2EC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0D308-7D54-4DF2-9D21-FE669F83D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29373-107E-4F36-8970-8349EA67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3D5-8C68-4A5F-AAD3-54F61EBD6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9FD3-179D-482F-B315-39E19D73C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278-C306-4C4C-AFF0-8ED7D6312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84D4-789A-48A2-AC3D-0A8E14EE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21DE-83C3-4369-A17C-5D73A421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FE7D-798D-4F26-90B8-489B2AFA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3E9-8FCC-4CBF-A731-237A9AAF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557F-9CF5-46CF-BE8D-4FFF0026C10A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E5E37-2AD3-4894-BB83-CE9C0AC3D91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s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čs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HOME</cp:lastModifiedBy>
  <dcterms:modified xsi:type="dcterms:W3CDTF">2006-03-08T06:55:19Z</dcterms:modified>
  <cp:revision>3</cp:revision>
  <dc:subject/>
  <dc:title>Bojová umění</dc:title>
</cp:coreProperties>
</file>