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5E3F-42A0-427C-BBD1-637075EF0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8445-7853-434A-8218-C377C755D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FDF-7C9E-432E-A19C-B5594888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DA6-4F0A-49E2-9826-28C8D0046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978B-B1DD-491E-B30E-2D4889A13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1BC11-386B-4E1E-9776-8C6D90B53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D5DE9-560D-445F-A987-51DC5AD4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0057-E296-414D-8A5B-CE9311C70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22FA5-DBB0-4DC7-8CC6-EF9F9AFA6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DC89B-DD98-45A4-9631-C2C9F0C65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CE694-2BF1-4A64-B068-B2F7D2E9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A5D3-EF8E-4BC7-9083-D416FC634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2E0E-0A31-40ED-B83B-CE0CFED12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A532-BB69-408E-858C-91649B8A6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B14E-C88C-432C-89F8-99B2CF9AC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92D90-DE62-46BE-90E6-B1A390E1C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9771B-8E17-4475-9AFD-C24ED6B8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2B86-F23E-4780-9D7E-93E77870D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8D25-EFED-4074-B76B-60BAE434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5FCB-CDF7-461B-ABAB-07C941CA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3CEE-8A29-4430-A1A0-439DD37F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6637-E68E-494E-8725-AC23C0D5B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D6DF-BD5C-401C-A924-86CEB7C0F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5400-B920-440E-B33D-1A1F908D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0F39-102B-413F-BCB9-39C8E8B3E6F5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D40D0-5FAF-41E3-862F-7CAF56DA63A6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HOME</cp:lastModifiedBy>
  <dcterms:modified xsi:type="dcterms:W3CDTF">2006-03-08T08:12:34Z</dcterms:modified>
  <cp:revision>7</cp:revision>
  <dc:subject/>
  <dc:title>Rozvoj pohybových dovedností</dc:title>
</cp:coreProperties>
</file>