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922E-A58B-4B5E-A801-D45745BE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7BAF8-A0BD-4557-A5A9-78DBE8E2A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28A8-84DF-406A-AA60-5FB7EA648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E5AB-E35D-4F8C-9962-289319150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7D306-609A-4B4C-9A24-DFEABDF60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DD23-EF17-4C1D-9087-56DE22ED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852D4-76BE-4BAB-A2FB-74DBE858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64B4-C2F8-43ED-BA73-415B24A1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3B292-644D-4035-8B87-1CC5FB316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8C2F7-80F2-4335-AC88-A5FB3BFD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4AEA-6785-455C-950F-645267A9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5839-3CF8-404C-9701-454617E1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C34C2-238B-4EBA-B365-6E3F4E6CC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8158F-B562-4E9C-9D36-EF316FB5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4E7D7-F39D-400B-888A-83CAA861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EAD29-1860-4EE0-B775-AB6D6FA9A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1BEB-2039-42C9-ADF7-13849030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A716-4D34-47E5-9943-9C2719F86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FD31-A6D9-4D04-991A-81A330095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D2BE-6ADD-4507-B928-FBE7381ED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79C-5EDC-40DE-B57D-DA5386837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AB9E-590A-401D-BA16-85ED57E1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CB74-1DE7-40D6-A970-B4111F277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A961-6710-4152-BDA2-3D48D36E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1806-DAC2-463F-ABC3-5DBB9B5E119E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06B0-9E2C-4B3A-BB66-A37950C781CB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ku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í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user</cp:lastModifiedBy>
  <dcterms:modified xsi:type="dcterms:W3CDTF">2006-02-16T23:15:16Z</dcterms:modified>
  <cp:revision>5</cp:revision>
  <dc:subject/>
  <dc:title>Úpoly na našich územích</dc:title>
</cp:coreProperties>
</file>