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3C6-B9EC-4586-811F-C050E350B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61A3-D42B-4523-A832-D6809654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2412-D2D0-41D9-B0DE-485E38DB0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DF0-BD31-48F4-8F8A-D1660244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CD78-ACDA-48C0-BBB6-1C148F15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7C9C-02E8-49B4-A771-EEEC2FA1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EA0B-3BF1-4FFD-80FA-A6801D99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8F98-67B2-4E8A-A9FF-BD414AC3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AB12-A3C8-4960-BD40-AEFFA369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8DC2-05E3-40BB-84BD-D9AA08D8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D3FE-5349-464E-B2ED-0327EE67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1F0-0E25-458B-B698-F25478DA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9939-6E6D-4711-9E94-71163A97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87D3-25DA-49DD-B10B-7A181B5E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06D9-20D3-45C2-9FAD-C1A736B6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A652-8AE7-4630-960A-B196A290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2C3B-58C1-4144-9449-224620AB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EBD4-5544-4C40-87F7-67A20776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3FF9-C5FA-4046-95E3-EB939B60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DD86-0F09-467C-B454-253C913C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428-00FD-4294-98FD-9E66E8DB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77DD-D817-4EAA-858A-03627564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7DD4-587F-4FD1-BF2E-9852FF46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451-2362-4FF1-AA81-20598944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923D-EF20-41EB-9B97-FA4179A6842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9159-2273-47EB-8533-F1D2510F373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osobní (+s. že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a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09680" y="1447920"/>
          <a:ext cx="46738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447920"/>
                    <a:ext cx="46738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user</cp:lastModifiedBy>
  <dcterms:modified xsi:type="dcterms:W3CDTF">2006-03-07T11:15:46Z</dcterms:modified>
  <cp:revision>4</cp:revision>
  <dc:subject/>
  <dc:title>Systematika (taxonomie) úpolů</dc:title>
</cp:coreProperties>
</file>