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1F4A-B4A5-4500-A93D-94B91E85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2DAC-2530-4727-B7A0-1260A237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50C-C333-4568-83F1-657172E1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BE5E-2E11-4FBC-918B-40B338C9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A560-883B-4F7A-AEB4-59BC0E96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C28C-587F-4951-B999-6690DA33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8020-5A1A-4AA5-A16F-1C164F6B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B6F1-956B-4CD1-83BF-91D3799B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F8C5-614C-4E74-99DF-D375BC7A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6FE0-C9C9-416A-B5F8-CE9038F4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4470-FEA3-4856-A927-FA208A90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9E2-E037-4409-9180-C3590864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5330-8820-4239-BC2C-44523CBB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C54F-7686-4D76-B538-B0803950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DF1F-BFEE-4223-8320-BC1735DE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E6A4-3467-45ED-BF7A-6C15F4B9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D46A-6810-4E39-8E8A-C0AE58E3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DA22-23FC-4DD7-AC47-CFA838FB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D3F-BE1B-4B22-A129-2DBE87F9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E07-9CA1-4DC9-8999-E66C9B18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6B7-A004-44E1-A412-02ECD765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96E3-8572-447D-A81E-D095F223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E6E4-4688-4679-94EF-27120AA2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913-6BA8-418F-AC76-3B24AE96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38FC-E566-4D98-B2A1-E7589CD197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BE89-4B3F-47B7-BFA5-92796769FE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byl vychýlen do nerovnovážné polohy 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 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Home</cp:lastModifiedBy>
  <dcterms:modified xsi:type="dcterms:W3CDTF">2004-11-11T22:07:45Z</dcterms:modified>
  <cp:revision>1</cp:revision>
  <dc:subject/>
  <dc:title>Základní úpoly</dc:title>
</cp:coreProperties>
</file>