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5FAB-CA6D-46E5-8A26-B630A5AF6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E29E-EACF-4E6C-9CE5-C241D570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0CE5-6952-4132-B4DA-D0403433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6B21-88F8-4721-8808-C13AD874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52EA-5A1C-4454-98C9-340ED96E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C7D7-BDFF-4811-9123-CE6C55EC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2D58-D8DA-4C93-8BAC-C473F1F5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3FD1-BB97-421E-863F-A14DCF59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19DA-C246-4BEC-BED7-67DC0B2F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19EF-8ECE-4291-A815-6B79877F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512D-6FD8-4C70-AE46-EAFF4832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45C1-D176-4138-AD83-C25BE7AF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426C-58B3-4458-B402-50FC4E8A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34FD-1B0D-4F0C-999F-B04919CA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CAB7-2F7C-4688-9ADF-001634C8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2FBC-6AA3-47D7-A0CF-A5D288C0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C1EA-1F93-482F-B86B-8A5FD0074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32D4-E81A-4563-B656-21B3CFF6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241C-62A6-4772-8550-409ADC03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57D4-8BD1-429E-8969-C7BEE586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544C-46EC-490F-820E-AFBBBAE6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C1F6-7CB1-4D54-860B-EEC97586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F4FF-2AA3-4A97-8664-76E0C171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AC7-08FD-4D98-8040-A3E0482F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D2D0-F0AD-4A54-9B69-BE9F733A9478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5694-6AE7-4846-BEA6-09235993062C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HOME</cp:lastModifiedBy>
  <dcterms:modified xsi:type="dcterms:W3CDTF">2006-03-08T08:12:34Z</dcterms:modified>
  <cp:revision>7</cp:revision>
  <dc:subject/>
  <dc:title>Rozvoj pohybových dovedností</dc:title>
</cp:coreProperties>
</file>