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E1B-CAA8-4169-B298-F4BC2964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19FB-755C-48FE-820D-C74C01C3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A854-B88B-44CD-8AC0-7335C1F4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FD2-D891-4C7C-B290-AAFA8FE5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66C8-3E90-4B97-8667-1A869F4B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D793-68BD-47AA-891F-B565D977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C5DD-A4AE-4FE0-A8A8-B67C636E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FA18-7CD6-4928-BD7E-067C4DE5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B63A-862A-4927-A371-87C56FE9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2196-2E6E-4A24-B62D-CAFFFCF6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C34C-666D-41BE-9A70-57969ECC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A27-1BDC-4A09-B432-1DDCC504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FA7D-B523-4C89-A470-7BEF2AC9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A929-D1CE-4DDA-8145-0645EB6A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A65F-6A93-409D-A0E3-B5146895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A692-7B90-4706-A731-5E7BC708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1113-2A72-4AD1-A0CD-5E2DB7D24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F2BE-FF54-41A3-9EE7-2235B9DD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1FBF-EC2A-40EE-AE70-37A336A2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37C-7C6B-4EC4-BC43-7976DFC3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DDC5-6BBC-4533-A81C-733D6788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466-644E-45A6-A643-CF291CEA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2B7-9B5E-4762-8C7E-13C15C8B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4BA-C2D0-4623-99BF-75BEA391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551A-50C7-4370-9F96-F166800F2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823A-A14F-4A46-ADC5-7CE078EB4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HOME</cp:lastModifiedBy>
  <dcterms:modified xsi:type="dcterms:W3CDTF">2006-03-12T09:24:25Z</dcterms:modified>
  <cp:revision>7</cp:revision>
  <dc:subject/>
  <dc:title>Úpolové sporty uznané IOC</dc:title>
</cp:coreProperties>
</file>