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2EA-7746-4B93-B34B-A44498E7E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5FD8-D526-4AB8-B8F2-4981E748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74B-5ED7-4571-91FE-A977D700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5429-A8A5-441A-A495-D01808C0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AB78-3446-4C0A-ACCF-B10FC9CE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3A52C-45B4-4E79-A459-A01FE5D2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3A29-9679-4633-A0D5-C07F2373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C03C-0B24-4E0D-8F16-4C722388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7D28-B9EA-4DBE-BA16-E2C10E8B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89FA-EBD8-4FB7-9E31-694C07D7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F5DC-D46F-4EA8-99D8-000E6E7C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14BF-5C52-40D9-984F-D3512A3D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C1CB-8BBD-4973-8A81-EA4A514B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24B4-5445-4503-854A-7412105D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66A5-C990-42D1-9F41-B67CA4DA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8326-0D4F-4AAF-9C90-7BCA7B9B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D027-EE4A-4881-91C9-00905569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D10-E337-4199-8C83-D1E7AD67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9EF-64AD-4DE4-8035-580B68E5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B406-2780-49E3-B770-4995C981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DAA8-4D42-44A1-A7FA-10DEF6B2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EBA-76C3-4040-AEB5-5740689D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4756-74C5-4D3C-838F-719A88F1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8D3-1DB5-47E9-886E-CEB2D47D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3FEF-5623-4562-8BE3-3B53540A60C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7D62-B11B-4436-9512-31F061EBE57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ku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í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user</cp:lastModifiedBy>
  <dcterms:modified xsi:type="dcterms:W3CDTF">2006-02-16T23:15:16Z</dcterms:modified>
  <cp:revision>5</cp:revision>
  <dc:subject/>
  <dc:title>Úpoly na našich územích</dc:title>
</cp:coreProperties>
</file>