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EAE-C2EF-4EBB-92DE-76F7FC55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CF4-86B9-4207-84CF-4A1786E8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848-E8C3-4ABC-BE9B-130C96CD7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C46-51A0-4A67-96AD-1C342126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D261-412A-4494-8589-FE38966D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AF48-E08F-4FA1-A980-7EDB2B58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5737-0917-4040-9DFE-DA14F6E3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FCD5-D8A7-401D-99ED-DE1BA12F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EB92-E73D-47CB-9499-A11F5C0C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2A7D-D307-46AD-B4F8-22C2AA25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E290-A9FA-486E-96BD-A8982ED3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89B-1855-47CA-87BD-F1C45925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F123-BA2D-406D-8910-5958BB0D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F939-27F9-4C8A-9218-97D4FD50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9AF4-6720-444A-9D0A-F57A2E9F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CFB6-F260-4257-8614-C849E4D5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9DCF-F27D-43B9-BAFC-8C81AD4C2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401-6B05-4B55-A8B3-C1F96C44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D7E-9A13-41C6-ABB9-09BDC6B7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97A-A5A6-4E86-A4B7-6FF8393B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9AB-423B-46F2-8FAD-04F6D500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D7A-1967-4A19-87B4-85455A83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8DE-9845-4DBF-8BF3-4AC3A09B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DC2-A0FB-4EB4-8035-C397E09E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89D8-7840-48E8-869A-6BE2CCD2B543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1A5B-D435-4F23-8751-DE2857380B9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ska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i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y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 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 kolenech, případně ve vzporu, či podporu klečmo – vysoký a nízký par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 paži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ůhlu stability (polohou těžiště nad plochou opory, čím ostřejší je ů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user</cp:lastModifiedBy>
  <dcterms:modified xsi:type="dcterms:W3CDTF">2006-03-07T12:03:18Z</dcterms:modified>
  <cp:revision>6</cp:revision>
  <dc:subject/>
  <dc:title>Základní úpolová technika</dc:title>
</cp:coreProperties>
</file>