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A5F2-5D46-40F6-B2EB-456AE612F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0241-DBD0-4B54-8A2A-CD759B34C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A51A-8245-4CF9-A148-58DDE5D60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D1CD-B153-45C5-847D-AFE6AFEEB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1AD50-C65F-4ED6-8722-851178B13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659A4-4122-4677-886C-4F53A9332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AB092-4057-4E22-9032-5D80AD13D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3D12B-8337-424A-A728-9BE84518D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963D2-A95C-4F6E-AA1A-37B736888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F97EB-6833-4E49-A44B-9F011F41B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44625-BFBB-49F1-9360-B0E21D29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DDBA-943D-4110-8D7C-BC68835C2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5533E-38F2-4E8B-B45C-3E6C7B35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4DAC5-D00B-473B-AC7B-635127F7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B2F66-A10A-462E-AE79-0D576F7C6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5E78F-8341-45BF-A102-E695AF1B6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38420-81A5-4FF9-A6AA-EA8C0A15E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BCDF-BF10-48F5-8EA1-2EE0DC1D8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D129-218C-4389-9302-15F6E0F2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CD99-269B-4DD3-8226-9E9BF42F1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8B81-09CD-4915-B9D1-44209FB9E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AE80-87C5-4043-BA4C-64E729A8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35AD-DA2F-430D-9037-3D309725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26FE-E9C1-4A4C-9895-37852FCB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2317D-52E5-4639-912F-4BCA4AA324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earth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earth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D6218-B77A-46DF-965C-D7D514B68A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Úpoly v osnovách školní TV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ozšiřující uč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lší sebeobranné č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d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seku sho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rated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římý úder rovnostrann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rchní, vnější kry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kop vpř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ámcový vzdělávací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 p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ogram</a:t>
            </a:r>
            <a:br>
              <a:rPr sz="3600"/>
            </a:br>
            <a:r>
              <a:rPr b="0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pro základní vzdělávání</a:t>
            </a: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 (1. stupeň)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ůpravné úpoly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- přetahy a přetlaky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ámcový vzdělávací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 p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ogram</a:t>
            </a:r>
            <a:br>
              <a:rPr sz="3600"/>
            </a:br>
            <a:r>
              <a:rPr b="0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pro základní vzdělávání</a:t>
            </a: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 (1. stupeň)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sebeobran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judó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aikidó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karatedó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Učební dokumenty pro gymnáziá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Specifické poznatky, n</a:t>
            </a:r>
            <a:r>
              <a:rPr b="1" i="1" lang="cs-CZ" sz="2800" spc="-1" strike="noStrike">
                <a:solidFill>
                  <a:srgbClr val="000000"/>
                </a:solidFill>
                <a:latin typeface="TimesCE-BoldItalic"/>
              </a:rPr>
              <a:t>áv</a:t>
            </a: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y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význam úpolových spor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ů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pro sebeobranu a brann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klad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filozofie sebeobran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ch 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nnos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, pr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vnI aspekty vyu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a zneu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boj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ch prvk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klad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zpe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ň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a uvol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ň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l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a; u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dom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si 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ži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; spr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v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d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ch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a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enos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energ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specifika bezpe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osti p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 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ů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pole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Učební dokumenty pro gymnáziá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Pohybov</a:t>
            </a:r>
            <a:r>
              <a:rPr b="1" i="1" lang="cs-CZ" sz="2800" spc="-1" strike="noStrike">
                <a:solidFill>
                  <a:srgbClr val="000000"/>
                </a:solidFill>
                <a:latin typeface="TimesCE-BoldItalic"/>
              </a:rPr>
              <a:t>é</a:t>
            </a: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CE-BoldItalic"/>
              </a:rPr>
              <a:t>č</a:t>
            </a: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Pr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ů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pravn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é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ů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po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tahy, 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tlaky,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ů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olo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odp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ho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postoje, 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a pohyb 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ostoj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ch, odpory 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nich, sledo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soupe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, pohyb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reaguj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c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na pohyb soupe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Sebeobra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soupe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 na zemi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,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boj o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ú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nik z 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na zemi (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obje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z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krc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m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mu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ú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er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seku sho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Učební dokumenty pro gymnáziá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Doporu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č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en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é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 roz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š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i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ř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uj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í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c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í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 u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č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iv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al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š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vhod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sebeobran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inno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žú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k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e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a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gat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oraz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ó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g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o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Aiki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i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pa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, z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(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kruty, vyto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z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Karate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m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ú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er stejnostran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hor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, spod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, v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j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š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kry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kop v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08660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6600"/>
                </a:solidFill>
                <a:latin typeface="Times New Roman"/>
              </a:rPr>
              <a:t>P</a:t>
            </a:r>
            <a:r>
              <a:rPr b="0" i="1" lang="cs-CZ" sz="2400" spc="-1" strike="noStrike">
                <a:solidFill>
                  <a:srgbClr val="cc6600"/>
                </a:solidFill>
                <a:latin typeface="Times New Roman"/>
              </a:rPr>
              <a:t>říklad celoročního plánu pro I. roč. gymnázia, chlapci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2514600" y="838080"/>
            <a:ext cx="47642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Obsah úpolů z pohledu jejich taxonomie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růpravné úpo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Úpolové spo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ebeobra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"/>
          <p:cNvSpPr/>
          <p:nvPr/>
        </p:nvSpPr>
        <p:spPr>
          <a:xfrm rot="16200000">
            <a:off x="3433320" y="3193920"/>
            <a:ext cx="365616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Základní šk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2. stupeň         1. stupe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rot="16200000">
            <a:off x="2987640" y="47383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třední šk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 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Náro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.-9. roč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řetahy, přetlaky a úpolové odpory v různých polohách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řehové postoje a pády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sebeobrany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vybraného úpolového sportu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becná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škola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(6.–9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)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oznatky, návyk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ýznam úpolových sportů pro sebeobranu a brann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ika osvojovaných činnost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ávní aspekty využití a zneužití úpolových činností, etický přínos úpol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fika bezpečnosti a hygieny při úpolových činnoste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ruhy úpolových sport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becná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škola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(6.–9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ohybové č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řetahy, přetlak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úpolové odpory v různých polohá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ád (vzad skulením do kolébky, kotoulem přes rameno, stranou, převalem, navazování pádů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řehové postoje a odpory v ni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ržení soupeře na zemi, boj o únik z držení na zemi (jen 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objetí zpře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škrcení (zpředu, zezadu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úchopům zápěst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seku sho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ikidó – přidržení paže, výkrut zápěstí, vytočení zápěst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karatedó – přímý úder rovnostranný, vrchní kryt, vnější kryt, kop vpř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1. a 2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čiv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 rámci témat "Pohybové hry" a Průpravná kondiční...cvičení je možné zařazovat průpravné přetahy a přetlak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3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5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č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 rámci témat "Pohybové hry" a Průpravná, kondiční...cvičení je možné zařazovat pohybové činnosti z celé škály průpravných úpolů a zdůrazňovat význam vhodné aktivní obrany a přípravy na n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ako rozšiřující může být využito učivo další vzdělávací etapy, přizpůsobené úrovni a zájmům žáků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č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ýznam úpolových sportů pro sebeobranu a brann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ní pojmy osvojovaných činností, názvy úpolových sportů, výstroje, vybaven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ní filozofie bojových a sebeobranných činností, právní aspekty využití a zneužití úpolových činnost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ní principy uvolňování a zpevňování těla a jeho částí, uvědomování si těžiště, správného dýchání a přenosu energ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sady bezpečnosti při úpolových cvičení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ůpravné úpo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řetahy, přetlaky, úpolové odp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ády (vzad skulením do kolébky, kotoulem přes rameno (stranou, převalem), navazování pád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řehové postoje, držení a pohyb v postojích, odpory v ni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ržení soupeře na zemi, boj o únik z držení na zemí (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d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objetí zpře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škrcen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úchopům zápěst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oraz ógoš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kid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přidržení paže (výkruty, vytočení zápěstí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 by měl žák umět (vědě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vědomuje si význam sebeobranných činností a své možnosti ve střetu s protivník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vědomuje si následky zneužití bojových činností a chová se v duchu fair 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ovede pojmenovat osvojované č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zvládá základní postoje, úchopy a vyproštění z držen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2T09:35:44Z</dcterms:created>
  <dc:creator>HOME</dc:creator>
  <dc:description/>
  <dc:language>en-US</dc:language>
  <cp:lastModifiedBy>HOME</cp:lastModifiedBy>
  <dcterms:modified xsi:type="dcterms:W3CDTF">2006-03-12T11:48:31Z</dcterms:modified>
  <cp:revision>10</cp:revision>
  <dc:subject/>
  <dc:title>Úpoly v osnovách školní TV</dc:title>
</cp:coreProperties>
</file>