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9A99-3CEB-4231-B3F0-7C5A0E4F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BA22-9B43-41C5-A445-D69B3295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1E8-AB60-4562-A761-007FCE442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BA8B-35A9-4389-BC63-86E6104B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5C1C-3654-4DFE-88FF-B8CB6550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F3DA-2447-4C62-8DAB-11AE9F01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6AA9-6ABE-4838-83BB-806929DF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5697F-A0E4-4F26-A189-354D67AF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A66A-19E0-462E-AA22-807711DD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50C4-F3DA-47B5-9567-180DAAD1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B574-0247-4530-BF37-7127185A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9635-0216-4D76-A4E4-3967AB60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DEF7-8556-4C91-9AF1-824F131B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BF0D-F29B-46D0-AA5C-B3545784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D422-CFC4-4F3E-9850-C53B1320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911A-9BC2-4720-AFB6-43CC3059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06A4-021F-4306-B925-318C8FD2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E92D-9303-400D-9FFE-955EDA6B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67AA-01E0-4627-842B-8F0A7F78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EB9-2D50-424D-97D2-260A4CB1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E578-E8F4-4A3C-96E7-9516AB8C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B6CF-76B7-48F0-A3BC-2A7EBF41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C09-AE8D-43EA-BD78-BF5A1A90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B82C-6A0B-4556-80DE-7B697B24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6BB6-0A4C-426B-9DFC-4C4DC9870529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9C6A-363F-4CED-87AD-98AC6143CA75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é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é sporty systém zkoušek, titulů 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 </a:t>
            </a: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é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é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Gracie džúdžucu, capoeira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ázijs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Reguli</cp:lastModifiedBy>
  <dcterms:modified xsi:type="dcterms:W3CDTF">2006-03-07T13:48:26Z</dcterms:modified>
  <cp:revision>4</cp:revision>
  <dc:subject/>
  <dc:title>Úpoloo</dc:title>
</cp:coreProperties>
</file>