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B663-2735-41CF-9615-93DC922A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DA72-62EC-4001-9268-31F56B19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C60B-C8DC-4740-9F99-83F284F8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B82F-D6FD-4307-B7BB-94015AC9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C701-1D50-4182-A854-5F9F1E56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D28F-BCAE-440C-8070-45CC3546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24EF-D77D-48BE-B436-B24048F7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29D8-34A6-4A32-8F25-8ADA35B2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BA55-C9E9-4AD8-84CD-AAEAFC44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480A-196F-4C36-B515-0CA25221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BC13-40A1-40C8-9353-408FD79F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960F-ECD5-4015-A3D5-AA6656D4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99A6-473A-4372-803C-09089C99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B5D6-6A4C-41EF-AFBC-E5CC0BAE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E7E2-0C43-435B-B6EE-74FADF6F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C155-9316-48D6-B494-C736426A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AFA4-481F-4353-9D14-ECD8BFC3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5A5B-40EC-4531-B381-D648FF4B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4BBB-4D5A-4E3C-93B2-E9C03C3D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31E6-7751-40E6-AD91-A0EB3A26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90E9-FC27-4169-9492-0C8A0EE2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C843-CA93-4672-9EF4-462451C4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3532-27F5-4384-ADDB-C767F1BE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D1E-9D4A-48F4-9807-60A0617C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2EAA-D6BB-4187-834E-B9646F07B9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1ACE-4A0A-4A55-AC3C-CDF6BE3D9A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ccffff"/>
                </a:solidFill>
                <a:latin typeface="Tahoma"/>
              </a:rPr>
              <a:t>Determinanty didaktiky úpolů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becné determinan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Fylogeneze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ntogeneze pohy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ociální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sychologické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Fylogeneze lid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byly na počátku existence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ové aktivity člověka doprovázeli v kritických obdobích vý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chovaly se archetypy hrdinů – jsou často spojeny s úpolovými aktivit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ní překonání člověka je hluboko v podvědomí, je součástí vnitřní výbavy zdravého jednotli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ntogeneze pohyb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yk je prvním komunikačním prostředkem dítě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ěti spontánně jednají úpolově – v kontaktu (namají jiné prostředky aktivní obr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pontánní aktivity dětí v různých obdobích pohybového vývoje zahrnují úpolové ak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 didaktiku úpolů je kritické období 8 – 9 let, dítě začíná chápat vztah mezi příčinou a důsledk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Sociální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lze (dlouhodobě) provádět osamo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udují se sociální vazby (silněji v bojových umění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úpolových sportů působí na společnost a opač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úpolů musí být spojeno s přísným dodržováním spoločenských norem (etik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Psychologické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tráta vědomé sebekontroly po dobu cvi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s fyzickou (totální) porážkou, nebo vítězstv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bole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gresivita ano, ale konstruktivní (benig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05:35Z</dcterms:created>
  <dc:creator>Home</dc:creator>
  <dc:description/>
  <dc:language>en-US</dc:language>
  <cp:lastModifiedBy>user</cp:lastModifiedBy>
  <dcterms:modified xsi:type="dcterms:W3CDTF">2006-02-26T04:57:23Z</dcterms:modified>
  <cp:revision>3</cp:revision>
  <dc:subject/>
  <dc:title>Determinanty didaktiky úpolů</dc:title>
</cp:coreProperties>
</file>