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B941-B20B-435B-9B18-F832CAA00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E8DA-9B5E-4A04-8517-DE7303BD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C1EF-4053-4A0E-9810-82A13C60D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CAAE-DDA6-49FC-ABCA-A766F56BE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DD0C-CB26-4B3E-A9BE-D952510D2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E3B7-8128-41FF-9E19-D5728408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B0F2-FD12-491E-8EE5-E7AF31CD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3866-7ADE-4D5B-A29C-927E9423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FEAC-9736-4868-B402-BBBE9E65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B221-964F-436E-8DB5-3ACE409E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CB82-09D3-45E2-9BEB-986D35B0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F2E9-5C56-4182-8586-5CD7C6F9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E2F1-58BC-4F09-8ACE-14A6D91F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E826-80BB-406E-855F-361A92AC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8541-D503-4B51-B96A-17D095AE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D098-8CFC-4B3E-9B93-EB3E12B14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18F4-D20B-4732-A382-983476E9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935E-C652-40A7-83DE-C5A49DD2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3275-DB97-4452-9C1C-600E16FF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3601-BAC5-46A1-ABCF-FBFBC329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C831-6B40-42D1-A4DD-0B794782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CFA8-9971-42BC-A182-FBD49BF6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E446-DDE1-4335-89CA-447FBF6F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3C44-ACF0-4AD0-A6CF-6DC56A32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7A31-9108-49DB-AB45-A7EB856C0B35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22E2-78F1-49D4-906D-F0DB7CC6C83C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Název 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astěji se používá od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.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198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ejednotné chápán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sijské systém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 o úpolových sportec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– martial arts (ang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Art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uměn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Martial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vztahující se k bohu Marsovi (řecky Áre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bojový, vojenský, válečný, souvisejíci s bojem a válkou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(definice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zejména pohybové systémy, které se vyvinuli ze starých způsobů boje, a které se dnes provádějí jako součást životní cesty, pro sport, sebeobranu, nebo je jejich cílem zachování tradice a kulturního dědičství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, co se dotýká vedení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echniky, taktika, technolog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y jsou pohybovými aktivitami, pracují s kontakt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2257560"/>
          <a:ext cx="7927920" cy="361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57560"/>
                    <a:ext cx="792792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6:45:27Z</dcterms:created>
  <dc:creator>Home</dc:creator>
  <dc:description/>
  <dc:language>en-US</dc:language>
  <cp:lastModifiedBy>HOME</cp:lastModifiedBy>
  <dcterms:modified xsi:type="dcterms:W3CDTF">2006-03-08T06:55:19Z</dcterms:modified>
  <cp:revision>3</cp:revision>
  <dc:subject/>
  <dc:title>Bojová umění</dc:title>
</cp:coreProperties>
</file>