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627-9C7B-4426-BD0D-5D00C8DC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B7E-BDD4-456D-BA82-B559D6B1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04D-0539-4B62-97E6-6C774479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824-DE7C-4A17-B037-C5B65827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30F4-2811-4A14-A754-17C3A954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21C3-4A8A-4207-A4AE-CB496F5E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77B7-C85D-4CB2-8386-56DCB0F3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4E13-C006-4735-A1AE-98215844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6FB2-575E-4068-A86E-307CE537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B26C-D067-47B6-AD5A-07C1C30C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08DF-7E83-4415-87AF-7900A77E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4295-299A-4ADF-AF4E-4ECB6FAB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6AEC-DE28-457E-973A-1C0B275F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F206-3224-4AFE-9A38-750234E9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E587-4A20-49FA-93F7-0EDD75A0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8805-3058-429A-9309-818994AE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0EEC-EB92-4CFB-8FBE-86B9D289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200-5162-49E0-A3E4-756B4D87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69B-9225-44F1-A080-1019ADC9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A21-D6F7-4386-8042-ED95011C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6A8-3C60-4502-A365-8E91801F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2DC-375B-49EF-967C-20C85EC8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091-53AF-4C3F-83A8-D4E3F704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E2A-ACFC-4859-B32A-F67E463C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267D-4520-49F4-A310-9AEB60B19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3361-4D3E-498F-893D-585F1BEDA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údó, džú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HOME</cp:lastModifiedBy>
  <dcterms:modified xsi:type="dcterms:W3CDTF">2006-03-12T09:26:20Z</dcterms:modified>
  <cp:revision>4</cp:revision>
  <dc:subject/>
  <dc:title>Úpolové sporty na světových hrách</dc:title>
</cp:coreProperties>
</file>