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5026-B49D-4D57-B630-E77304D99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DC53-0D47-4021-BB1E-842465A3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D2DE-95D6-498A-B9B4-12B3D92F6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8931-C081-4DC9-944D-FDD0FDFD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50F5-B290-4FB0-A1C9-07C807989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C537-DAE0-4B6A-A6AA-0C0CE0F2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D094-5B74-40D7-A5BA-62321E26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53D4-07FA-45B4-B36D-90653BDA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0A3A-ADDA-4A53-854B-6927D3E0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BFBC-CD0F-48EB-8B76-36359EBA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842A-E708-48D0-9093-BD9BB346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26D9-6F25-4403-AEBB-15BBE701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7955-2800-4AE5-99DA-431FD325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34AD-C627-44DD-A974-23615398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63AC-2B02-4723-B5BE-16F220DC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28C5-F726-4BA1-A4FE-0B7FEA52F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D9F2-9DBE-4315-80BC-F90D3A732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567F-89AB-4932-82F1-61940C5A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683B-50BC-4FA2-B6C9-44BA0203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5004-2639-4E46-B67E-26BAC09D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12C6-AE82-433D-8234-3EEC1712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70BA-2DDE-43D5-AB81-009D6591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02B6-5074-4EB1-9FF3-FB790E65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85DC-E051-44A0-99C9-5A1E7571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7339-16C7-4F63-92A8-784CBBA9DBE5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0363-83FF-457A-8873-E65A1627543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ty tě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tace kolem podélné osy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s pohyby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yužití – úhyby, přemístění, hody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 vztahu k partnerovi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 partnerov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ím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obrate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místění skokem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ískoky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dskok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Chů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kročení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unem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Pohyb začíná noh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imalizování vertikálního pohybu těžišt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ustálý kontakt s podložk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ednota pohybu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ntakt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or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l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u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avou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působ kontaktu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tyk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cho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bjetí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vedání, nošení a spouštění živého břem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ěžiska obou cvičenců 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í být co nejblíž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emeno zvedáme silou z pokrčených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áda jsou narovnan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chování stabilit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směru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pře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za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ranou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mbinova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otočení kolem příčné osi těl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převra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převratu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způsobu tlumení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zaražen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e zaražení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letové fázy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letové fázy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letovou fázou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úrovně ve které pád začíná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 postoj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e snížených poloh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rovádějícího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chtě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íle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artner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loh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chody (mezi poloham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paž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noh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obraty tě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místě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navázání kontakt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zvedání, nošení a spouštění živého břemene (partner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á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Stře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avý stře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evý střeh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Úrove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podní střeh (od pásu dolů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dní střeh (v úrovni trup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rní střeh (v úrovni krku a hlavy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postoj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klek (na jednom, nebo na obou kolenech, případně ve vzporu, či podporu klečmo – vysoký a nízký par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sed (s oporou, nebo bez opory o paži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leh (za zádech, na boku a na břichu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Biomechanické faktory sta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plochy opory (čím je plocha opory větší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ýška těžiště nad plochou opory (čím je těžiště níž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ůhlu stability (polohou těžiště nad plochou opory, čím ostřejší je ůhel stability, tím je poloha stabilnější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cho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vyšší polohy do niž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nižší polohy do vyš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paž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pohybové vzor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Navázání kontakt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šechny úd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pohybu těla s pohybem paž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noho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Kop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krok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0:54:38Z</dcterms:created>
  <dc:creator>Home</dc:creator>
  <dc:description/>
  <dc:language>en-US</dc:language>
  <cp:lastModifiedBy>user</cp:lastModifiedBy>
  <dcterms:modified xsi:type="dcterms:W3CDTF">2006-03-07T12:03:18Z</dcterms:modified>
  <cp:revision>6</cp:revision>
  <dc:subject/>
  <dc:title>Základní úpolová technika</dc:title>
</cp:coreProperties>
</file>