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EB0B-D832-465A-9757-38197BF9B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146D-A7B9-426E-8494-D196C5269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17FC-491F-498B-A37A-E21AB5E3A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B1F6-09AB-44EA-84FA-F0FB02BAF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44470-FBCE-4F3E-A966-C7926BA83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6F840-3DC2-4BE4-ACC7-2AB05F1B2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8B4F8-FBE7-49C8-8CC1-5C5B6C976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69F5D-AFA3-440D-AA91-FF94ED44A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9F8B9-7470-42F8-9D17-0A929471A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94A0C-DD6A-45BA-BCD2-7A0E78AE8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3C182-0B5B-4958-A791-097E40BD4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5EA0-D843-493A-BB53-C561F5D1F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3FCE9-5CD6-4698-B730-19CF517F1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7D7E2-B2B4-41A0-A25F-47FC6B61A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DD0C1-198D-4C58-B1FB-D87BA1A6A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928BA-EC4C-4570-BD62-586C98EE1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B382C-7054-4AB8-81B8-422AE25CD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6AE0-BB8E-4C9A-A0B8-924076793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EA6B-FC7F-405D-BBAC-ABD1274FF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7542-8ECD-47DD-8508-AF29BB550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7739-5545-459B-B10E-94247567B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5483-7232-4496-A28C-962722BC8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A4BD-5A75-45BC-A5AB-94A291E15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C30D-C6C5-400B-A289-4217F542B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1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4DB9C-E274-435C-834C-24F1A1BD6E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52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0AC3E-8531-4222-8F7C-54886CA84E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Základní úpol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Průpravné úpol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ůpravná cvičení pro jednotlivé úpolové sporty</a:t>
            </a:r>
            <a:r>
              <a:rPr b="1" i="1" lang="sk-SK" sz="2800" spc="-1" strike="noStrike">
                <a:solidFill>
                  <a:srgbClr val="ffffff"/>
                </a:solidFill>
                <a:latin typeface="Times New Roman"/>
              </a:rPr>
              <a:t>, sebeobranu a tělesnou výchovu a sport</a:t>
            </a:r>
            <a:r>
              <a:rPr b="1" i="1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zvíjejí úpolové předpoklady pro nácvik úpolových sportů a sebeobran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Rozdělení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imes New Roman"/>
              </a:rPr>
              <a:t>Základní úpolová technik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imes New Roman"/>
              </a:rPr>
              <a:t>Základní úpo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Základní úpol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etahy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etlaky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por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charakterem přetahů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 charakterem přetlaků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stní odpor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Prostorové vztahy základních úpolů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219320" y="2036880"/>
          <a:ext cx="6781680" cy="459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036880"/>
                    <a:ext cx="6781680" cy="459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Přetahy, přetlak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středivě </a:t>
            </a:r>
            <a:r>
              <a:rPr b="0" lang="cs-CZ" sz="3200" spc="-1" strike="noStrike">
                <a:solidFill>
                  <a:srgbClr val="ffffff"/>
                </a:solidFill>
                <a:latin typeface="Symbol"/>
                <a:ea typeface="Symbol"/>
              </a:rPr>
              <a:t>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 přetah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středivě </a:t>
            </a:r>
            <a:r>
              <a:rPr b="0" lang="cs-CZ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Symbol"/>
                <a:ea typeface="Symbol"/>
              </a:rPr>
              <a:t>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 přetlaků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Úkoly (přetah za jednu paži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upeř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byl vychýlen do nerovnovážné polohy natolik, že musí změnit postoj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dotkl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e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teroukoliv částí těla území přetahujícího cvič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žádnou částí těla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e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dotýkal svého územ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-             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yl nucen paži napnou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Odpor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pory s charakterem přetahů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pory s charakterem přetlaků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lastní odpor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Úpolový cíl u odporů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emístění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emístit (vychýlit z rovnováhy) partnera (horizontálně i vertikálně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měnit polohu určené části těla (končetiny, trup, hlava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emístit předmět držený partnerem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žení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držet partnera (horizontálně i vertikálně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držet polohu určené části těla (končetiny, trup, hlava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držet držený předmět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Úpolový cíl u odporů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vázání kontaktu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tknout se nebo uchopit partnera (určenou část jeho těla), či předmětu, který drží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abránění kontaktu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abránit dotyku nebo úchopu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1T21:45:10Z</dcterms:created>
  <dc:creator>Home</dc:creator>
  <dc:description/>
  <dc:language>en-US</dc:language>
  <cp:lastModifiedBy>Home</cp:lastModifiedBy>
  <dcterms:modified xsi:type="dcterms:W3CDTF">2004-11-11T22:07:45Z</dcterms:modified>
  <cp:revision>1</cp:revision>
  <dc:subject/>
  <dc:title>Základní úpoly</dc:title>
</cp:coreProperties>
</file>