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299-4AE3-452D-B5A3-B75872F7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5AA4-D8EB-4870-9EB7-80603ED2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38A-F6D1-4358-8ADC-337A112E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820-F3DF-4B35-96CD-8493C9D9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586E-BD51-4E75-B746-22646075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2E4B-B721-491A-AE7A-0FDDB3CF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5CCE-0477-4718-B6FC-1244D293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60DD-8329-4E33-AAC3-5AEFB312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0A1F-BA6C-4961-9F4C-70D11504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E20C-498B-47A3-9479-1789058E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93E0-B620-42E7-B62C-1CED03B3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939-1539-463F-83A0-54523BA7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2BB1-E5B9-48ED-914C-DDA07AF7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B1F4-F980-4DDC-AEE2-23C3733A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FB8B-AAE7-4368-91A9-DE159127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0E71-9CB4-4745-B2E6-47E4471B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1D0C-7B9C-4E65-B0A1-3FDB7A15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F49-652A-49B5-B6C6-06FE2C16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038-D5B6-4F85-8FEB-27C5F7AD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46C-4E1F-426C-82D5-8DA08AA0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360-221F-4DBA-B44A-AD43B021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398-E3C9-43C2-8E88-9D6A0F80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30C-482F-4592-BE7A-20CD3BB0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74D-E8F7-42BD-9799-86D857A9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20DD-75F7-4843-BDD8-DEA7DC8E2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57D4-4CAF-4714-BD5F-B42B38AEC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i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a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user</cp:lastModifiedBy>
  <dcterms:modified xsi:type="dcterms:W3CDTF">2006-02-26T04:57:23Z</dcterms:modified>
  <cp:revision>3</cp:revision>
  <dc:subject/>
  <dc:title>Determinanty didaktiky úpolů</dc:title>
</cp:coreProperties>
</file>