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B13-DB33-48EC-A08B-D493E2C0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284-711D-45FF-8F95-23985896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1FF-8018-4B38-AC4B-6C2E0152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F57-F607-46BE-A870-21F32519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6B8D-CAE2-4015-8C7A-E992C19F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FC26-A422-4B1A-A35B-F698C7E4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CDFF-D434-4803-A4B1-0FE5A70A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7649-40D7-4D04-9701-C6DEA38F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419B-E34D-4453-AA60-C4263316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2211-7862-4ED6-953F-FB1702B2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DAA3-1BBE-47DC-8E6D-512022A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590-95B2-4F27-99D6-1BD55A8D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FD81-7D20-4CA1-B969-E895C4D3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0184-F2F7-4381-A536-493D8261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7E51-384E-450C-88B4-3A25DEFD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396C-7C6E-49F2-98C8-178815A9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608B-5B93-411C-BB7F-56784680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D39-2BB0-4753-9D66-69738DD5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81D-1CD8-464E-9062-B7D87841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D88-49C1-4D60-A77A-CD7F8A92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2E4-8413-4B52-8BE8-D30EA719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6ED-121F-4330-AE71-6E1E8F18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1A5-78C5-4035-B13F-96D810EA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B42-9659-477F-9BFC-8FFAA569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5A7B-3272-4805-A724-00E895E76856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2B51-CD72-4170-ABBA-309A01671B5D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 sporty systém zkoušek, titulů 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 </a:t>
            </a: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Gracie džúdžucu, capoeira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ázij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Reguli</cp:lastModifiedBy>
  <dcterms:modified xsi:type="dcterms:W3CDTF">2006-03-07T13:48:26Z</dcterms:modified>
  <cp:revision>4</cp:revision>
  <dc:subject/>
  <dc:title>Úpoloo</dc:title>
</cp:coreProperties>
</file>