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00A0-E5E2-48B9-937A-F84F5D10B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85FD-F3E6-4A70-93C9-E05BA988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B4BF-C714-43F3-AFC4-07A59D151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902D-4F8B-45CE-B528-3156FECCE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5B35-DA24-455D-AED9-3E3F1393B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C759-2DFE-47B1-ABA4-CBC471E5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FE8A-DA93-456C-9CAF-59429BAF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9DC9-CCCF-456B-A400-3A688520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3D77-CE69-4B9F-83A4-00DD5B6B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6938-89C3-4D97-90FF-996E60AA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1330-C959-4B59-BAC8-E9AB932D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BC71-EE42-4D25-8829-CDDD846A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C611-0882-40F0-8542-B398E409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A169-1F61-4846-A3FE-50A36574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CA99-9F80-4054-BC02-86474DA7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FEA9-B631-4971-89C0-46C6C0191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3225-810D-4E20-89BB-ED0CD8CF6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789E-673E-4B44-A8D8-DA123DAF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C3A7-0846-464A-9A18-FAABD6EB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1FE4-8922-4826-8675-2EBF5AF8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C905-D59E-4B52-9D78-23105888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8AE5-AA7E-42DA-97B1-C55FF0C4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C90D-D7E8-4A65-A855-AC1DAB20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B433-5BA3-474E-9F18-3C705316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08FF-15C9-4014-84D1-F2DA2AA8FD81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B987-573E-4EED-9C87-4CCB5C8F92AD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Rozvoj úpolových pohybových dovednost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časového omezení (cvičení se končí splněním úpolového úkol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ovým omezením (cvičení se končí po uplynutí určeného čas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prostorového omezení (cvičenci využívají všechen dostup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ovým omezením (cvičenci mohou využívat jen omeze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y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omezení prostředků (cvičenec může použít na splnění úkolu jakýkoliv pohybový prostředek v souladu s druhem cvičen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omezením prostředků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Způsoby rozvoje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Nácvik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Výkon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Nácvik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učení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 pohybovým dovednostem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určení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Výkon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rojev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hybov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h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dovednost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í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portov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podle soutěžního nebo jiného (např. zkušebního) řádu (i verbálně formulovaného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beobrann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ve skutečné krizové situaci, vyžadující konat v mezích nutné obrany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rozdělení úkol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rozeznáváme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viče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rozdělením úkolů (na obránce a útočníka, jeden z cvičenců je po dobu jednoho cvičení vždy jen obráncem nebo jen útočníkem, jejich pohybové (úpolové) úkoly se liš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rozdělení úkolů (cvičenci jsou současně obránci i útočníky, úkoly zúčastněných jsou zpravidla stejné)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počtu účastník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(mohou mít rozdílné nebo stejné úkoly) rozdělujeme cvičení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dvojic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kupin (za skupinu považujeme již triádu a každý další větší celek)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aždý proti každému – každý člen skupiny bojuje proti všem ostatním sám za seb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upina proti skupině – cvičenci bojují společně, rozdělení ve skupinách, členové každé skupiny navzájem kooperují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jednotlivec proti skupině – cvičenec bojuje proti skupině jako celku, nebo postupně proti jednotlivcům ze skupiny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63634"/>
                </a:solidFill>
                <a:latin typeface="Times New Roman"/>
              </a:rPr>
              <a:t>Podle </a:t>
            </a:r>
            <a:r>
              <a:rPr b="1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ásti těla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jako cvičení: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až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oho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trup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hlavy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binované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řad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řad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a nářadí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či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čin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náčiním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21:10:25Z</dcterms:created>
  <dc:creator>Home</dc:creator>
  <dc:description/>
  <dc:language>en-US</dc:language>
  <cp:lastModifiedBy>HOME</cp:lastModifiedBy>
  <dcterms:modified xsi:type="dcterms:W3CDTF">2006-03-08T08:12:34Z</dcterms:modified>
  <cp:revision>7</cp:revision>
  <dc:subject/>
  <dc:title>Rozvoj pohybových dovedností</dc:title>
</cp:coreProperties>
</file>