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B8A8-01FD-4643-B09C-062E86014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2668-3F12-4F2E-A9F0-44FD3D1A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2332-DDF8-4D96-A7D5-9227D8CC5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1D7E-0565-482A-8F27-8967A8CFC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3A2A-95DB-49D4-BD01-202C7B6E8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58A5-C08A-46C3-927D-BA95AE66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CF03-BACF-4D68-ADA8-32561DA6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60A0-5D78-4165-92F2-2D22A57D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D865-7334-480B-A133-448CF609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9E19-F85C-4630-BE7A-39493793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3A1C-723A-4177-BD41-346374DF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193C-59CA-43C2-8926-9AF5F2DA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009C-5D30-496D-B555-A883B9FB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C31A-BC25-4B47-AC38-97532BB5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C4AB-1C3C-481F-ADD6-6C63721F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696A-F6BB-4C8D-B4F1-872069758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2FF7-0119-4FC7-BCFD-9DE90E3D8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E899-F3BE-4C5D-AECE-01942AE3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66F4-F552-4C69-A9C8-8A74DBFA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43F9-088C-4EDA-B416-F8913D92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E271-4982-4EA9-8717-161F86E3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C073-9400-420E-AFB4-EDBCEC74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5F5B-5894-45B0-B4D2-28B66C00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B0F7-5B25-4B16-B7FA-3F2447EE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AFAA-C83D-4F2B-970E-C35A3B83479D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A1B3-CB2C-427D-805B-E6D3E54273CC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Název 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astěji se používá od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.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198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ejednotné chápán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sijské systém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 o úpolových sportec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– martial arts (ang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Art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uměn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Martial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vztahující se k bohu Marsovi (řecky Áre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bojový, vojenský, válečný, souvisejíci s bojem a válkou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(definice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zejména pohybové systémy, které se vyvinuli ze starých způsobů boje, a které se dnes provádějí jako součást životní cesty, pro sport, sebeobranu, nebo je jejich cílem zachování tradice a kulturního dědičství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, co se dotýká vedení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echniky, taktika, technolog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y jsou pohybovými aktivitami, pracují s kontakt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9480" y="2257560"/>
          <a:ext cx="7927920" cy="361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57560"/>
                    <a:ext cx="792792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16:45:27Z</dcterms:created>
  <dc:creator>Home</dc:creator>
  <dc:description/>
  <dc:language>en-US</dc:language>
  <cp:lastModifiedBy>HOME</cp:lastModifiedBy>
  <dcterms:modified xsi:type="dcterms:W3CDTF">2006-03-08T06:55:19Z</dcterms:modified>
  <cp:revision>3</cp:revision>
  <dc:subject/>
  <dc:title>Bojová umění</dc:title>
</cp:coreProperties>
</file>