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EFF0F-7A9E-4267-88A1-45FE57821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828C7-0F2B-451D-95F3-16119C267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E2230-00E0-4F43-8154-F7B21FF6D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7A06C-943C-4C2E-A992-AF0756A7A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4F480-1544-44C9-A451-429361A85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2F335-71EA-457E-AC91-7489562BF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12B9B-3104-4D38-9DE4-FBB8F4492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2F354-4E9F-480E-880E-102F090D6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F2B2A-A055-45AB-AE33-0E29AD351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D855F-7BFF-4A3A-AB87-3C730ADE8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BDB26-52F4-46C4-9259-A2090C201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F03D2-2261-4364-B772-00E25C887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7723A-0F0C-450C-B96E-98FEBA1FF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57216-5D7B-41F1-8352-8EE11D566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DAD9B-0B54-404F-AA7B-7F99580F3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86CE1-40B6-48A5-94F0-D6760FAA1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930C2-1987-4A2D-B1DC-094344136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7B58C-C5B5-49E4-BC18-B017E3847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65920-9586-47B2-A4D6-2329DEAD8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86FEB-F491-4D36-9498-A254AF252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9480E-E7F5-4554-962B-2DEE55629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29E06-A230-45FF-A314-81679EF68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32433-67F2-4958-87C2-8BA35B333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21AB8-1669-4FC6-9C31-FAAC19A2B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A0D26-FF22-46F4-8E95-BF92868AC8FD}" type="slidenum">
              <a:rPr b="0" lang="en-US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5047F-D94A-46F3-966F-F459C9A3FCFE}" type="slidenum">
              <a:rPr b="0" lang="en-US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ff99"/>
                </a:solidFill>
                <a:latin typeface="Tahoma"/>
              </a:rPr>
              <a:t>Úpoly a pohybové hry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ffffff"/>
                </a:solidFill>
                <a:latin typeface="Tahoma"/>
              </a:rPr>
              <a:t>Úloha her v životě člověk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8f8f8"/>
                </a:solidFill>
                <a:latin typeface="Tahoma"/>
              </a:rPr>
              <a:t>Napodobování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8f8f8"/>
                </a:solidFill>
                <a:latin typeface="Tahoma"/>
                <a:ea typeface="Times New Roman"/>
              </a:rPr>
              <a:t>pracovní činnosti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8f8f8"/>
                </a:solidFill>
                <a:latin typeface="Tahoma"/>
                <a:ea typeface="Times New Roman"/>
              </a:rPr>
              <a:t>společenské rol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8f8f8"/>
                </a:solidFill>
                <a:latin typeface="Tahoma"/>
                <a:ea typeface="Times New Roman"/>
              </a:rPr>
              <a:t>životní situac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8f8f8"/>
                </a:solidFill>
                <a:latin typeface="Tahoma"/>
              </a:rPr>
              <a:t>..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8f8f8"/>
                </a:solidFill>
                <a:latin typeface="Tahoma"/>
                <a:ea typeface="Times New Roman"/>
              </a:rPr>
              <a:t>Poskytují</a:t>
            </a:r>
            <a:r>
              <a:rPr b="0" lang="cs-CZ" sz="2800" spc="-1" strike="noStrike">
                <a:solidFill>
                  <a:srgbClr val="f8f8f8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8f8f8"/>
                </a:solidFill>
                <a:latin typeface="Tahoma"/>
                <a:ea typeface="Times New Roman"/>
              </a:rPr>
              <a:t>způsob aktivního odpočinku s velkým kompenzačním a psychohygienickým účinkem</a:t>
            </a: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ffffff"/>
                </a:solidFill>
                <a:latin typeface="Tahoma"/>
              </a:rPr>
              <a:t>Definice he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8f8f8"/>
                </a:solidFill>
                <a:latin typeface="Tahoma"/>
              </a:rPr>
              <a:t>V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ýchovn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</a:rPr>
              <a:t>ě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 zam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</a:rPr>
              <a:t>ěřená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, uv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</a:rPr>
              <a:t>ě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domel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</a:rPr>
              <a:t>e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 organizovan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</a:rPr>
              <a:t>á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 kolekt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</a:rPr>
              <a:t>i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vn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</a:rPr>
              <a:t>í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 s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</a:rPr>
              <a:t>outěžná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 činnos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</a:rPr>
              <a:t>t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 a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</a:rPr>
              <a:t>le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spoň dvo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</a:rPr>
              <a:t>u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 str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</a:rPr>
              <a:t>a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n, vyplývaj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</a:rPr>
              <a:t>í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c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</a:rPr>
              <a:t>í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 z dop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</a:rPr>
              <a:t>ř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edu dohodnutého nám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</a:rPr>
              <a:t>ě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tu a pravidel v účelný, s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</a:rPr>
              <a:t>ou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vislý a uzav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</a:rPr>
              <a:t>řený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 d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</a:rPr>
              <a:t>ě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j</a:t>
            </a: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ffffff"/>
                </a:solidFill>
                <a:latin typeface="Tahoma"/>
              </a:rPr>
              <a:t>Rozdělení he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8f8f8"/>
                </a:solidFill>
                <a:latin typeface="Tahoma"/>
              </a:rPr>
              <a:t>Společenské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8f8f8"/>
                </a:solidFill>
                <a:latin typeface="Tahoma"/>
              </a:rPr>
              <a:t>Tělovýchovné: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8f8f8"/>
                </a:solidFill>
                <a:latin typeface="Tahoma"/>
              </a:rPr>
              <a:t>Pohybové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8f8f8"/>
                </a:solidFill>
                <a:latin typeface="Tahoma"/>
              </a:rPr>
              <a:t>I úpolové (překonávat odpor druhého hráče úpoly)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8f8f8"/>
                </a:solidFill>
                <a:latin typeface="Tahoma"/>
              </a:rPr>
              <a:t>Sportovní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1536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ffff99"/>
                </a:solidFill>
                <a:latin typeface="Tahoma"/>
                <a:ea typeface="Times New Roman"/>
              </a:rPr>
              <a:t>Pr</a:t>
            </a:r>
            <a:r>
              <a:rPr b="0" lang="sk-SK" sz="3600" spc="-1" strike="noStrike">
                <a:solidFill>
                  <a:srgbClr val="ffff99"/>
                </a:solidFill>
                <a:latin typeface="Tahoma"/>
              </a:rPr>
              <a:t>o</a:t>
            </a:r>
            <a:r>
              <a:rPr b="0" lang="sk-SK" sz="3600" spc="-1" strike="noStrike">
                <a:solidFill>
                  <a:srgbClr val="ffff99"/>
                </a:solidFill>
                <a:latin typeface="Tahoma"/>
                <a:ea typeface="Times New Roman"/>
              </a:rPr>
              <a:t>storové vz</a:t>
            </a:r>
            <a:r>
              <a:rPr b="0" lang="sk-SK" sz="3600" spc="-1" strike="noStrike">
                <a:solidFill>
                  <a:srgbClr val="ffff99"/>
                </a:solidFill>
                <a:latin typeface="Tahoma"/>
              </a:rPr>
              <a:t>t</a:t>
            </a:r>
            <a:r>
              <a:rPr b="0" lang="sk-SK" sz="3600" spc="-1" strike="noStrike">
                <a:solidFill>
                  <a:srgbClr val="ffff99"/>
                </a:solidFill>
                <a:latin typeface="Tahoma"/>
                <a:ea typeface="Times New Roman"/>
              </a:rPr>
              <a:t>ahy základn</a:t>
            </a:r>
            <a:r>
              <a:rPr b="0" lang="sk-SK" sz="3600" spc="-1" strike="noStrike">
                <a:solidFill>
                  <a:srgbClr val="ffff99"/>
                </a:solidFill>
                <a:latin typeface="Tahoma"/>
              </a:rPr>
              <a:t>íc</a:t>
            </a:r>
            <a:r>
              <a:rPr b="0" lang="sk-SK" sz="3600" spc="-1" strike="noStrike">
                <a:solidFill>
                  <a:srgbClr val="ffff99"/>
                </a:solidFill>
                <a:latin typeface="Tahoma"/>
                <a:ea typeface="Times New Roman"/>
              </a:rPr>
              <a:t>h úpol</a:t>
            </a:r>
            <a:r>
              <a:rPr b="0" lang="sk-SK" sz="3600" spc="-1" strike="noStrike">
                <a:solidFill>
                  <a:srgbClr val="ffff99"/>
                </a:solidFill>
                <a:latin typeface="Tahoma"/>
              </a:rPr>
              <a:t>ů</a:t>
            </a:r>
            <a:r>
              <a:rPr b="0" lang="sk-SK" sz="3600" spc="-1" strike="noStrike">
                <a:solidFill>
                  <a:srgbClr val="ffff99"/>
                </a:solidFill>
                <a:latin typeface="Tahoma"/>
                <a:ea typeface="Times New Roman"/>
              </a:rPr>
              <a:t> a pohybových her</a:t>
            </a:r>
            <a:r>
              <a:rPr b="0" lang="en-US" sz="2500" spc="-1" strike="noStrike">
                <a:solidFill>
                  <a:srgbClr val="ffff99"/>
                </a:solidFill>
                <a:latin typeface="Tahoma"/>
              </a:rPr>
              <a:t> 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1676520" y="2295360"/>
          <a:ext cx="5715000" cy="380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2295360"/>
                    <a:ext cx="5715000" cy="380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ffffff"/>
                </a:solidFill>
                <a:latin typeface="Tahoma"/>
              </a:rPr>
              <a:t>Úpolové hr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nejsou součástí systematiky úpolů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průpravné úpoly se ale mohou provádět i jako hra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8f8f8"/>
                </a:solidFill>
                <a:latin typeface="Tahoma"/>
              </a:rPr>
              <a:t>D</a:t>
            </a:r>
            <a:r>
              <a:rPr b="0" lang="cs-CZ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efin</a:t>
            </a:r>
            <a:r>
              <a:rPr b="0" lang="cs-CZ" sz="3200" spc="-1" strike="noStrike">
                <a:solidFill>
                  <a:srgbClr val="f8f8f8"/>
                </a:solidFill>
                <a:latin typeface="Tahoma"/>
              </a:rPr>
              <a:t>ice úpolové hry: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zábavn</a:t>
            </a:r>
            <a:r>
              <a:rPr b="0" lang="cs-CZ" sz="3200" spc="-1" strike="noStrike">
                <a:solidFill>
                  <a:srgbClr val="f8f8f8"/>
                </a:solidFill>
                <a:latin typeface="Tahoma"/>
              </a:rPr>
              <a:t>á</a:t>
            </a:r>
            <a:r>
              <a:rPr b="0" lang="cs-CZ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, zpravidla soutěživ</a:t>
            </a:r>
            <a:r>
              <a:rPr b="0" lang="cs-CZ" sz="3200" spc="-1" strike="noStrike">
                <a:solidFill>
                  <a:srgbClr val="f8f8f8"/>
                </a:solidFill>
                <a:latin typeface="Tahoma"/>
              </a:rPr>
              <a:t>á</a:t>
            </a:r>
            <a:r>
              <a:rPr b="0" lang="cs-CZ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 forma cvičení základních úpolů</a:t>
            </a: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18:42:55Z</dcterms:created>
  <dc:creator>Home</dc:creator>
  <dc:description/>
  <dc:language>en-US</dc:language>
  <cp:lastModifiedBy>Reguli</cp:lastModifiedBy>
  <dcterms:modified xsi:type="dcterms:W3CDTF">2006-03-07T13:39:17Z</dcterms:modified>
  <cp:revision>11</cp:revision>
  <dc:subject/>
  <dc:title>Systematika úpolov</dc:title>
</cp:coreProperties>
</file>