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B9B9-6849-494F-B3E6-277EE3ED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DD3E-B332-4862-802F-187FC98A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A940-C4AF-4A10-A77B-0774DB9B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F8BB-14BD-4B87-9ABC-EB4EE3D9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C84E-48D9-4975-A14E-6C4031BC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46C2-B3E8-4745-A9BA-5327543A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A745-F94D-4444-B1E5-00E8AC4A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4ADA-FDFF-4BCB-9E27-1E2ED108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C7FA-B4F8-44BA-9974-A398ABDD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0D7C-F454-46D0-98DD-B639D5D7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7E7D-410F-43B4-8895-E48AB571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5F0-7EAF-4B48-99FE-96D85A47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2A99-3B90-4886-851B-888F2FA7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0434-7E2F-4E7D-B09C-EAD44CF7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4292-C6FC-4B0C-B7C9-B5BECA79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E27A-7CFE-4F94-9D8E-26ACBDF4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0699-B9FE-426C-AE04-434DE809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A9A1-D909-4E3A-9306-77CE3690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B7D8-75C6-4A22-9353-E2D9F74F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A85E-49E2-4E74-BFA5-31288251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2CE1-1FEE-463C-A021-5DAA7945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97AF-5B5B-4376-893C-82DD05A8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8633-F196-4BA2-A457-44A56D5A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0E9-B2BD-40F1-B7FD-EE0049A0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8D39-7EB5-4846-8332-1F5F5F45DA66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FA69-31F2-420C-9B16-BCCA7F69042B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s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čs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HOME</cp:lastModifiedBy>
  <dcterms:modified xsi:type="dcterms:W3CDTF">2006-03-08T06:55:19Z</dcterms:modified>
  <cp:revision>3</cp:revision>
  <dc:subject/>
  <dc:title>Bojová umění</dc:title>
</cp:coreProperties>
</file>