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EE7-0B70-497F-96AE-0FF9A388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68B-24CD-4050-9209-CD42BD96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BF2-6D6F-40FE-97DE-9E405354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523-AB03-4D33-A333-897F67C0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EBE5-7EDE-43DF-A50D-3CF657F0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5E5B-9498-4C3F-B290-5827A65A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13A8-B94A-4162-A8BA-0E095B44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FCA1-B28A-4143-891F-A42B0A76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A5F5-F857-4356-B9B5-5B16958D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0A09-D4C8-4167-BD32-0C09790A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16D9-7C37-4B81-947A-1521E4CB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C34-B67F-4470-9E15-0E72A7EC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9BC9-24E8-45A9-8DCC-E2F7FB06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0623-D225-4485-B4EA-C28844CF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9649-4B71-4B07-A244-46EF535C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1E2E-6066-4DB6-A12E-FAFA7D54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A0A7-3487-4C2D-BE65-D87AAF58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47E-1C2C-4749-B0BF-5FEAC21A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943-FDD2-43D9-8659-AB9AA049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F72-D34A-4E7B-82DD-17499DDA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5FD-BAE4-4E65-8142-4A802223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0B9-FEBE-49DC-816A-6B4A420C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825-8D67-4E90-9E66-2A30215D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5A5-40C3-4DE8-8895-ABE1C150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5353-296F-464F-AEFD-34B5E49B7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20CF-0206-4AD6-AE47-B45E965CC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I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3-12T11:48:31Z</dcterms:modified>
  <cp:revision>10</cp:revision>
  <dc:subject/>
  <dc:title>Úpoly v osnovách školní TV</dc:title>
</cp:coreProperties>
</file>