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257-BEC6-4075-842F-3D19847A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9933-4240-4851-98BB-710505F2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B066-A773-4BC4-8B22-D869480A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339-C64B-49B4-AE74-07FC48B3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7370-CA90-4978-913A-2E395E38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F8AE-2C8B-4BE8-8C4F-7446A59C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44C8-ECCA-4F1E-8B14-17CDCE51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63CB-3FE0-45C0-8CB6-37B57AE5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A9FD-61DA-4C0C-9715-88F9ACE2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47C3-65B9-4386-9D94-749BB263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0BD8-3D5D-4FD5-9221-B6AF1F65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D3FC-3A1D-4E76-A341-7FB07673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B8EB-F322-4A36-9B23-D555141C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C6B6-E9EB-4325-99DB-5C0DCF9F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5C43-EEA9-4663-AC6F-C213E1BA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2666-3245-4086-91EA-A34A4E06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5A2E-3F16-41F0-BD79-870735F0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99AE-BAB5-4B5E-8390-E61A0087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670-A1AE-4833-853F-7E99684F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D83-F4B0-4A48-ADDF-2003000D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23E5-3CD5-43F4-A62A-17E6815F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AC93-1431-4A1E-B117-F38B1980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7BD-B72A-4821-9E7E-1DFB58C0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9B8F-2889-4BC8-A774-476EB2AB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3980-3A87-4C40-B890-874D26D01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FF0E-7E76-4D7E-9346-8C5371174C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i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a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user</cp:lastModifiedBy>
  <dcterms:modified xsi:type="dcterms:W3CDTF">2006-02-26T04:57:23Z</dcterms:modified>
  <cp:revision>3</cp:revision>
  <dc:subject/>
  <dc:title>Determinanty didaktiky úpolů</dc:title>
</cp:coreProperties>
</file>