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4D408-90C8-41B8-B239-094DA9F3E0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D8400-C361-469B-A5A5-3260F749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DC28E-06D2-4ACE-8A78-7287C7A9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26ACF-1267-42C3-8A6F-494312046A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26C0B-6108-46E9-818A-DF044942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35FD7-67A6-4865-9993-DB3E476A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BAFA7-E329-4D76-B4E2-B6250D07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4AFE7-387D-49F7-97B1-CDC0B657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484AE-9E31-4B6A-9BD2-DDC3EB6E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1D547-560A-44AE-9410-EAC021BE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27271-C75E-4C5B-9F50-65E9EBAE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1D04B-8CB0-4DED-B091-A1EDA930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4292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340000">
            <a:off x="2196720" y="819000"/>
            <a:ext cx="139680" cy="1872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360" y="1052640"/>
            <a:ext cx="819000" cy="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0800" y="1041480"/>
            <a:ext cx="0" cy="55548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320" y="1582560"/>
            <a:ext cx="5545080" cy="2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9160" y="6191280"/>
            <a:ext cx="9263160" cy="965160"/>
          </a:xfrm>
          <a:custGeom>
            <a:avLst/>
            <a:gdLst/>
            <a:ahLst/>
            <a:rect l="l" t="t" r="r" b="b"/>
            <a:pathLst>
              <a:path w="5835" h="608">
                <a:moveTo>
                  <a:pt x="0" y="241"/>
                </a:moveTo>
                <a:lnTo>
                  <a:pt x="3861" y="241"/>
                </a:lnTo>
                <a:lnTo>
                  <a:pt x="3861" y="202"/>
                </a:lnTo>
                <a:lnTo>
                  <a:pt x="3861" y="174"/>
                </a:lnTo>
                <a:lnTo>
                  <a:pt x="3861" y="145"/>
                </a:lnTo>
                <a:lnTo>
                  <a:pt x="3859" y="0"/>
                </a:lnTo>
                <a:lnTo>
                  <a:pt x="5834" y="0"/>
                </a:lnTo>
                <a:lnTo>
                  <a:pt x="5834" y="607"/>
                </a:lnTo>
                <a:lnTo>
                  <a:pt x="0" y="607"/>
                </a:lnTo>
                <a:lnTo>
                  <a:pt x="0" y="24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76440" y="6576840"/>
            <a:ext cx="2622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08760" y="6178680"/>
            <a:ext cx="1558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08760" y="6191280"/>
            <a:ext cx="0" cy="38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5720" y="281160"/>
            <a:ext cx="847656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00" y="1447"/>
                </a:moveTo>
                <a:arcTo wR="10800" hR="10800" stAng="-7200000" swAng="11040000"/>
                <a:lnTo>
                  <a:pt x="10800" y="10800"/>
                </a:lnTo>
                <a:close/>
              </a:path>
              <a:path fill="none" w="21600" h="21600">
                <a:moveTo>
                  <a:pt x="5400" y="1447"/>
                </a:moveTo>
                <a:arcTo wR="10800" hR="10800" stAng="-7200000" swAng="1104000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-6480" y="6526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023C-6387-461C-8F24-5222950A89C5}" type="datetime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7154640" y="6526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3F31-7470-4DD6-81DD-2D61A246513E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1448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98440"/>
            <a:ext cx="8439120" cy="838368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168640"/>
            <a:ext cx="5553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1680" y="2711520"/>
            <a:ext cx="9221760" cy="4309920"/>
          </a:xfrm>
          <a:custGeom>
            <a:avLst/>
            <a:gdLst/>
            <a:ahLst/>
            <a:rect l="l" t="t" r="r" b="b"/>
            <a:pathLst>
              <a:path w="5809" h="2715">
                <a:moveTo>
                  <a:pt x="5808" y="0"/>
                </a:moveTo>
                <a:lnTo>
                  <a:pt x="4322" y="0"/>
                </a:lnTo>
                <a:lnTo>
                  <a:pt x="4322" y="452"/>
                </a:lnTo>
                <a:lnTo>
                  <a:pt x="0" y="443"/>
                </a:lnTo>
                <a:lnTo>
                  <a:pt x="0" y="2714"/>
                </a:lnTo>
                <a:lnTo>
                  <a:pt x="3398" y="2713"/>
                </a:lnTo>
                <a:lnTo>
                  <a:pt x="4311" y="2713"/>
                </a:lnTo>
                <a:lnTo>
                  <a:pt x="5808" y="2713"/>
                </a:lnTo>
                <a:lnTo>
                  <a:pt x="5808" y="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6840" y="342900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2695680"/>
            <a:ext cx="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6320" y="2695680"/>
            <a:ext cx="834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200" y="281160"/>
            <a:ext cx="839484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2" y="5753"/>
                </a:moveTo>
                <a:arcTo wR="10800" hR="10800" stAng="-9128530" swAng="12968530"/>
                <a:lnTo>
                  <a:pt x="10800" y="10800"/>
                </a:lnTo>
                <a:close/>
              </a:path>
              <a:path fill="none" w="21600" h="21600">
                <a:moveTo>
                  <a:pt x="1252" y="5753"/>
                </a:moveTo>
                <a:arcTo wR="10800" hR="10800" stAng="-9128530" swAng="1296853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47720" y="2476080"/>
            <a:ext cx="409680" cy="180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152000" y="2374560"/>
            <a:ext cx="171360" cy="171720"/>
          </a:xfrm>
          <a:prstGeom prst="triangle">
            <a:avLst>
              <a:gd name="adj" fmla="val 49995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68640"/>
            <a:ext cx="58212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Funkce bojových umění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01680" y="3940200"/>
            <a:ext cx="55958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Historick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vyhnutelnost boje – rozvoj bojových doved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ít se znamená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lečenské rozd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3276720"/>
          <a:ext cx="4237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4237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7B37E-2248-4AD6-A5F2-A2C84BDC6B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oučasn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oj tváří v tvář není nevyhnutel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ransformac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35053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outěžní 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6480" y="4267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ebeob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760" y="6095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Komplexní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276720"/>
            <a:ext cx="29718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38FDA-4532-45A2-B0C4-8EF29FC27B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96600"/>
            <a:ext cx="73152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Čtyřdimenzionální rozvoj (funkc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48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47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oc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syc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67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o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2057040" y="5256360"/>
            <a:ext cx="3886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2057400" y="4191120"/>
            <a:ext cx="396252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133720"/>
            <a:ext cx="3962520" cy="3124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3AF4D-000A-48E7-90F1-3AC63EC10D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Funk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6080" y="1980720"/>
            <a:ext cx="4194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zdravý, funkční organizmus a umět ho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ýt integrovanou lidskou byt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dobré sociální vzta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smysl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0080" y="2438280"/>
            <a:ext cx="3581640" cy="2706840"/>
            <a:chOff x="5410080" y="2438280"/>
            <a:chExt cx="3581640" cy="2706840"/>
          </a:xfrm>
        </p:grpSpPr>
        <p:sp>
          <p:nvSpPr>
            <p:cNvPr id="122" name=""/>
            <p:cNvSpPr/>
            <p:nvPr/>
          </p:nvSpPr>
          <p:spPr>
            <a:xfrm>
              <a:off x="5410080" y="4868640"/>
              <a:ext cx="12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b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63000" y="3809880"/>
              <a:ext cx="126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soc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440" y="486108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psych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79840" y="2438280"/>
              <a:ext cx="109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no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>
              <a:off x="6083640" y="4806720"/>
              <a:ext cx="214956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6084000" y="4101840"/>
              <a:ext cx="2190960" cy="705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4000" y="2740680"/>
              <a:ext cx="2190960" cy="2066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9840" y="2740680"/>
              <a:ext cx="0" cy="13611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6B001-9D5D-412E-A46D-A1D6E0199F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Biodromalní charak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voj těla, duše, společnosti a ducha by měl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kontinu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konč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862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181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eloživotní c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D7DB6-F6B3-414E-997A-2051EB476D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7:30:00Z</dcterms:created>
  <dc:creator>Mala Liyanage</dc:creator>
  <dc:description/>
  <dc:language>en-US</dc:language>
  <cp:lastModifiedBy>HOME</cp:lastModifiedBy>
  <cp:lastPrinted>2003-10-23T14:31:15Z</cp:lastPrinted>
  <dcterms:modified xsi:type="dcterms:W3CDTF">2006-03-08T07:54:27Z</dcterms:modified>
  <cp:revision>63</cp:revision>
  <dc:subject/>
  <dc:title>Selling an Idea or a Product</dc:title>
</cp:coreProperties>
</file>