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7F66-CB5B-425A-B9E2-6C3C633D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244D-DB9B-40B7-9541-C63A16AC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CA21-ECFC-4B1D-97C5-F1AB28BE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9B8-B5FB-48A1-9AAF-EB4D3C97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C0EC-B08D-4276-ADE9-4690CD9E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7B42-A3A2-4F5C-9C32-682A71F2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4C1E-A90D-4DC0-AFAA-F56352FD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7A6C-35B2-47AA-83CC-58D2E915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96F0-D41C-46E2-A303-212E06D7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0EE2-9A24-46BB-A13F-6CAAC324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0F0F-C363-4000-BA74-1C2FE620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F2B-942A-4DEE-B620-DFF1EA5A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1D3D-E36F-414C-A280-8CF119FA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C328-4F89-47C4-BDBC-CDE59C97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03D9-7009-417F-926C-007FD256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00E1-A249-4566-B57E-5165F6EB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60E1-13D5-4ABD-A242-18774694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0FD-38B5-4E99-BE4C-0F4DFDE9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E55B-5B9C-471D-BD25-1F93283B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4F8A-9C4B-4B4B-8A3D-56D8703C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0B8-C989-4DB7-809E-1281A954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DED-0864-432D-B909-BE809C90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981-AB60-44A7-855C-9B4644D0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E752-EAEE-47E7-86D6-32825092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BCB2-8659-4B39-9766-17A187A839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AA98-7F2F-458D-87E6-911BF00F56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údó, džú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HOME</cp:lastModifiedBy>
  <dcterms:modified xsi:type="dcterms:W3CDTF">2006-03-12T09:26:20Z</dcterms:modified>
  <cp:revision>4</cp:revision>
  <dc:subject/>
  <dc:title>Úpolové sporty na světových hrách</dc:title>
</cp:coreProperties>
</file>