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A82-9C45-4B66-B2FA-73FCAFDF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F44-7950-4733-82C6-2928F3D5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3B4-26BF-4D58-80D2-80EDF60D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CE7-C434-4B79-8E0F-3E92398C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F1A6-749D-4E2D-821A-99C2AB8C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8181-57C5-49F0-B6FB-371D1764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82AD-464B-4459-8713-17831564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B770-FD1F-4ED0-BEC4-4A3F8FF0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CAF-6A94-407F-8202-9C8586D2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CF0B-FDD9-4BEC-9658-86932049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109E-7D1D-49A0-90DE-11144465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7B1-1A04-4D1D-8569-094578A1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3A88-829B-4FEA-9B78-2C5F882C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2FD1-B6F7-41A2-85D9-B906ED37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600E-FEE7-435E-ADE3-DB1FABFD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CCF0-FA30-4A65-BC37-BB5E1FE4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C095-AB15-4F2F-97DD-DD750240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3A0-BEC3-457B-A30A-249C84CD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E98-F40D-485B-B180-0967F93F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EA1-34E9-43FB-A451-CBD92739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641-6E64-4F40-AC92-4D346589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30C-B6AA-43FC-AAE3-D0C4B97B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491-5741-4568-A433-CEB37F4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D55-3584-40F1-9F16-320877D0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46BC-1995-45C6-BCC3-F767B2F7C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3506-CC3A-4F78-A42A-DE71998BF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a na vrcholní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 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user</cp:lastModifiedBy>
  <dcterms:modified xsi:type="dcterms:W3CDTF">2006-03-07T09:50:17Z</dcterms:modified>
  <cp:revision>6</cp:revision>
  <dc:subject/>
  <dc:title>Úpoly ve sportu</dc:title>
</cp:coreProperties>
</file>