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3E2E-1582-4F87-8E9C-C4F0BFD8A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9888-8C92-43AB-99A1-AA02E5A9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B279-71ED-49C7-929F-4F999D1D9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ADD2-751D-4601-9599-0F783091C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E861-A80C-400B-8B3E-1206809C5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3A0F-BDE0-4951-9FC7-4243E47E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C9026-6DC7-4E38-A1DD-4EE17B5D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5DD1-AEAD-4355-BEA7-8D41F99C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6AA79-ED2B-4BEF-9F6F-00739880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42FF-1779-4575-A82A-5A9488B3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735E-034B-4EA7-99C3-DAF3B024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FF0E-0910-4A10-8BA9-3D16EAB7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C2A2-BD7F-455B-B2EC-67792AB6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805BF-4924-430F-BAE7-BB9FA6B6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73A7-CED7-4069-ACFF-150EEE74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98C3-05E8-499A-8209-73950D929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7482-3CB9-491B-959A-44694D3E6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0982-ECAB-4049-8719-7E60C86F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01D0-5CCD-4E4C-ABBA-0C799E37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3DFA-79BC-47E6-B4F9-6775FBFA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1305-0C0A-404A-B593-B35285D9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7E2D-F745-41AE-B717-7CA49B43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55C4-F168-4518-80EE-F548F619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56B5-4F44-40D2-92AC-DC5F30DB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3ABF7-AEFC-4FB4-9DF5-373194DA5D7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5EE2-1E2C-4056-8B43-765C107E50A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Úpoly na našich územích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2. Světová vál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Centralizace zájmové činnost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úpolových sportů – nástroj propagan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Osobnosti v perzekuci/v bojí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ocialistický spor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Výrazná orientace na soutě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pagace režimu, boj mezi kapitalizmem a socializm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Centralizace sportu (Národní front – ČSSTV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mládež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vrcholového sport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Oddíly a jejich členové 1957-197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85800" y="2209680"/>
            <a:ext cx="7225920" cy="4572000"/>
            <a:chOff x="685800" y="2209680"/>
            <a:chExt cx="7225920" cy="4572000"/>
          </a:xfrm>
        </p:grpSpPr>
        <p:grpSp>
          <p:nvGrpSpPr>
            <p:cNvPr id="146" name=""/>
            <p:cNvGrpSpPr/>
            <p:nvPr/>
          </p:nvGrpSpPr>
          <p:grpSpPr>
            <a:xfrm>
              <a:off x="690840" y="2212920"/>
              <a:ext cx="7215120" cy="4564440"/>
              <a:chOff x="690840" y="2212920"/>
              <a:chExt cx="7215120" cy="456444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690840" y="2212920"/>
                <a:ext cx="1651320" cy="639000"/>
                <a:chOff x="690840" y="2212920"/>
                <a:chExt cx="1651320" cy="63900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64640" y="2212920"/>
                  <a:ext cx="150408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Rok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</a:rPr>
                    <a:t>S</a:t>
                  </a: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por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90840" y="2212920"/>
                  <a:ext cx="165132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2342520" y="2212920"/>
                <a:ext cx="926640" cy="639000"/>
                <a:chOff x="2342520" y="2212920"/>
                <a:chExt cx="926640" cy="6390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241632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34252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269880" y="2212920"/>
                <a:ext cx="927000" cy="639000"/>
                <a:chOff x="3269880" y="2212920"/>
                <a:chExt cx="927000" cy="6390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343680" y="2212920"/>
                  <a:ext cx="77904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269880" y="2212920"/>
                  <a:ext cx="92700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4197240" y="2212920"/>
                <a:ext cx="926640" cy="639000"/>
                <a:chOff x="4197240" y="2212920"/>
                <a:chExt cx="926640" cy="6390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27068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724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5124600" y="2212920"/>
                <a:ext cx="926640" cy="639000"/>
                <a:chOff x="5124600" y="2212920"/>
                <a:chExt cx="926640" cy="6390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519840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12460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6051600" y="2212920"/>
                <a:ext cx="926640" cy="639000"/>
                <a:chOff x="6051600" y="2212920"/>
                <a:chExt cx="926640" cy="6390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612540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7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05160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978960" y="2212920"/>
                <a:ext cx="927000" cy="639000"/>
                <a:chOff x="6978960" y="2212920"/>
                <a:chExt cx="927000" cy="6390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7052760" y="2212920"/>
                  <a:ext cx="77904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7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978960" y="2212920"/>
                  <a:ext cx="92700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690840" y="2851920"/>
                <a:ext cx="1651320" cy="981360"/>
                <a:chOff x="690840" y="2851920"/>
                <a:chExt cx="1651320" cy="98136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764640" y="2851920"/>
                  <a:ext cx="1504080" cy="9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Box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90840" y="2851920"/>
                  <a:ext cx="1651320" cy="981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342520" y="2851920"/>
                <a:ext cx="926640" cy="490680"/>
                <a:chOff x="2342520" y="2851920"/>
                <a:chExt cx="926640" cy="4906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41632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34252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269880" y="2851920"/>
                <a:ext cx="927000" cy="490680"/>
                <a:chOff x="3269880" y="2851920"/>
                <a:chExt cx="927000" cy="4906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343680" y="285192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269880" y="285192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197240" y="2851920"/>
                <a:ext cx="926640" cy="490680"/>
                <a:chOff x="4197240" y="2851920"/>
                <a:chExt cx="926640" cy="4906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427068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9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19724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5124600" y="2851920"/>
                <a:ext cx="926640" cy="490680"/>
                <a:chOff x="5124600" y="2851920"/>
                <a:chExt cx="926640" cy="4906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519840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5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12460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6051600" y="2851920"/>
                <a:ext cx="926640" cy="490680"/>
                <a:chOff x="6051600" y="2851920"/>
                <a:chExt cx="926640" cy="4906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12540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05160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6978960" y="2851920"/>
                <a:ext cx="927000" cy="490680"/>
                <a:chOff x="6978960" y="2851920"/>
                <a:chExt cx="927000" cy="4906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7052760" y="285192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978960" y="285192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2342520" y="3342960"/>
                <a:ext cx="926640" cy="490320"/>
                <a:chOff x="2342520" y="3342960"/>
                <a:chExt cx="926640" cy="4903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241632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77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34252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3269880" y="3342960"/>
                <a:ext cx="927000" cy="490320"/>
                <a:chOff x="3269880" y="3342960"/>
                <a:chExt cx="927000" cy="4903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343680" y="3342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5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269880" y="3342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197240" y="3342960"/>
                <a:ext cx="926640" cy="490320"/>
                <a:chOff x="4197240" y="3342960"/>
                <a:chExt cx="926640" cy="49032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27068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8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19724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5124600" y="3342960"/>
                <a:ext cx="926640" cy="490320"/>
                <a:chOff x="5124600" y="3342960"/>
                <a:chExt cx="926640" cy="49032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9840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86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12460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6051600" y="3342960"/>
                <a:ext cx="926640" cy="490320"/>
                <a:chOff x="6051600" y="3342960"/>
                <a:chExt cx="926640" cy="4903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12540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83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05160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6978960" y="3342960"/>
                <a:ext cx="927000" cy="490320"/>
                <a:chOff x="6978960" y="3342960"/>
                <a:chExt cx="927000" cy="4903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7052760" y="3342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1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978960" y="3342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90840" y="3833280"/>
                <a:ext cx="1651320" cy="981000"/>
                <a:chOff x="690840" y="3833280"/>
                <a:chExt cx="1651320" cy="9810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64640" y="3833280"/>
                  <a:ext cx="150408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Džúdó a karate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90840" y="3833280"/>
                  <a:ext cx="1651320" cy="981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2342520" y="3833280"/>
                <a:ext cx="926640" cy="490320"/>
                <a:chOff x="2342520" y="3833280"/>
                <a:chExt cx="926640" cy="4903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241632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34252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3269880" y="3833280"/>
                <a:ext cx="927000" cy="490320"/>
                <a:chOff x="3269880" y="3833280"/>
                <a:chExt cx="927000" cy="4903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3343680" y="38332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269880" y="38332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4197240" y="3833280"/>
                <a:ext cx="926640" cy="490320"/>
                <a:chOff x="4197240" y="3833280"/>
                <a:chExt cx="926640" cy="4903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427068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19724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5124600" y="3833280"/>
                <a:ext cx="926640" cy="490320"/>
                <a:chOff x="5124600" y="3833280"/>
                <a:chExt cx="926640" cy="4903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519840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12460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051600" y="3833280"/>
                <a:ext cx="926640" cy="490320"/>
                <a:chOff x="6051600" y="3833280"/>
                <a:chExt cx="926640" cy="4903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12540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05160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6978960" y="3833280"/>
                <a:ext cx="927000" cy="490320"/>
                <a:chOff x="6978960" y="3833280"/>
                <a:chExt cx="927000" cy="4903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052760" y="38332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3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978960" y="38332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2342520" y="4323960"/>
                <a:ext cx="926640" cy="490320"/>
                <a:chOff x="2342520" y="4323960"/>
                <a:chExt cx="926640" cy="4903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41632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5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34252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269880" y="4323960"/>
                <a:ext cx="927000" cy="490320"/>
                <a:chOff x="3269880" y="4323960"/>
                <a:chExt cx="927000" cy="4903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343680" y="4323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15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269880" y="4323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4197240" y="4323960"/>
                <a:ext cx="926640" cy="490320"/>
                <a:chOff x="4197240" y="4323960"/>
                <a:chExt cx="926640" cy="49032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27068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90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19724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5124600" y="4323960"/>
                <a:ext cx="926640" cy="490320"/>
                <a:chOff x="5124600" y="4323960"/>
                <a:chExt cx="926640" cy="4903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19840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96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12460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051600" y="4323960"/>
                <a:ext cx="926640" cy="490320"/>
                <a:chOff x="6051600" y="4323960"/>
                <a:chExt cx="926640" cy="4903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612540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9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05160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6978960" y="4323960"/>
                <a:ext cx="927000" cy="490320"/>
                <a:chOff x="6978960" y="4323960"/>
                <a:chExt cx="927000" cy="49032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7052760" y="4323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53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978960" y="4323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690840" y="4814640"/>
                <a:ext cx="1651320" cy="981360"/>
                <a:chOff x="690840" y="4814640"/>
                <a:chExt cx="1651320" cy="9813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764640" y="4814640"/>
                  <a:ext cx="1504080" cy="9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Šerm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90840" y="4814640"/>
                  <a:ext cx="1651320" cy="981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2342520" y="4814640"/>
                <a:ext cx="926640" cy="490680"/>
                <a:chOff x="2342520" y="4814640"/>
                <a:chExt cx="926640" cy="49068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241632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34252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3269880" y="4814640"/>
                <a:ext cx="927000" cy="490680"/>
                <a:chOff x="3269880" y="4814640"/>
                <a:chExt cx="927000" cy="49068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3343680" y="481464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269880" y="481464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4197240" y="4814640"/>
                <a:ext cx="926640" cy="490680"/>
                <a:chOff x="4197240" y="4814640"/>
                <a:chExt cx="926640" cy="4906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427068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19724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5124600" y="4814640"/>
                <a:ext cx="926640" cy="490680"/>
                <a:chOff x="5124600" y="4814640"/>
                <a:chExt cx="926640" cy="4906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519840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12460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6051600" y="4814640"/>
                <a:ext cx="926640" cy="490680"/>
                <a:chOff x="6051600" y="4814640"/>
                <a:chExt cx="926640" cy="4906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612540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05160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6978960" y="4814640"/>
                <a:ext cx="927000" cy="490680"/>
                <a:chOff x="6978960" y="4814640"/>
                <a:chExt cx="927000" cy="4906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7052760" y="481464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978960" y="481464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2342520" y="5305680"/>
                <a:ext cx="926640" cy="490320"/>
                <a:chOff x="2342520" y="5305680"/>
                <a:chExt cx="926640" cy="4903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241632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34252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3269880" y="5305680"/>
                <a:ext cx="927000" cy="490320"/>
                <a:chOff x="3269880" y="5305680"/>
                <a:chExt cx="927000" cy="4903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3343680" y="53056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06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269880" y="53056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4197240" y="5305680"/>
                <a:ext cx="926640" cy="490320"/>
                <a:chOff x="4197240" y="5305680"/>
                <a:chExt cx="926640" cy="49032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427068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78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19724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5124600" y="5305680"/>
                <a:ext cx="926640" cy="490320"/>
                <a:chOff x="5124600" y="5305680"/>
                <a:chExt cx="926640" cy="49032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19840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10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12460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6051600" y="5305680"/>
                <a:ext cx="926640" cy="490320"/>
                <a:chOff x="6051600" y="5305680"/>
                <a:chExt cx="926640" cy="4903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612540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85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05160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978960" y="5305680"/>
                <a:ext cx="927000" cy="490320"/>
                <a:chOff x="6978960" y="5305680"/>
                <a:chExt cx="927000" cy="49032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7052760" y="53056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00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978960" y="53056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690840" y="5796360"/>
                <a:ext cx="1651320" cy="981000"/>
                <a:chOff x="690840" y="5796360"/>
                <a:chExt cx="1651320" cy="98100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764640" y="5796360"/>
                  <a:ext cx="150408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Zápa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690840" y="5796360"/>
                  <a:ext cx="1651320" cy="981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342520" y="5796360"/>
                <a:ext cx="926640" cy="490320"/>
                <a:chOff x="2342520" y="5796360"/>
                <a:chExt cx="926640" cy="4903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41632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34252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3269880" y="5796360"/>
                <a:ext cx="927000" cy="490320"/>
                <a:chOff x="3269880" y="5796360"/>
                <a:chExt cx="927000" cy="4903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3343680" y="57963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269880" y="57963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4197240" y="5796360"/>
                <a:ext cx="926640" cy="490320"/>
                <a:chOff x="4197240" y="5796360"/>
                <a:chExt cx="926640" cy="4903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27068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19724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124600" y="5796360"/>
                <a:ext cx="926640" cy="490320"/>
                <a:chOff x="5124600" y="5796360"/>
                <a:chExt cx="926640" cy="4903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19840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12460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6051600" y="5796360"/>
                <a:ext cx="926640" cy="490320"/>
                <a:chOff x="6051600" y="5796360"/>
                <a:chExt cx="926640" cy="4903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612540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5160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6978960" y="5796360"/>
                <a:ext cx="927000" cy="490320"/>
                <a:chOff x="6978960" y="5796360"/>
                <a:chExt cx="927000" cy="4903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7052760" y="57963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978960" y="57963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2342520" y="6287040"/>
                <a:ext cx="926640" cy="490320"/>
                <a:chOff x="2342520" y="6287040"/>
                <a:chExt cx="926640" cy="4903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241632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85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34252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3269880" y="6287040"/>
                <a:ext cx="927000" cy="490320"/>
                <a:chOff x="3269880" y="6287040"/>
                <a:chExt cx="927000" cy="4903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3343680" y="628704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06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269880" y="628704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4197240" y="6287040"/>
                <a:ext cx="926640" cy="490320"/>
                <a:chOff x="4197240" y="6287040"/>
                <a:chExt cx="926640" cy="4903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427068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28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419724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5124600" y="6287040"/>
                <a:ext cx="926640" cy="490320"/>
                <a:chOff x="5124600" y="6287040"/>
                <a:chExt cx="926640" cy="4903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19840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44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12460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051600" y="6287040"/>
                <a:ext cx="926640" cy="490320"/>
                <a:chOff x="6051600" y="6287040"/>
                <a:chExt cx="926640" cy="4903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12540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91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05160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6978960" y="6287040"/>
                <a:ext cx="927000" cy="490320"/>
                <a:chOff x="6978960" y="6287040"/>
                <a:chExt cx="927000" cy="4903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7052760" y="628704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09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978960" y="628704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4" name=""/>
            <p:cNvSpPr/>
            <p:nvPr/>
          </p:nvSpPr>
          <p:spPr>
            <a:xfrm>
              <a:off x="685800" y="2209680"/>
              <a:ext cx="7225920" cy="457200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o roku 198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Snížená podpora stát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Vícezdrojové financová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voj nových úpolových sport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ecentralizace sportovního hnut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taří Slované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5. – 6. stol.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Různé samostatné rod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Neměli stálé vojsk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Upřednostňování partyzánského vedení válk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tředověk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Úpolové činnosti v rytířské kultuř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Měšťanská kultur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I úpolové h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Vztah ke každodennímu život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ostupná institucionalizac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659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aložena Královská česká zemská stavovská šermírn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Městské šermírn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etkávání různých společenských skup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Tělovýchovné ústavy v Česk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30 byl Hirschův ústav v Praz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3 Steffanyho (později přejmenován na Stegmayerův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5 Segenů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8 Schmidtův-Malypetrů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1862 - Sok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Úpoly na Slovenskom území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2 I. T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ocvičný ústav pr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rešovské kol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iu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4 šermířská a tělocvičná škola F. Martineng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73 I. B. Zoch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rátk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</a:rPr>
              <a:t>y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návod k vyučovaniu telocviku hlavne pre školy národni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Tělocvičná soustava Sokolská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.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čení bez nářadí a bez pomoci nebo odporu jiných cvičenců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 Cvičení nářaďová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 Cvičení se skupině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V.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y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Rozvoj sport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Šer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ápas a box (přelom 19. – 20. stol.) – těžká atletik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Amatéř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fesionálov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žúdžucu (191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rvní Československá republi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voj úpolů, stejně jako všeho v nové republi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ákon o branné výchově 1. 7. 1937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odpora tělovýchovních aktiv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výšený zájem o úpolové činnost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Spojení s branností a vlastenctví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3:40:49Z</dcterms:created>
  <dc:creator>Home</dc:creator>
  <dc:description/>
  <dc:language>en-US</dc:language>
  <cp:lastModifiedBy>user</cp:lastModifiedBy>
  <dcterms:modified xsi:type="dcterms:W3CDTF">2006-02-16T23:15:16Z</dcterms:modified>
  <cp:revision>5</cp:revision>
  <dc:subject/>
  <dc:title>Úpoly na našich územích</dc:title>
</cp:coreProperties>
</file>