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75AD-1531-4582-BE57-FC850BA9A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4B56-EC51-4B6F-8586-9A2FB674E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A04D-B6A9-4C07-91FA-9C339F968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084D-0E80-4748-A7B8-2165828AE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9941C-C823-4DF9-941C-BAD5425E6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DD0B0-0EE0-4263-B399-D676AF5D7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03CE4-007B-4A13-93A8-25E2C8C34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73884-4D93-4FDD-A7F2-26EB5C3A6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DB06D-173B-483E-B14B-A0050BC67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42E1D-C398-4825-A816-3693B2E3C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8A936-9AF2-4E6A-AAD1-A7668346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EF52-998B-4A05-9FF5-030933B84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790C1-E4AA-4538-985B-0F8667E8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E3ED1-DA07-40C4-868C-DC07D019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7059F-BB4C-47BC-9F98-64D4C57A9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6E3E3-734A-45D4-9F43-9AF9408E9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F9943-F0BF-46AE-B326-D4C59F3C9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93EA-637C-4E26-9136-1BA1C4D5A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921C-758D-46E7-A37A-AC1640E67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88DF-032F-45EF-9F7F-822B85898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54AA-F7CE-4645-A8BB-FCED8CF26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D9BC-3C6B-41EF-9E50-2BA745CA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7F0E-7A76-4A97-8A3C-46A47C49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82A0-561A-4276-87B3-071B4B34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5B7CF-F22D-4B32-9A43-7810DF6440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D4364-8367-4234-A2CA-38B2881E98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1426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300" spc="-1" strike="noStrike">
                <a:solidFill>
                  <a:srgbClr val="ffff00"/>
                </a:solidFill>
                <a:latin typeface="Times New Roman"/>
              </a:rPr>
              <a:t>Úpolové sporty v Olympijském hnutí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</a:rPr>
              <a:t>Uznané IOC, ale nezařazené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Karate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World Karate Federation, WKF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řetahování lanem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Tug of War International Federation, TWI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umó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International Sumó Federation, IS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Wušu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International Wushu Federatio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, IWF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Kara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81280" y="1285920"/>
            <a:ext cx="531180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Přetahování lan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95480" y="1365120"/>
            <a:ext cx="6861240" cy="48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Sumó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55640" y="1131840"/>
            <a:ext cx="770400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Wušu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187280" y="1168560"/>
            <a:ext cx="676944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</a:rPr>
              <a:t>Paralympijské úpolové spor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Šerm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 vozíčkářů 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1960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Džúdó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 pro zrakově postižené 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1988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lympijské hnutí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zinárodní olympijský výbor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IO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zační výbory olympijských 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árodní olympijsk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ýb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zinárodní feder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árodní organiz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lu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otn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í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rtovc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</a:rPr>
              <a:t>V programu O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Šerm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1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896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Zápas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1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896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Box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1904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Džúdó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1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964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Taekwondo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2000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Úpolové sporty na novodobých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ympijských hrách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915840"/>
          <a:ext cx="7521840" cy="594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15840"/>
                    <a:ext cx="7521840" cy="594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Šer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280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Záp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8200" y="1227240"/>
            <a:ext cx="792144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Bo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92360" y="1251000"/>
            <a:ext cx="561636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Bo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28560" y="1243080"/>
            <a:ext cx="790416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Džúdó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87400" y="1231920"/>
            <a:ext cx="714060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2:27:32Z</dcterms:created>
  <dc:creator>Home</dc:creator>
  <dc:description/>
  <dc:language>en-US</dc:language>
  <cp:lastModifiedBy>HOME</cp:lastModifiedBy>
  <dcterms:modified xsi:type="dcterms:W3CDTF">2006-03-12T09:24:25Z</dcterms:modified>
  <cp:revision>7</cp:revision>
  <dc:subject/>
  <dc:title>Úpolové sporty uznané IOC</dc:title>
</cp:coreProperties>
</file>