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B018-D757-41CD-8819-577072EF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3A91-0F6F-42BF-B08B-FCED4C42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338F-566A-4BF2-8C2C-1CB2ED4E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DBD5-BDCC-44DA-9B4D-F264642A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0D2F-15F8-40E3-9045-9C84474F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CEF7-B336-47AB-97C4-8DD217F3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9F1E-35CA-478E-8F0F-81D59465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B046-B892-4311-BC5F-AFBAAC90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ADDE-E69C-44FB-84B6-A629D21A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D310-B5E9-4D37-9527-E1B084E4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1AD6-3B4F-41E1-B60C-D10A92AA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1572-CB4E-4D09-B353-ECDD294A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8AC4-DCFD-477D-B5F2-00E67E8A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BBDD-028D-42C2-B449-7B77E616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6E16-6E58-4855-A13A-BE0AF81B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C893-5CF1-45E3-BF75-A17D076C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12C8-0A1D-4BFB-94A4-A4807E9D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897F-F50D-45B2-85E8-2B6308AA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9FCB-E63B-4B98-8327-1A3E38B8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8417-039F-427D-B3C8-77396C69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8B76-856C-4DB0-A040-B8FEDA64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C4CC-E9AD-4CC7-B80C-B2FEDC8F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00F9-AF55-4582-B550-95FA73A2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E5FC-4383-4CF3-9486-4EB976B6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14B4-3493-493F-84FA-4C367DC3BB57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1E85-6DE3-4353-B482-987E7C50800C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Z historie úpolových činnost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akralizace – posvěcení násil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ové činnosti jako nedílná součást vzdělání a dobrých mrav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řeba omluvy násil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Boží vů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yšší ideá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Společenská nevyhnutnost (sebeochr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Helénské období – starověké Řec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istori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ozofov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e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anhelénské h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lympijské hr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ápas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l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18. Olympiáda, 706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x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ygm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23. Olympiáda, 68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boj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nkration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33. Olympiáda, 64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Kalokagat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Řecký ideál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jení duševní a tělesné krás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 různých městských státech byla jinak chápána (Atény...Spar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0360" y="20520"/>
            <a:ext cx="8388360" cy="522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4960" y="546588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Řecko, amfora s malbou od Andocide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25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Řím – úpadek spor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Gladiatorské zápas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rofesionalizm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eci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rut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ozvoj vojenstv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- Evrop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7 ctností (septem probitates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ízda na koni (equ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avání (na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ukostřelba (sag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ápas (caestibus), šerm (cer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v (aucupari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šach (scacis lude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ršování (versificare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– samurajové, Japons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unbu rjódó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vojí cesta – vzdělání v boji i kultuř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á výchov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7 let pá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14 let pano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21 let rytí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axe rytíř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turna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o 15. – 16. století bojový charak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Fiktivní systém inscenovaných souboj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ehistor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ové činnosti na počátku lidstv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 a získávání potrav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ochrana ro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ělesná cvičení, h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Měšťanská a lidová ku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řesťanství : Ora et labora (modli se a pracuj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lečenské vrstv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ellatores (ti, kteří válč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ratores (ti, kteří se modlí, duchovenstv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boratores (ti, kteří pracuj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é akademie (17. 18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ástup humanizmu, znovuobjevování antických i rytířských ideá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akade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antrop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Úpoly v tělovýchovných systémech (19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ěmecko – turnérské hnutí (vlastenectví+branná příprava+gymnastik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Švédsko – gymnastika vojenská, pedagogická, zdravotní, estetick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rancie – F. Amoros, tělesná výchova pro mláde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nglie – orientace na s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ostupná diferenci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a počátku – všichni všech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zději rozdělení (i  s vnitřní specializací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Lov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Bojovní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dokonalení technologií = zdokonalení bo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Elektronicé informační zdro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ron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 Chronological history of the Martial Arts and Combative Spor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ttp://ejmas.com/kro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tarověké civiliz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rcheologický výzkum dokazuje existenci řízeného nácviku úpo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0"/>
            <a:ext cx="40273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2200" y="2081160"/>
            <a:ext cx="33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31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31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Rukojeť obřadního nož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959360" cy="63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5120" y="1341360"/>
            <a:ext cx="373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um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aleziště Džafaja u Bagdád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8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ronzová soš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3120" y="53211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, Ben Has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robka prince Chetih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05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níci – mýtičtí hrdinov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řiznání magických vlastností bojovníkům – hrdinů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hové nebo jejich potom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omek boha a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lověk ve spojení s božskou sílou (předměte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2:21:27Z</dcterms:created>
  <dc:creator>Home</dc:creator>
  <dc:description/>
  <dc:language>en-US</dc:language>
  <cp:lastModifiedBy>user</cp:lastModifiedBy>
  <dcterms:modified xsi:type="dcterms:W3CDTF">2006-03-07T11:12:11Z</dcterms:modified>
  <cp:revision>7</cp:revision>
  <dc:subject/>
  <dc:title>Z historie úpolových činností</dc:title>
</cp:coreProperties>
</file>