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2C1-68CF-4DD1-A519-12612E40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DE6-D03D-4CCE-9AE8-5ACF746B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522-99B9-4C88-A720-E32FC75E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A2E-4363-444C-8005-C6510EED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C7D8-6249-4270-844E-8E8739FB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977F-5D23-4B24-9EAA-D056EF09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EDDD-5855-48BC-9E9B-38EF6C8E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F58C-0FD3-4FA0-BE43-140CEEFB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A09E-E2E4-46A9-B13B-B829A837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CF11-9AE2-407B-A7C9-27B83DF3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2093-469B-4A0C-A066-DA400142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780-B970-4275-8CF1-E66B0FFE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175A-61FF-4951-9379-F3273453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5E37-9C41-4991-8433-362E2555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662B-D866-4CD5-9F37-1048CD0B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C50A-54AD-4EA0-9E9B-3CA3A877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9C3F-1D55-4DBE-AE35-1A1B7795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4B4-481E-4C3A-95FE-A35124FA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061-BBE9-4DAE-A233-93C3A603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57F-517B-425C-BD7E-49E79A12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05A-990C-4489-A7D7-17C34FA0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B2E-28B1-4E97-BAA5-EA10F481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755-25C0-41A7-9D1D-975C7C7C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567-8A6F-41F6-8690-A5AB4EA0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7689-DA55-4887-9402-342D36654133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C617-C439-45DB-B974-CAC2B640D9FB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s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čs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HOME</cp:lastModifiedBy>
  <dcterms:modified xsi:type="dcterms:W3CDTF">2006-03-08T06:55:19Z</dcterms:modified>
  <cp:revision>3</cp:revision>
  <dc:subject/>
  <dc:title>Bojová umění</dc:title>
</cp:coreProperties>
</file>