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836-6F73-448C-824B-27A50185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F26B-3B04-445C-9851-F29AA8F2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F30-9A71-4A51-888C-BF33C4C3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8B54-B2D7-49F9-A1B8-8C0E66D6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B938-0F84-4D03-8E4F-BF798263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9685-C4A6-4C71-9A8C-D307B048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EAEE-141B-435D-9D77-E63B9D98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84A7-E4F8-480A-B91D-8D09AC60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BCBC-06D1-483A-A793-84AFC6C8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5336-F059-44AA-B2D9-EA34584E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AE83-6B1E-4AE2-A6DF-6DEA9298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524-ABA4-40DA-BEA1-B6CB1800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733E-5043-4418-831C-33E7EDD4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450D-77F8-4CA8-8F7F-E6FDC963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3AD6-1975-47CA-8845-FD9E8C07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C302-6CEC-41DB-BEC1-50D3ADC6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87DA-D438-483F-AB80-04971C45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7E24-6BD8-46F1-85FD-5137B64E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BD8-53A3-4A35-885C-64D36CE1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714-5D3F-4E52-B6BE-BAC46854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6D0-0DB8-43D8-807F-27A54C5B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8FF-A64F-4782-B1A5-0294A992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C5D5-588A-4DA4-9C85-86B2B1D2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2310-0E1A-456B-8CFE-2999FD82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8A9D-D8EB-4EEB-AB29-0639CB1240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02F2-ED78-469C-B0DC-965690FED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údó, džú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HOME</cp:lastModifiedBy>
  <dcterms:modified xsi:type="dcterms:W3CDTF">2006-03-12T09:26:20Z</dcterms:modified>
  <cp:revision>4</cp:revision>
  <dc:subject/>
  <dc:title>Úpolové sporty na světových hrách</dc:title>
</cp:coreProperties>
</file>