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205F-C172-426D-9DAD-C13A94D1F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D40D-F0B6-460B-B3F2-2751D2C0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7602-34E1-47BB-890D-3AC20427C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50A6-C688-4A73-A032-5746F47C5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F74A-8E1D-40A8-8324-DD28E5C3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D846-9B88-4751-96ED-38A142F6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9CC0-7898-47F8-A5AF-1CD1E1FC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61AB-8705-4FB9-B0D6-936DC9E8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12C6-4D13-4A75-A87E-4AEA2947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64DD-4AC4-4A8D-BBC4-78BB9DFD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6074-B403-4C18-A0C2-3FCF45EF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E6E4-814B-4ADB-8274-5C4CEE5A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EEBF-AB2A-4559-A75C-3A92D7D1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A059-8594-4B7D-B2A9-87EF5A76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D43A-EA54-43A0-BBFF-7A54EA82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9CD0-D873-44D8-9E43-30CB8FC48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7D6B-7B8E-4532-B7FD-1BB201D81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83A4-BEA2-4A81-8A36-D48EACF8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C754-3933-47B7-A1D0-231BF20A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4A9F-BAAF-4017-BFF6-38196EAE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867C-DD67-4BC3-8E85-40D5B9C9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DB1D-31E6-41D2-B36A-E89723D9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879C-6F52-4AF6-839B-7671A782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91C5-533B-4045-9096-C400505E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DDB4-F6CE-4288-B7E8-AF487403E23F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2A31-B71E-4D27-82CE-FFA65498C7F9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Rozvoj úpolových pohybových dovednost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časového omezení (cvičení se končí splněním úpolového úkol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ovým omezením (cvičení se končí po uplynutí určeného čas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prostorového omezení (cvičenci využívají všechen dostup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ovým omezením (cvičenci mohou využívat jen omeze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y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omezení prostředků (cvičenec může použít na splnění úkolu jakýkoliv pohybový prostředek v souladu s druhem cvičen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omezením prostředků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Způsoby rozvoje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Nácvik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Výkon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Nácvik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učení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 pohybovým dovednostem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určení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Výkon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rojev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hybov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h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dovednost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í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portov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podle soutěžního nebo jiného (např. zkušebního) řádu (i verbálně formulovaného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beobrann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ve skutečné krizové situaci, vyžadující konat v mezích nutné obrany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rozdělení úkol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rozeznáváme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viče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rozdělením úkolů (na obránce a útočníka, jeden z cvičenců je po dobu jednoho cvičení vždy jen obráncem nebo jen útočníkem, jejich pohybové (úpolové) úkoly se liš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rozdělení úkolů (cvičenci jsou současně obránci i útočníky, úkoly zúčastněných jsou zpravidla stejné)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počtu účastník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(mohou mít rozdílné nebo stejné úkoly) rozdělujeme cvičení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dvojic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kupin (za skupinu považujeme již triádu a každý další větší celek)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aždý proti každému – každý člen skupiny bojuje proti všem ostatním sám za seb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upina proti skupině – cvičenci bojují společně, rozdělení ve skupinách, členové každé skupiny navzájem kooperují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jednotlivec proti skupině – cvičenec bojuje proti skupině jako celku, nebo postupně proti jednotlivcům ze skupin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63634"/>
                </a:solidFill>
                <a:latin typeface="Times New Roman"/>
              </a:rPr>
              <a:t>Podle </a:t>
            </a:r>
            <a:r>
              <a:rPr b="1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ásti těla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jako cvičení: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až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oho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trup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hlavy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binované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řad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řad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a nářadí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či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čin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náčiním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21:10:25Z</dcterms:created>
  <dc:creator>Home</dc:creator>
  <dc:description/>
  <dc:language>en-US</dc:language>
  <cp:lastModifiedBy>HOME</cp:lastModifiedBy>
  <dcterms:modified xsi:type="dcterms:W3CDTF">2006-03-08T08:12:34Z</dcterms:modified>
  <cp:revision>7</cp:revision>
  <dc:subject/>
  <dc:title>Rozvoj pohybových dovedností</dc:title>
</cp:coreProperties>
</file>