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D36-1C53-422A-9F72-E0C09318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06C5-2A82-4CF6-AFD6-6EA3E704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BC77-4045-4254-85CA-1AC8910F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D036-2419-4309-8E67-E3F1B966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D889-AC67-442F-A362-DCD75D9C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DE6F-BE2E-42CF-8D07-0CE13EEF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D0B9-86EF-43D5-9D79-275E97BB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0841-FA68-4D38-A64B-216FC414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B3A8-1C09-462E-B6E4-79996B79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0B64-F631-4A25-8E3A-CF14012C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6C1A-AA4A-49C0-9EF0-93280F6C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6353-E486-45A5-BD90-9BA4DE37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9646-54A5-42B6-80D5-67998C84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78A6-B878-4572-864C-447002F8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AF54-7122-476F-92D8-F9C1C3DD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096F-B4D2-44CF-85C7-624B3A29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12A2-6331-47DF-A718-3D14267D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799F-0155-4FC5-81F0-4687D3DB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CEB6-624B-4DE2-8ABD-5AC98955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9F6C-F08E-4D5B-B19D-16BF722A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2DDD-92C4-40E5-9DC7-312E48F6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4406-E21D-4EDE-9720-4C4803FC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85DC-F17D-460F-BF81-C4A217EA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D464-DFFD-44E6-A8E3-3A8F1C4B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C89E-0580-46A9-B4B2-7B03E4AE49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4E95-D3F0-4530-8C17-6AFF2C8249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i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a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user</cp:lastModifiedBy>
  <dcterms:modified xsi:type="dcterms:W3CDTF">2006-02-26T04:57:23Z</dcterms:modified>
  <cp:revision>3</cp:revision>
  <dc:subject/>
  <dc:title>Determinanty didaktiky úpolů</dc:title>
</cp:coreProperties>
</file>