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604-0754-4AEA-9136-BED6A8AF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0C1-7F8B-4039-9D42-A511553A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88D-72D6-4CE2-9484-6EF7B0B4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D3E-15EF-454D-9EA2-98DF9DA6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76F1-6004-4BBD-935A-082BDB23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A849-F62A-4EC0-822C-079D7928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92DE-EF81-416F-B356-E7F6DBC4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18DB-ABFB-41CB-9347-F65B3524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F43A-816E-4738-8C35-FEB14AF6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A2E1-3421-47A4-B3E9-5721E7AA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905D-B1D6-4D16-B816-B4FF1B94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588-EDEF-4B1C-B38E-DAFF48EC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09C3-2225-4A1D-BECC-A296150C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B2E6-6E69-49B2-A3A5-8882494D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6AB3-8F49-4BF1-B1CA-B19FBEDC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6E8B-CEB8-4754-801C-AF4B94D1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A7D4-B4E0-48F7-99CD-EEB0E905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282F-A1D7-49C5-86A7-DF25BF51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788F-5053-4FE2-A86C-0B4EF65E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DCA-958C-4F45-81E5-7FD5E5C7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D8CC-E7E1-49B6-BFBA-DCC7F0BC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7FFC-D72D-4676-B881-216699F4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5E2-6A19-42F1-A2C9-3A02C0E8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7E1E-4043-4D38-8A81-4C6416FB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3B2E-BCAB-441F-9E7A-59F112C01057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5ED3-E55E-4F38-B05F-43DB53C8CE8B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é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é sporty systém zkoušek, titulů 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 </a:t>
            </a: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é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é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Gracie džúdžucu, capoeira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ázijs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Reguli</cp:lastModifiedBy>
  <dcterms:modified xsi:type="dcterms:W3CDTF">2006-03-07T13:48:26Z</dcterms:modified>
  <cp:revision>4</cp:revision>
  <dc:subject/>
  <dc:title>Úpoloo</dc:title>
</cp:coreProperties>
</file>