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13D2-EC40-4D53-8F27-E00004AB7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3871-77FA-43BF-9268-49CCBAA1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6E18-1F37-45A6-90EF-343FBBB67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9E26-EB87-4903-A5E8-DF7D66A4E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D904-740B-4210-818F-2E5D07F2D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9FB0-1EF3-4078-B620-E5DA4203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AEFF-F509-487D-B843-92499073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0CC7-DBA6-46AE-9E14-D61BC711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4747-C9A1-4D09-98A2-E9A11583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39A6-611E-4AF6-A683-7B1B6480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1679-4FBC-457E-9AB1-7636963A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CFA5-209F-4E1D-9C23-0C3528D8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F229-09A8-4F8E-9A47-2B6159FB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471F-1FFA-4F8E-810F-13B76C0C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57AD-6067-43F7-8B8A-E62CE3E7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5BA3-6AAE-4921-8BA4-4731199F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07C9-48EA-4A7D-BACB-A2857C4CB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BF7A-79C8-469B-B8F5-3084AEC2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01B5-0ACF-4180-8399-685C85B1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F856-EB7A-46C0-9A03-EC1790DB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3B85-48CC-467C-80BF-1F6AA6E2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6AFF-4136-4A6F-919D-2B063516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39B0-3A35-4F63-B2D6-1062E9B3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DBF8-7B2D-4FF8-9988-FBC3A41E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ED0E-37CE-46B9-AB83-62509C91A3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A654-AE0F-4F89-92A9-A8E07B617B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600" spc="-1" strike="noStrike">
                <a:solidFill>
                  <a:srgbClr val="ccffff"/>
                </a:solidFill>
                <a:latin typeface="Tahoma"/>
              </a:rPr>
              <a:t>Determinanty didaktiky úpolů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becné determinan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Fylogeneze lidst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ntogeneze pohy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ociální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sychologické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Fylogeneze lidstv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byly na počátku existence člově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ové aktivity člověka doprovázeli v kritických obdobích výv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chovaly se archetypy hrdinů – jsou často spojeny s úpolovými aktivit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ní překonání člověka je hluboko v podvědomí, je součástí vnitřní výbavy zdravého jednotliv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ntogeneze pohyb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yk je prvním komunikačním prostředkem dítě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ěti spontánně jednají úpolově – v kontaktu (namají jiné prostředky aktivní obran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pontánní aktivity dětí v různých obdobích pohybového vývoje zahrnují úpolové ak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ro didaktiku úpolů je kritické období 8 – 9 let, dítě začíná chápat vztah mezi příčinou a důsledk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Sociální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lze (dlouhodobě) provádět osamo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Budují se sociální vazby (silněji v bojových uměníc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úpolových sportů působí na společnost a opačn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úpolů musí být spojeno s přísným dodržováním spoločenských norem (etiket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Psychologické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tráta vědomé sebekontroly po dobu cvič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s fyzickou (totální) porážkou, nebo vítězstv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bole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Agresivita ano, ale konstruktivní (benig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9:05:35Z</dcterms:created>
  <dc:creator>Home</dc:creator>
  <dc:description/>
  <dc:language>en-US</dc:language>
  <cp:lastModifiedBy>user</cp:lastModifiedBy>
  <dcterms:modified xsi:type="dcterms:W3CDTF">2006-02-26T04:57:23Z</dcterms:modified>
  <cp:revision>3</cp:revision>
  <dc:subject/>
  <dc:title>Determinanty didaktiky úpolů</dc:title>
</cp:coreProperties>
</file>