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6EA5-3299-4892-A7CA-E710D8969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824C-D054-4DD2-8755-1695AB531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B1E3-6E7E-4B7C-B82C-426271872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9B71-C1A2-408A-8626-D06A5AF3B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E5B3D-59EC-4D1C-AACE-86DFF533C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79CB6-F8FE-40F4-AD8A-C5F430457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4AA8F-DE9E-4B71-A617-F4AEBA0DF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76874-127F-4ACE-9CB5-8810AC895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FF48F-9352-4B1E-B127-E91FDD0BB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1D198-19EB-48A8-BD23-4A29C3EF7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7564C-969D-4C22-BFB8-E72325C4F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9D4A-7631-45EE-AB88-16791752E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4B1E0-B532-42BE-BD95-135EC428E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26040-9197-408F-8A39-ADD075150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0E4D0-5A3B-4C6E-AC84-BB6FF182B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3A8BB-51F9-4509-BD56-D649FAC3A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51485-8190-4E32-A52B-7F1E03C05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385B-2CDA-45F9-A924-BDAA6FFB5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3885-D48A-451C-A0F3-6374B9E6B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5155-D52F-4C38-B6E9-0DB3CA834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1532-4AE2-4A2A-946D-19F7D5BFF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C61F-E4A6-4F1C-B070-B7B18C347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F8A4-31CD-4930-A23D-8BDDF0939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9E4F-AE51-4E97-A531-E5C979BE4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" descr="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" descr="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41C87-8FD4-4FFF-808A-2E8E730D2CD6}" type="slidenum"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" descr="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" descr="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9E6CE-2778-4F03-8D64-998753885353}" type="slidenum"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Z historie úpolových činností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685600" y="3492000"/>
            <a:ext cx="61023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Sakralizace – posvěcení násilí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Bojové činnosti jako nedílná součást vzdělání a dobrých mravů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Potřeba omluvy násilí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Arial"/>
              </a:rPr>
              <a:t>Boží vůl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Arial"/>
              </a:rPr>
              <a:t>Vyšší ideály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Arial"/>
              </a:rPr>
              <a:t>Společenská nevyhnutnost (sebeochrana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Helénské období – starověké Řecko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Informační zdroje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Historic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Filozofové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Poet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Panhelénské hr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Olympijské hry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Zápas </a:t>
            </a:r>
            <a:r>
              <a:rPr b="1" lang="sk-SK" sz="3200" spc="-1" strike="noStrike">
                <a:solidFill>
                  <a:srgbClr val="ffffcc"/>
                </a:solidFill>
                <a:latin typeface="Arial"/>
              </a:rPr>
              <a:t>palé</a:t>
            </a: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 (18. Olympiáda, 706 pnl.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Box </a:t>
            </a:r>
            <a:r>
              <a:rPr b="1" lang="sk-SK" sz="3200" spc="-1" strike="noStrike">
                <a:solidFill>
                  <a:srgbClr val="ffffcc"/>
                </a:solidFill>
                <a:latin typeface="Arial"/>
              </a:rPr>
              <a:t>pygmé</a:t>
            </a: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 (23. Olympiáda, 688 pnl.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Všeboj </a:t>
            </a:r>
            <a:r>
              <a:rPr b="1" lang="sk-SK" sz="3200" spc="-1" strike="noStrike">
                <a:solidFill>
                  <a:srgbClr val="ffffcc"/>
                </a:solidFill>
                <a:latin typeface="Arial"/>
              </a:rPr>
              <a:t>pankration</a:t>
            </a: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 (33. Olympiáda, 648 pnl.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Kalokagati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Řecký ideál člověk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Spojení duševní a tělesné krás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Arial"/>
              </a:rPr>
              <a:t>V různých městských státech byla jinak chápána (Atény...Sparta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360360" y="20520"/>
            <a:ext cx="8388360" cy="5227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444960" y="5465880"/>
            <a:ext cx="506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Řecko, amfora s malbou od Andocides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525 př.n.l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Řím – úpadek sportu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Gladiatorské zápasy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Profesionalizmu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Specializac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Brutalizac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Rozvoj vojenství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Rytíři - Evrop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Arial"/>
              </a:rPr>
              <a:t>7 ctností (septem probitates)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jízda na koni (equitare),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plavání (natare),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lukostřelba (sagitare),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zápas (caestibus), šerm (certare),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lov (aucupari),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šach (scacis ludere),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veršování (versificare)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Rytíři – samurajové, Japonsko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Bunbu rjódó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Arial"/>
              </a:rPr>
              <a:t>Dvojí cesta – vzdělání v boji i kultuř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Rytířská výchov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Od 7 let páž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Od 14 let panoš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Od 21 let rytíř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Praxe rytířů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Boj, válk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Lov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Rytířské turnaje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Arial"/>
              </a:rPr>
              <a:t>Do 15. – 16. století bojový charakter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Arial"/>
              </a:rPr>
              <a:t>Fiktivní systém inscenovaných soubojů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Prehistori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Úpolové činnosti na počátku lidstva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Lov a získávání potrav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Boj, ochrana rodu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Tělesná cvičení, hr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Měšťanská a lidová kultur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Křesťanství : Ora et labora (modli se a pracuj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Společenské vrstvy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bellatores (ti, kteří válčí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oratores (ti, kteří se modlí, duchovenstvo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laboratores (ti, kteří pracují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Rytířské akademie (17. 18. stol.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Nástup humanizmu, znovuobjevování antických i rytířských ideálů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Rytířské akademi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Filantropin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Úpoly v tělovýchovných systémech (19. stol.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Německo – turnérské hnutí (vlastenectví+branná příprava+gymnastika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Švédsko – gymnastika vojenská, pedagogická, zdravotní, estetická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Francie – F. Amoros, tělesná výchova pro mládež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Anglie – orientace na spor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Postupná diferenciac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Na počátku – všichni všechn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Později rozdělení (i  s vnitřní specializací)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- Lovc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- Bojovníc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Zdokonalení technologií = zdokonalení boj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Elektronicé informační zdroj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Kronos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A Chronological history of the Martial Arts and Combative Sport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http://ejmas.com/krono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Starověké civilizac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Archeologický výzkum dokazuje existenci řízeného nácviku úpolů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Indi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Mezopotámi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Egyp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..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28680" y="0"/>
            <a:ext cx="4027320" cy="6669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5272200" y="2081160"/>
            <a:ext cx="333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580000" y="2421000"/>
            <a:ext cx="31687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Egypt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3100 př.n.l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Rukojeť obřadního nož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4959360" cy="63277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415120" y="1341360"/>
            <a:ext cx="37317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Sumer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Naleziště Džafaja u Bagdádu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2800 př.n.l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Bronzová soška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0" y="9360"/>
            <a:ext cx="9144000" cy="52293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03120" y="5321160"/>
            <a:ext cx="8085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Egypt, Ben Hasan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Hrobka prince Chetiho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2050 př.n.l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Bojovníci – mýtičtí hrdinové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Přiznání magických vlastností bojovníkům – hrdinům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Bohové nebo jejich potomc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Potomek boha a člověk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Člověk ve spojení s božskou sílou (předmětem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5T22:21:27Z</dcterms:created>
  <dc:creator>Home</dc:creator>
  <dc:description/>
  <dc:language>en-US</dc:language>
  <cp:lastModifiedBy>user</cp:lastModifiedBy>
  <dcterms:modified xsi:type="dcterms:W3CDTF">2006-03-07T11:12:11Z</dcterms:modified>
  <cp:revision>7</cp:revision>
  <dc:subject/>
  <dc:title>Z historie úpolových činností</dc:title>
</cp:coreProperties>
</file>