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68A2-2EA5-4316-B692-51E35CBE8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D00D-24F7-4BDF-88BE-9246168E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9409-B0F0-476C-8DE1-BC95FE28E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C9B6-034A-4A7C-91BF-8BF269E53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F6FA-0A0D-41BF-80F4-87EBB3563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AB22-7E1A-401A-82BA-6FB7CED2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DB9F-85DE-468E-AA4E-4BE9AEDD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9012-0E22-4C95-A372-0D3AB562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4D2E-DDCA-4238-BEB6-C94941F3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AF23-7170-460D-939E-76B617C5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AA4D-605C-46DA-A2A1-42D0C3A0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076B-45AB-41D1-9B7D-E3D14107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A8FA-9393-4661-A242-51716157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5BB4-431E-40F4-ADBB-46B46AF5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6E38-F383-4C45-ABFB-93821806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BD2C-9A52-4744-A931-3E89FC77C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725B-4D4F-4658-B20B-9FD636DFA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0A84-93A7-44BF-9470-4B272666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2CE5-F961-41B9-9B1B-4520F248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451D-5026-431F-845E-6E288B18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A33E-2166-40E8-97DC-F8B86A99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0EF2-F920-447A-BCAB-A2E57CDF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A4DC-2A9F-463A-A3B4-302CFD37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32F2-97EC-4252-AC36-544BC657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7C28-07F8-42C8-ADC9-E0C00B80DBC8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C3EB-CA9D-442A-9297-3A8CBB7582EF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Rozvoj úpolových pohybových dovednost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časového omezení (cvičení se končí splněním úpolového úkol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ovým omezením (cvičení se končí po uplynutí určeného čas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prostorového omezení (cvičenci využívají všechen dostup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ovým omezením (cvičenci mohou využívat jen omeze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y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omezení prostředků (cvičenec může použít na splnění úkolu jakýkoliv pohybový prostředek v souladu s druhem cvičen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omezením prostředků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Způsoby rozvoje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Nácvik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Výkon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Nácvik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učení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 pohybovým dovednostem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určení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Výkon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rojev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hybov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h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dovednost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í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portov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podle soutěžního nebo jiného (např. zkušebního) řádu (i verbálně formulovaného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beobrann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ve skutečné krizové situaci, vyžadující konat v mezích nutné obrany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rozdělení úkol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rozeznáváme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viče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rozdělením úkolů (na obránce a útočníka, jeden z cvičenců je po dobu jednoho cvičení vždy jen obráncem nebo jen útočníkem, jejich pohybové (úpolové) úkoly se liš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rozdělení úkolů (cvičenci jsou současně obránci i útočníky, úkoly zúčastněných jsou zpravidla stejné)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počtu účastník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(mohou mít rozdílné nebo stejné úkoly) rozdělujeme cvičení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dvojic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kupin (za skupinu považujeme již triádu a každý další větší celek)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aždý proti každému – každý člen skupiny bojuje proti všem ostatním sám za seb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upina proti skupině – cvičenci bojují společně, rozdělení ve skupinách, členové každé skupiny navzájem kooperují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jednotlivec proti skupině – cvičenec bojuje proti skupině jako celku, nebo postupně proti jednotlivcům ze skupin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63634"/>
                </a:solidFill>
                <a:latin typeface="Times New Roman"/>
              </a:rPr>
              <a:t>Podle </a:t>
            </a:r>
            <a:r>
              <a:rPr b="1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ásti těla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jako cvičení: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až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oho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trup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hlavy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binované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řad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řad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a nářadí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či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čin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náčiním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21:10:25Z</dcterms:created>
  <dc:creator>Home</dc:creator>
  <dc:description/>
  <dc:language>en-US</dc:language>
  <cp:lastModifiedBy>HOME</cp:lastModifiedBy>
  <dcterms:modified xsi:type="dcterms:W3CDTF">2006-03-08T08:12:34Z</dcterms:modified>
  <cp:revision>7</cp:revision>
  <dc:subject/>
  <dc:title>Rozvoj pohybových dovedností</dc:title>
</cp:coreProperties>
</file>