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D694-CCCC-4B14-ADBD-0EE3AD811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AE8F-CE17-41F0-BE03-0062ECF9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9DBD-B34F-4093-B6AE-0BC457CBF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EB9B-37CE-4F38-B28C-8F65FDE05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2A02-3779-4D94-BA9A-45A3AB168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2333-5F7F-492A-8C28-19104A92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F043-6B97-41F5-AD54-F3CFCFEA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4BAC-0922-4C19-9B0D-E873FEC9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31B5-C2AB-44AA-BA48-A5917FD8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E7C2-1549-468A-B363-37180BAC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49FD-9EED-4746-91DE-A89C48B4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E152-E9DE-492F-986B-1C4DB1D6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0AD5-E290-40FA-8FC1-DB2405BA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6BD4-C877-42B8-AEC5-4B439C6D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DACC-3D3D-44C3-B50D-EBE1A44F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8FBF-9691-4BB7-82B2-51B1AC02B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AFA2-F7A1-4BDD-9500-3C6BF0ABE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8247-53FC-4A6A-8034-6CB57AE4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BD71-B8B3-4B22-AC73-CE0B576E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5B23-B0EE-4BC7-804B-4D6696E3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7AAD-B2D3-4D0E-8C02-5029E0C7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DA3E-7B65-42A3-9C9F-5DB24392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A2EB-219A-440C-B8A0-C425705A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7745-DB32-44CB-9425-9FF51A72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4349-3B50-4205-852D-32C0B561F2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1609-D596-4855-B9ED-261B51FC8C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ff00"/>
                </a:solidFill>
                <a:latin typeface="Times New Roman"/>
              </a:rPr>
              <a:t>Úpolové sporty v Olympijském hnutí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Uznané IOC, ale nezařazené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World Karate Federation, WKF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Tug of War International Federation, TWI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Sumó Federation, IS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Wušu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Wushu Federatio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, IWF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81280" y="1285920"/>
            <a:ext cx="53118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95480" y="1365120"/>
            <a:ext cx="686124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1131840"/>
            <a:ext cx="77040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uš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7280" y="1168560"/>
            <a:ext cx="676944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Paralympijské úpolové spor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vozíčkářů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60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pro zrakově postižené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88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ympijské hnutí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zinárodní olympijský výbor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ační výbory olympijských 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árodní olympijs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ýb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zinárodní feder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rodní organiz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u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ot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í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rtovc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V programu O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Zápas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Box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190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96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Taekwondo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2000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Úpolové sporty na novodobých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ympijských hrách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915840"/>
          <a:ext cx="7521840" cy="594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15840"/>
                    <a:ext cx="7521840" cy="59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Šer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280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Záp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8200" y="1227240"/>
            <a:ext cx="792144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92360" y="1251000"/>
            <a:ext cx="561636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28560" y="1243080"/>
            <a:ext cx="790416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žúd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87400" y="1231920"/>
            <a:ext cx="71406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27:32Z</dcterms:created>
  <dc:creator>Home</dc:creator>
  <dc:description/>
  <dc:language>en-US</dc:language>
  <cp:lastModifiedBy>HOME</cp:lastModifiedBy>
  <dcterms:modified xsi:type="dcterms:W3CDTF">2006-03-12T09:24:25Z</dcterms:modified>
  <cp:revision>7</cp:revision>
  <dc:subject/>
  <dc:title>Úpolové sporty uznané IOC</dc:title>
</cp:coreProperties>
</file>