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87C3-ACAD-4CB3-928E-B6EECCE26A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E87C-653A-4384-A851-89D2ED93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3B69-A414-4998-B9FB-7D597EFD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5324-D0D0-494A-8509-093673565B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07EE-D66C-4DEC-9FE3-9BC924E9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922F-4AB3-4391-BD60-F9B0E0F2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32A5-DA45-4654-84AA-DC83D110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E9D3-1B39-4D35-A984-8DA789F4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1FA1C-C7A3-4654-8B7B-01B5C77D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09E9-520F-4ED0-8939-718C174E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263D-F802-4F05-9FE5-54B033C7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18EB-15C5-48E6-91AE-8CF9222F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5B36-1D23-4907-ACCD-827E3123BA6E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EEED-E396-488F-A7EA-D7DFEDFD9338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5360-ADA7-4C88-80C3-0331D2168C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6E9B-9B0F-48E2-BF68-23C887B96B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9CEF-9469-4FA1-A77B-0811E24FB9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0D33-2205-46EA-8604-61F69EA893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FE23-ACA3-4539-9126-4B3C7032D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HOME</cp:lastModifiedBy>
  <cp:lastPrinted>2003-10-23T14:31:15Z</cp:lastPrinted>
  <dcterms:modified xsi:type="dcterms:W3CDTF">2006-03-08T07:54:27Z</dcterms:modified>
  <cp:revision>63</cp:revision>
  <dc:subject/>
  <dc:title>Selling an Idea or a Product</dc:title>
</cp:coreProperties>
</file>