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A27-4465-4EE5-BDC6-C400B550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E27-2E6B-49DD-A51B-AB5DB4F0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56F-4B6E-404A-A8FD-FE2765D3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2E1-772C-4D66-973A-00F8E04A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A440-C10F-44B0-B843-C8593765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CE67-113B-4AD7-839D-83505A79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33ED-933B-4080-9736-EA68E230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B89A-B25E-45CF-BD0B-0CABB6F6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3D2F-8463-4A8E-82E6-9C330B4C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8F12-4E69-4DEC-88CB-9716C760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8539-83A6-4F15-9C32-054EEFA1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972-7712-4328-B120-F0DB0296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E5D6-4502-4E6F-A404-5381B2FD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D8EE-D0B5-4EEA-8CC7-B126FF0A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AC7C-8E59-4C4E-9373-F97F4CBC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A6DF-71FB-408B-B067-8A7340F4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0FD4-3474-4BB3-90BE-B4505165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28C-E805-488A-B54B-CA934734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3D3-851A-4D92-B39F-5AEA0284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915-751C-48B6-909F-66679369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975-DA3A-4216-9B29-9F79F32B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BFD-65BC-4DDC-B9B8-83A8CBAE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AF1-BB8F-4657-B935-494D673A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6A6-73AB-409B-AEC6-9AEE793D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254E-1552-4CC0-B83F-C1E47921B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EE2B-8552-43F9-BB9D-275C64F84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údó, džú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HOME</cp:lastModifiedBy>
  <dcterms:modified xsi:type="dcterms:W3CDTF">2006-03-12T09:26:20Z</dcterms:modified>
  <cp:revision>4</cp:revision>
  <dc:subject/>
  <dc:title>Úpolové sporty na světových hrách</dc:title>
</cp:coreProperties>
</file>