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ABCB-8747-46B8-85A2-5F05DFDE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AAB-2ABD-4CB3-BB82-F1BC54C4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B9A-52DB-4580-8CA1-B56D8472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7EF4-FD43-430D-8781-754EC037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9F25-E035-4F2B-948C-E0206810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5EFB-C6A2-4053-AD0C-7BA25210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A5B0-CFA3-4427-9AB3-FB5ED8D6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6040-C108-48FB-AC3F-8DB545DC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8F68-18E7-464E-9651-159717A1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0685-3298-414F-B458-144927B9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09FD-139D-404F-90D1-635C871A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F8C-1F2C-4000-B600-D67FDBA9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0668-918D-4C01-82E5-BAAADB99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536F-091A-4E5F-8797-50BFC9F0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389A-12D7-40E4-A384-860D6B90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AC54-0923-46C3-8A16-4FD7146A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8FB1-560D-44BA-9538-673A93D4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182-F1F9-4F06-9983-8740D434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913-9CEC-497F-A474-DC7AEDC2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1F2-69E5-4DD9-8212-550D2BE3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CB4-9F60-461A-A91A-AF3D1BAE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611-53B9-47C6-A4EC-16B43F1B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A7D0-D9A3-4935-ABD2-4A0A0F24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218-BF20-4BCA-B13B-0243884D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4BBD-692A-4359-B028-1622B9FC8CF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B847-A89F-4B9D-9EDE-936915387FD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ku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í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user</cp:lastModifiedBy>
  <dcterms:modified xsi:type="dcterms:W3CDTF">2006-02-16T23:15:16Z</dcterms:modified>
  <cp:revision>5</cp:revision>
  <dc:subject/>
  <dc:title>Úpoly na našich územích</dc:title>
</cp:coreProperties>
</file>