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0019-CA81-4257-95AA-C4963FDFD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7A3D-DBD1-41B4-BCA8-8935F10F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CBA8-8E92-49FA-84D8-BE05DE53C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EE2D-ADFA-494E-8ADC-3DD2EB64C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6179-F2D2-4140-BBBF-4B11068EB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DFC9-62D5-40F0-940B-A279040D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AE9B9-E156-488F-B1AB-DDACC726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C814-3609-4861-A37F-92C47031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7F62-0D14-4075-8C48-4782ECF2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7FD84-2A40-4B46-9697-17C0866F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3C45-4859-4A1B-A237-B1FC66AD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E7DF-CDB7-49E4-AD3F-0B963536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DD5C-F52E-4132-AC8B-20D537D3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8635-14F1-492D-8B22-28FD45B5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F982A-D2E1-4D7D-B77F-48014459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FE431-3F43-4EF3-A13F-F758896D6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EFBC9-DE6A-46EB-B9FA-9381B74BD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BE7F-5FD2-4986-9BDF-C1083349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F6B7-AA4E-4B25-AA91-FA9DF0DB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E650-C2E7-4B0C-8FBA-F37261DE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1D98-264A-470B-A7B4-5FA58FDE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249F-8DA4-4A88-AF7E-2751687D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ED6E-70F3-46E6-8A06-B47289B9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E7A1-FCA2-4441-9F3B-B8E84871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02CE-34C7-4DF7-A45D-A253CAAB61E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E2D3-24B3-4C05-8B57-22A6F69DBC5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ystematika (taxonomie) úpol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ebeobran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zniká aplikací úpolů 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</a:rPr>
              <a:t>pro potřeby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nutné obran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osobní (+s. žen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fesn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8</a:t>
            </a: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62 Sokolská sousta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.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čení bez nářadí a bez pomoci nebo odporu jiných cvičenců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 Cvičení nářaďová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 Cvičení se skupině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V.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1862 Sokolská sousta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. bez náčiní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Odpory. Cílem je jenom překonávat odpor spolucviče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ce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a jeho činnost je dopředu známá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Zápas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Ne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jen  odpor protivníkovi, ale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naha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řemoci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o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Shodit ho na zem tak, aby se stal jeho další odpor nemožným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Box – rohování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Ú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ok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y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ažemi nebo nohami, jako i odvracení těchto útoků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. s náčiním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 šerm šavlí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 šerm fleuretem (končířem)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šerm holí: krátkou (80-100 cm), dlouhou (do výše cvičencovy brady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4. šerm bodákem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5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šerm dýkou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Autoři zabývající se úpol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1939 - F. Smotlach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3 – J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avl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6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7 – R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Kří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70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80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84 – I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Fojtí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93 – M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Ďure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Taxonomi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erarchické zařazení určitých prvků podle předem stanovených kriteri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stupuje se od nejjednodušších po nejsložitějš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stupuje se od vývojově starších k mladší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Sleduje i dadaktické cí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chéma systematik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úroveň úpolových p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ř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dpoklad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rů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avné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úroveň úpolových systém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ové 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r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úroveň úpolových aplik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ra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Prostorové vztahy úpol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209680" y="1447920"/>
          <a:ext cx="46738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447920"/>
                    <a:ext cx="46738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Úpolové sport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N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jvětší a rozhodující skupin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úpolů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mostatné úpolové systémy. Vzájemně se odlišují znaky, jako vlastní název, vývoj, prostředky, organizace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 (podle zaměření)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utěžn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eobrann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mplexně rozvíjejíc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2:01:25Z</dcterms:created>
  <dc:creator>Home</dc:creator>
  <dc:description/>
  <dc:language>en-US</dc:language>
  <cp:lastModifiedBy>user</cp:lastModifiedBy>
  <dcterms:modified xsi:type="dcterms:W3CDTF">2006-03-07T11:15:46Z</dcterms:modified>
  <cp:revision>4</cp:revision>
  <dc:subject/>
  <dc:title>Systematika (taxonomie) úpolů</dc:title>
</cp:coreProperties>
</file>