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DC5-B61D-425E-922F-9281CC40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8B82-0ED3-4A32-AE19-E79C8F81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746-1F72-4E9B-8801-8B6C3F53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F08-1AD3-459C-82B5-BF9614E4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3C12-35AD-4324-BADD-781DDFC8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7FBD-F9DB-4C0A-A0D7-B09110C2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5F00-2E73-43E6-925D-FE28AE9E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D5EC-09B0-42BC-8C0E-D07C93FF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E442-5B6B-45A6-B558-B25EAE0F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F1C0-C88C-4766-B65C-0CE84A3C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C24E-23CF-450A-B1DA-4585E917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C4E-D1C1-437D-86EB-52089B50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9CA1-195C-4D80-8204-89DF4207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DB04-F845-4EDB-A3E1-0BD2C739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3704-B220-4721-9B8E-BBE37CB6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A398-8A57-481A-A60A-DABDA99E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AC66-5566-4DE5-84FC-0D5E51AA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AFE-6137-4A2B-8B6E-0FE30866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87D1-B74B-4E7C-93EB-B90654CC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B65-DC57-44F6-BD7D-C03F6F6D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670-9288-4C3F-9B74-FE3B7944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E96-70F6-440C-8FBA-11F6DF30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5D9E-821B-45A9-A3C1-E9088071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662-E89D-472B-92B5-B7C7FF23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BF64-FB19-4C49-9B84-416FE2AB4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4BA6-E351-4A1F-8910-6AD6337D8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I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3-12T11:48:31Z</dcterms:modified>
  <cp:revision>10</cp:revision>
  <dc:subject/>
  <dc:title>Úpoly v osnovách školní TV</dc:title>
</cp:coreProperties>
</file>