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04AA-5F3A-4D89-ACF6-0BB2DB71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18CB-2B2E-4809-9D4C-4C0AA65C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779A-9B48-4EA6-BE52-684F4CE8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5E2-7041-417C-AEFD-954B2213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1190-51DE-4D8F-BB3E-110371F2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2C89-053B-439D-B1FD-049C88AA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C9A9-D40F-4854-9933-9CB04A50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9106-EC27-4FBA-B20E-7107AF3D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6FBC-807E-4FC0-9DBE-F2484D98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F2CC-9D7B-44EC-8881-CA6C3E89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6C97-CA8E-4A8D-B2B9-CEFC192D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AC94-5639-4F14-813F-06ED4A45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A50F-A6CE-4496-A780-7DF85343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27E5-6094-4ACD-8C1F-7D32BC71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9917-E909-49E3-A06E-81375FA8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3128-1381-402E-B1BB-912308CE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4E5D-86E3-4418-B280-8730EFA4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BF66-BEE9-46BF-A651-057D9097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732-B3A6-4035-BC79-BD5B0DD0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F26-5964-48A7-9484-5CD07138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DBD-2BB1-45D7-929E-ACCC306D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8DF2-78F2-49DD-B45B-9F457016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CDAC-0184-474E-B142-9AD2418D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F579-0C7A-4293-9A4C-3C339D0C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E559-103B-4D69-85D7-E60EE1F1835C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FCF6-830D-45D4-8120-01BEC598C3DA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user</cp:lastModifiedBy>
  <dcterms:modified xsi:type="dcterms:W3CDTF">2006-03-07T11:12:11Z</dcterms:modified>
  <cp:revision>7</cp:revision>
  <dc:subject/>
  <dc:title>Z historie úpolových činností</dc:title>
</cp:coreProperties>
</file>