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726-55D3-4E4A-93FB-C6B5C97D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69D-18A5-43D3-9E79-EDD30F86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E31-6199-489D-B594-D7092C51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A71-E2DE-48BE-B8B5-30E69FBF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298C-6F10-4C86-AC66-4A2DD16C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581E-8945-42D8-A489-8CD3C35B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1429-3F4A-4DA1-972D-E9176690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0E99-2B2D-42FB-A8AF-87D3ACA4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D05C-E160-4813-ACA5-F4832370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89E2-2938-4B05-8555-070168B8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E963-EBE4-4527-83DF-032073E3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466-ABA7-4B45-B8E5-1400888C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5425-1F30-4717-A26E-D2A33DFF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0A1A-02E2-4411-BABB-55B18F69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4E9D-75B3-43F1-B45C-015D658B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99A7-0836-429E-83BB-3FB7330E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3066-34AC-42DA-9431-A827E351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A22-68FC-463A-9984-0BDD7BFF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77C2-BE4F-4362-87A6-9CA83E7D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4E3-4D5F-4A39-8936-D52B376D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826-1214-4471-B6BC-8DB65B46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570-4725-4C3E-BED2-1AEBBC6D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E5F-872B-46E6-81BE-FE6DD1E6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BA3-429D-4239-B987-90B9A360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964E-1913-42FE-A7E2-92D677FAD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F44-04BD-4A55-B452-9C5417F94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a na vrcholní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 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user</cp:lastModifiedBy>
  <dcterms:modified xsi:type="dcterms:W3CDTF">2006-03-07T09:50:17Z</dcterms:modified>
  <cp:revision>6</cp:revision>
  <dc:subject/>
  <dc:title>Úpoly ve sportu</dc:title>
</cp:coreProperties>
</file>