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229-F73C-4C36-8A12-13DA6C0C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68B-55AE-4CE3-851F-33331483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CFE-B19A-4B7F-A9E1-E401A820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4A9-4786-460F-8963-6AE93D15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D93C-F7EE-48E1-9DD1-151BFBC8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D818-4497-4448-B4DD-686A195B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4B19-E4B5-456B-A121-7B914F89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2C77-3207-4CEC-865D-84B3B4CE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09CE-6618-4FE4-8B35-ABC1154F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EDA4-563B-45C4-ABC9-3C8E26B6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BF2D-2DB2-4E1C-AF0B-C9F7750C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AA3-D070-4851-9D0C-36031843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47B9-1E07-43A7-A561-B732B66E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B03F-4225-4762-B961-2A1FA2E9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80EA-9341-4D76-81EF-3AB5CC91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AF9E-66BA-452A-B6C3-350E9A01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7E30-F324-4FFF-9B41-E44B918D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473-B2B5-4CB5-A798-679F4F36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BDD-5F7D-4C48-B00C-C69BD43D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476-5557-4228-8898-B04AB243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D9B-57EB-4A3A-84CA-1DB3F8C9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650-7046-441D-AE75-A199862A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C18-DD61-4512-996E-57AFC359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3E8-C0B9-4194-BDAD-547DA2FD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E4D7-A9F3-4974-A9D7-981DD642CD16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0CC2-AD8F-4A69-BE5A-86FA4A945CA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ska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i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y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 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 kolenech, případně ve vzporu, či podporu klečmo – vysoký a nízký par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 paž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ůhlu stability (polohou těžiště nad plochou opory, čím ostřejší je ů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user</cp:lastModifiedBy>
  <dcterms:modified xsi:type="dcterms:W3CDTF">2006-03-07T12:03:18Z</dcterms:modified>
  <cp:revision>6</cp:revision>
  <dc:subject/>
  <dc:title>Základní úpolová technika</dc:title>
</cp:coreProperties>
</file>