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141E-DA72-4F35-86AA-A3FDB16F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D24A-BB87-4865-BC3F-E274BD4C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32F8-B45B-440C-81DA-22BFD9B9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57C6-5323-4747-BCC7-76EFE5AF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D1B0-3035-4C0B-B5D1-2D1A8F46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BD4B-3538-4727-B6F6-EEED32D5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CF3E-D95D-45DD-9D31-F5B58540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9751-40F7-410D-82E4-14727EDE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0B0F-E241-459C-BB7F-826EB4D0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72BD-99F5-4835-9618-09C49B7D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C961-DEB0-4A26-8D4D-767874F5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2B2-F6DA-40E5-8C78-CBDCB172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7A45-CBB2-42DA-A727-5560AC8B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A5DC-CD2A-46FB-AE6E-F203EE27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5B58-5461-4AA3-ADFE-01E44CDF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C069-6952-46C7-927B-65BA8C48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33B4-966D-47D3-8461-F584DF02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0CE8-1623-4B5D-9FC5-9532C84A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1B9B-A5CE-466B-A329-40BD3285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56E0-6085-480B-AF09-BB69A6F2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8363-E88E-4C66-A8C9-87DC3434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54AB-9444-4E01-B519-2A247758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B228-7A1F-4BB4-AC2E-5D2CC6F7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C93F-1699-4A10-A991-C01CE352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7038-E6D9-4E13-8BE4-31A5BEC83858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B544-7AC5-45B6-A2C0-C6E7A9879861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Rozvoj úpolových pohybových dovednost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časového omezení (cvičení se končí splněním úpolového úkol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ovým omezením (cvičení se končí po uplynutí určeného čas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prostorového omezení (cvičenci využívají všechen dostup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ovým omezením (cvičenci mohou využívat jen omeze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y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omezení prostředků (cvičenec může použít na splnění úkolu jakýkoliv pohybový prostředek v souladu s druhem cvičen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omezením prostředků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Způsoby rozvoje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Nácv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Výk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Nácvik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učení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 pohybovým dovednost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určení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Výkon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rojev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hybov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h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dovednost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portov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podle soutěžního nebo jiného (např. zkušebního) řádu (i verbálně formulovaného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beobrann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ve skutečné krizové situaci, vyžadující konat v mezích nutné obran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rozdělení úkol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rozeznáváme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viče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rozdělením úkolů (na obránce a útočníka, jeden z cvičenců je po dobu jednoho cvičení vždy jen obráncem nebo jen útočníkem, jejich pohybové (úpolové) úkoly se liš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rozdělení úkolů (cvičenci jsou současně obránci i útočníky, úkoly zúčastněných jsou zpravidla stejné)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počtu účastník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(mohou mít rozdílné nebo stejné úkoly) rozdělujeme cvičení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vojic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kupin (za skupinu považujeme již triádu a každý další větší celek)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aždý proti každému – každý člen skupiny bojuje proti všem ostatním sám za seb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upina proti skupině – cvičenci bojují společně, rozdělení ve skupinách, členové každé skupiny navzájem kooperuj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ednotlivec proti skupině – cvičenec bojuje proti skupině jako celku, nebo postupně proti jednotlivcům ze skupin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63634"/>
                </a:solidFill>
                <a:latin typeface="Times New Roman"/>
              </a:rPr>
              <a:t>Podle </a:t>
            </a:r>
            <a:r>
              <a:rPr b="1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ásti těla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jako cvičení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až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oho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trup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hlav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binované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řad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řad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 nářadí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či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čin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náčiním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10:25Z</dcterms:created>
  <dc:creator>Home</dc:creator>
  <dc:description/>
  <dc:language>en-US</dc:language>
  <cp:lastModifiedBy>HOME</cp:lastModifiedBy>
  <dcterms:modified xsi:type="dcterms:W3CDTF">2006-03-08T08:12:34Z</dcterms:modified>
  <cp:revision>7</cp:revision>
  <dc:subject/>
  <dc:title>Rozvoj pohybových dovedností</dc:title>
</cp:coreProperties>
</file>