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2008-382A-47E5-B005-9D31EA2765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0B0BA-75C6-4EEE-A425-4EF7B2D2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C1CE2-ADFC-4015-BF86-C257D785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F6220-F0F7-4B4F-8650-BCDEC3EC77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D0448-781F-40E3-9F06-63422058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5FD75-4378-4D96-B2EA-1352EDAE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33F0B-341A-4842-8BF3-396E0C9D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97047-15B4-4B0C-8096-D2A7D3CC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BEDF5-D9F0-4679-AE59-AB66F676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3521C-5CD0-4049-B394-068B5684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F8F83-FDBD-46CA-81CA-8C31B9DB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F1D0E-5833-46E5-90C1-D3EFF612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CFB5-8C5A-4021-A90A-C20C832EEF55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250D-4602-45B1-B00D-1DAD235FD005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5F9AE-0A55-448E-B624-34AC5A22FE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83081-AEE6-4205-86A6-FFBF498FF6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1503D-F10E-4536-BEB9-AEDF275D15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525EE-2EC3-400B-824C-64720C6840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A0CA8-B877-45BD-A137-F5ABE9413F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HOME</cp:lastModifiedBy>
  <cp:lastPrinted>2003-10-23T14:31:15Z</cp:lastPrinted>
  <dcterms:modified xsi:type="dcterms:W3CDTF">2006-03-08T07:54:27Z</dcterms:modified>
  <cp:revision>63</cp:revision>
  <dc:subject/>
  <dc:title>Selling an Idea or a Product</dc:title>
</cp:coreProperties>
</file>