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A75-2054-4370-A63D-F45A24BB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F9D-BF1F-42EE-851C-B5E326FF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E59-BAD2-4EED-845C-45E87BAC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E65-4FA1-4CD2-A774-45C2DF40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4048-403D-44B3-9B6D-FA9E509F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D846-909E-4ED5-860D-ED7E92D3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F643-24F7-433A-9B9C-FDDE1A82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2FD0-40A0-4F38-89A6-17442636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EA2F-AC70-43AA-A7C1-14A14B1B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AB8C-A10C-4389-B009-FF13A3D1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1579-1BB3-4F65-BD9B-23233429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FCC-8CC7-4093-B7ED-933F6C53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625E-A4B4-4668-871D-4271E599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FCCC-A14F-4C89-BCD4-F041E7A1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7CAE-6154-43CC-940B-903B1E75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2DCE-BB95-4312-8FFC-0B89B8FD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4E4A-3985-472B-9956-C3002182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B0F3-2918-40F9-83ED-39A73C1E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514C-AC88-402D-8851-D70FA93D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EDCC-BBE9-407C-BDDA-9368AF10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F9E-A578-4FA6-84A7-F0CF013D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166-A34C-4B44-91F2-95A113AF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4D0-DD93-402B-A5D9-394C79A8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23AF-C399-4235-9F66-2CCF33A0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B5B9-13C9-4351-8F17-5B77AB7C0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D5D9-FA00-47E9-B460-60DCEDE9B3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údó, džú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HOME</cp:lastModifiedBy>
  <dcterms:modified xsi:type="dcterms:W3CDTF">2006-03-12T09:26:20Z</dcterms:modified>
  <cp:revision>4</cp:revision>
  <dc:subject/>
  <dc:title>Úpolové sporty na světových hrách</dc:title>
</cp:coreProperties>
</file>