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B98-7D00-4D89-A4E4-D7D581D8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0DE5-EE9C-4368-A3D9-4D52CCEC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6AB-AF4F-41E0-9C93-549B1F42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E9E-BC09-49B7-8476-75D1CC82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64DD-D98C-4F71-B0C2-48071129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A412-06BD-45D7-8080-2CAE8F29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D4C4-0551-4FCB-AEB6-D641ED54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068E-27D4-4EA4-9AA1-5817E44A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73EF-8873-40AB-B2EA-14CEAE4D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4A82-C76F-4EBB-91BF-87E6F4E8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2EBF-3C02-4325-8393-D4F5CB02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CC0-97F2-48DD-8541-FF3310B8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83FF-2C8F-484C-82E0-EDF821DD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580D-6B4D-43F8-8B9A-A33991DA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B9D2-8A5F-4045-8E64-F72B2088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6AE4-0594-4CEA-B5E3-D2ECEE79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2D07-0DBA-4B21-A663-B752AD66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4BD-FE62-482E-B482-57F61523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2EA-D382-41D4-B8B3-A98E6F32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38C-30A6-4835-A311-0DBD8C62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082-FDE8-4EB0-A17B-C603BBB6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597-C09A-4072-B30B-D6FE344F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A85-7303-4AE9-B697-30F34449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264-A01B-4BF7-9A6A-151BF17C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81D9-A049-4AA3-929B-9FC4D12AD2D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E2B3-C273-41FF-A312-5032FE71052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organizova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těž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činno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Reguli</cp:lastModifiedBy>
  <dcterms:modified xsi:type="dcterms:W3CDTF">2006-03-07T13:39:17Z</dcterms:modified>
  <cp:revision>11</cp:revision>
  <dc:subject/>
  <dc:title>Systematika úpolov</dc:title>
</cp:coreProperties>
</file>