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3AC-B11F-46E7-93D8-8DE1A51A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393-19E3-455A-8E08-3FB7FD21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4188-F83C-409D-A357-3E0ABCFC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F30-E684-4CE2-A401-16C76B68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613E-0E20-4711-B840-43666C2C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4090-D86B-4F30-BF6A-EBF3865B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8F6F-F631-4A04-9CF7-A2F3CB1F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4733-D8BA-4BB1-931B-E5CBF975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FA3C-E65E-4B8D-81F7-840AB884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A8D3-5477-4530-BEA5-5F19D0BE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A837-A6F9-4EDE-81D0-C4AC02AB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313-D712-47A4-AD4B-44BE30A8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F4E0-8396-4575-BFEC-14C1D30E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E948-CFD2-4D6F-B935-5EB272DD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7D35-88B8-459D-8146-12C813F8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F0EC-736D-4E62-AD2D-2A14183B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DACF-34A6-4075-8C8F-640BE7B2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2CB-B3BA-4D24-A485-E1F44A07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87C-5DFE-40D1-AB2C-1917C2EC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309-F25C-481E-9488-773C07D5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D49-0C18-4B7B-ADD2-F6A3542C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3FB-3B46-4A41-96AF-81390CE4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A5D-0D27-4544-9DA7-7B321670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BE6-6554-424F-8901-65FFBF87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F8B5-FC84-4790-AB5E-217D22A11BD6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AFF1-5D32-4C23-A63B-9A04E09B0962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s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čs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HOME</cp:lastModifiedBy>
  <dcterms:modified xsi:type="dcterms:W3CDTF">2006-03-08T06:55:19Z</dcterms:modified>
  <cp:revision>3</cp:revision>
  <dc:subject/>
  <dc:title>Bojová umění</dc:title>
</cp:coreProperties>
</file>