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2F3C-6FBC-4CF9-BAC1-B7C76829D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B066-95B6-4AF0-A24E-B5D63E5D7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B5B2-89FF-4624-AEDA-3CD933826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A8C7-1A59-491E-9A44-A1DBAE1D6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55803-BA8D-4265-9A6F-BE2C01E59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E36B4-962C-4A3F-B3D5-42F82DAE5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0B37E-9A65-4444-9F53-CD6E874E5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545FE-A80A-45BE-8830-58F60A930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60375-D172-43C5-8D7E-D65ADC8A6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1F934-332D-4B50-BDD5-8C5760D26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0D6AC-67A2-4B4C-B4CC-B171A3D9D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2D67-CA96-4E74-BF56-4FCF8D0F2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AC2ED-357A-4746-ABE9-CA53DA311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35CAE-17C1-4927-8BF9-A71C7394F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D1A92-C205-4269-955C-5D78824C7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BE7F4-0DCB-4363-863F-EB82B8A43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D4D21-75ED-41FB-839B-161B54988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8FE3-ED13-406D-9D4F-D372CAE76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E90F-811E-47AC-A0D0-62D05EFD1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D885-69B3-446B-8048-50D6F1D39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67B8-BFDA-42A2-9850-6A177225F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8671-17E1-4B30-A71F-9BD9A33B1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65C8-4EB7-41B2-93A3-A0A11009F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D22A-192E-4626-99ED-A606F619F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382AB-FEE6-4D3E-BFA8-7E91C99368B4}" type="slidenum"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D64DB-1650-46F5-8863-7D6DA01D1C9D}" type="slidenum"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46363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6363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Rozvoj úpolových pohybových dovednost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ynamizac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e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cvičení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mezení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rostoru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a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ředků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Čas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ez časového omezení (cvičení se končí splněním úpolového úkolu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s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časovým omezením (cvičení se končí po uplynutí určeného času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ynamizac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e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cvičení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mezení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rostoru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a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ředků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or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ez prostorového omezení (cvičenci využívají všechen dostupný prostor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s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orovým omezením (cvičenci mohou využívat jen omezený prostor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ynamizac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e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cvičení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mezení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rostoru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a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ředků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ředky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omezení prostředků (cvičenec může použít na splnění úkolu jakýkoliv pohybový prostředek v souladu s druhem cvičení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omezením prostředků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odle úkol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čtu účastník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zaměření na jednotliv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é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ásti těla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užití nářadí a náčin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 cvičen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užitých technických prostředk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 prostoru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000" spc="-1" strike="noStrike">
                <a:solidFill>
                  <a:srgbClr val="795241"/>
                </a:solidFill>
                <a:latin typeface="Times New Roman"/>
              </a:rPr>
              <a:t>Způsoby rozvoje úpolových pohybových dovedností</a:t>
            </a:r>
            <a:endParaRPr b="0" i="1" lang="en-US" sz="4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463634"/>
                </a:solidFill>
                <a:latin typeface="Times New Roman"/>
              </a:rPr>
              <a:t>Nácvik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463634"/>
                </a:solidFill>
                <a:latin typeface="Times New Roman"/>
              </a:rPr>
              <a:t>Výkon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000" spc="-1" strike="noStrike">
                <a:solidFill>
                  <a:srgbClr val="795241"/>
                </a:solidFill>
                <a:latin typeface="Times New Roman"/>
              </a:rPr>
              <a:t>Nácvik úpolových pohybových dovedností</a:t>
            </a:r>
            <a:endParaRPr b="0" i="1" lang="en-US" sz="4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Je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zaměřen na učení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e pohybovým dovednostem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určením obránce a útočníka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určením dopředu dohodnutých technik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volným použitím technik (nebo skupiny technik)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určení obránce a útočníka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určením dopředu dohodnutých technik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volným použitím technik (nebo skupiny technik)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000" spc="-1" strike="noStrike">
                <a:solidFill>
                  <a:srgbClr val="795241"/>
                </a:solidFill>
                <a:latin typeface="Times New Roman"/>
              </a:rPr>
              <a:t>Výkon úpolových pohybových dovedností</a:t>
            </a:r>
            <a:endParaRPr b="0" i="1" lang="en-US" sz="4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Je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zaměřen na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projev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hybový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ch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dovednost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í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portovní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 podle soutěžního nebo jiného (např. zkušebního) řádu (i verbálně formulovaného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ebeobranný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 ve skutečné krizové situaci, vyžadující konat v mezích nutné obrany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odle úkol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čtu účastník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zaměření na jednotliv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é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ásti těla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užití nářadí a náčin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 cvičen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užitých technických prostředk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 prostoru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odle rozdělení úkolů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rozeznáváme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cvičení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rozdělením úkolů (na obránce a útočníka, jeden z cvičenců je po dobu jednoho cvičení vždy jen obráncem nebo jen útočníkem, jejich pohybové (úpolové) úkoly se liší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rozdělení úkolů (cvičenci jsou současně obránci i útočníky, úkoly zúčastněných jsou zpravidla stejné)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odle počtu účastníků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(mohou mít rozdílné nebo stejné úkoly) rozdělujeme cvičení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dvojic,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kupin (za skupinu považujeme již triádu a každý další větší celek)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1" marL="683280" indent="-262800" algn="just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každý proti každému – každý člen skupiny bojuje proti všem ostatním sám za sebe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683280" indent="-262800" algn="just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</a:rPr>
              <a:t>s</a:t>
            </a: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kupina proti skupině – cvičenci bojují společně, rozdělení ve skupinách, členové každé skupiny navzájem kooperují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683280" indent="-262800" algn="just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jednotlivec proti skupině – cvičenec bojuje proti skupině jako celku, nebo postupně proti jednotlivcům ze skupiny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63634"/>
                </a:solidFill>
                <a:latin typeface="Times New Roman"/>
              </a:rPr>
              <a:t>Podle </a:t>
            </a:r>
            <a:r>
              <a:rPr b="1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části těla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jako cvičení: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až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nohou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trupu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hlavy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k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mbinované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P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dle použ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it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í nářadí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nářadí,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na nářadí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P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dle použ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it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í náčiní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náčiní,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náčiním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2T21:10:25Z</dcterms:created>
  <dc:creator>Home</dc:creator>
  <dc:description/>
  <dc:language>en-US</dc:language>
  <cp:lastModifiedBy>HOME</cp:lastModifiedBy>
  <dcterms:modified xsi:type="dcterms:W3CDTF">2006-03-08T08:12:34Z</dcterms:modified>
  <cp:revision>7</cp:revision>
  <dc:subject/>
  <dc:title>Rozvoj pohybových dovedností</dc:title>
</cp:coreProperties>
</file>