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8320-DDC6-49DC-A9BC-8A337D17E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AA0A-C1B8-4F3F-8470-3E155E9C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2BFF-1DF1-4C3B-A278-2D5AA44A1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4DC7-B7E2-4D0C-A752-5D8B2B50D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FA3B-1EBD-426B-A23E-A29A5881C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ED92-6384-46DA-BB39-D7C8A8F0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CA32-8933-4415-8B5C-3B03ED98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FCAB-7361-44BA-BA50-D2094B53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8AE0-C13B-4FFA-BF3D-C005649A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0D0C-C570-4D2E-BCDF-F1BE7901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03A3-9909-4BA2-9346-0E615821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567C-166A-4F4D-B48C-4FAB4C0B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FF6A-E71A-45B8-8714-D387A178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3767-27F9-402E-8B97-D8C95D24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EFF8-A6BF-40CA-AC6E-4945B4BA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3429-1968-43C1-A3C3-9C04FA977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56FC-57E6-4B36-B7EE-9EDD8486F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29C0-6477-4D2F-8332-B561DE11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F232-883C-4C9A-8050-B15DF0BD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360F-9A1B-44B4-BA9C-F9CEDCC8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046E-C601-4ACE-AD60-40835039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903D-C5F5-4D79-B353-43B1D007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9331-61E0-46DD-B9AB-A40A6349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4B17-D31D-4C39-ACE9-41BAE382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9375-A3B7-4D65-B9A3-7BDBFB7051D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9CFE-2242-4347-8F97-47BB237087B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ystematika (taxonomie)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ebeobran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zniká aplikací úpolů 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</a:rPr>
              <a:t>pro potřeby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utné obran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osobní (+s. žen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fesn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8</a:t>
            </a: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 odporu jiných cvičenců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Cvičení nářaďová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 Cvičení se skupině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8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. bez náčiní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Odpory. Cílem je jenom překonávat odpor spolucviče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c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a jeho činnost je dopředu známá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Zápas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jen  odpor protivníkovi, ale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naha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řemoci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o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Shodit ho na zem tak, aby se stal jeho další odpor nemožným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Box – rohování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Ú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ok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žemi nebo nohami, jako i odvracení těchto útoků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. s náčiním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 šerm šavlí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 šerm fleuretem (končířem)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šerm holí: krátkou (80-100 cm), dlouhou (do výše cvičencovy brad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4. šerm bodákem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šerm dýkou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Autoři zabývající se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1939 - F. Smotlach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3 – J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vl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6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7 – R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Kří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7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4 – I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Fojtí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93 – M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Ďure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Taxonomi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erarchické zařazení určitých prvků podle předem stanovených kriteri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nejjednodušších po nejsložitějš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vývojově starších k mladší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leduje i dadaktické cí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chéma systematik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úroveň úpolových p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ř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dpoklad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rů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vné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úroveň úpolových systém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ové 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úroveň úpolových aplik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ra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ostorové vztahy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09680" y="1447920"/>
          <a:ext cx="46738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447920"/>
                    <a:ext cx="46738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Úpolové spor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jvětší a rozhodující skupi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úpolů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mostatné úpolové systémy. Vzájemně se odlišují znaky, jako vlastní název, vývoj, prostředky, organizace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 (podle zaměření)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utěž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eobran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mplexně rozvíjejíc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2:01:25Z</dcterms:created>
  <dc:creator>Home</dc:creator>
  <dc:description/>
  <dc:language>en-US</dc:language>
  <cp:lastModifiedBy>user</cp:lastModifiedBy>
  <dcterms:modified xsi:type="dcterms:W3CDTF">2006-03-07T11:15:46Z</dcterms:modified>
  <cp:revision>4</cp:revision>
  <dc:subject/>
  <dc:title>Systematika (taxonomie) úpolů</dc:title>
</cp:coreProperties>
</file>