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F3FA-7CA0-4470-B405-9354D89C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8410-359D-49A7-A942-8E3107CC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A929-327B-43DD-9ECA-2B815990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9701-BA9D-4A83-A9EA-8CDCC50B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DD49-3EC6-4BA7-B55B-173A5012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061D-D974-4CF3-AE55-569EF4F1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29EB-DA8F-412C-9196-41698774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C9E2-6861-4B9E-BF59-E1BCA0D9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F4FB-3155-4B80-BE6C-51B9F3B0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7100-8C58-4CC5-AF65-14A2C8CD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C17F-F3FC-4567-871A-7D3A0199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DF9F-F089-416F-8B55-154A19F4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431E-CB9B-4C8C-AD82-4254E6AB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F2C6-E4A8-4516-97ED-EBBBA105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D198-616C-4AC1-9E22-54298CAF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B53A-BC9A-4799-AD10-D7D78284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C9F0-1738-4AFC-9945-4C203670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6EB6-88C7-4459-B90B-D8E63426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6CBF-0671-46C8-9448-9729F17C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CE7A-BCBD-46A8-B6B3-47BB6BF1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3E95-9840-446A-A637-C37311A7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7D68-91D2-49DA-8246-EFC9E40B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48E4-5D63-4385-990D-6C521A99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AA81-1165-4F8B-BE57-9630FC7E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65BB-3F31-4059-BAAF-0EDCE3C3D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CABC-0530-40C2-86F0-277DCD3C8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Úpoly v osnovách školní TV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šiřující 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 sebeobran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te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římý úder rovnostran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chní, vnější kr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p vpř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ůpravné úpol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přetahy a přetla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ju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aiki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karatedó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Specifické poznatky, n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áv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y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ýznam úpolových spor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pro sebeobranu a bran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filozofie sebeobran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nnos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, 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I aspekty vy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zne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boj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prvk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zpe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uvol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l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a; u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dom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si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ži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; s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d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os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specifika bezpe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osti 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ol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Pohybov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avn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é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ahy,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laky,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l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h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ostoje,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a pohyb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sto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h, odpory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ch, sled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pohyb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reagu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pohyb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Sebeo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 na zemi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boj o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k z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zemi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obje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c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u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Dopor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en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roz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š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ř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uj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al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vh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ebeob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žú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at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raz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ó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o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Aiki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a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(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uty, vyto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Karate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 stejnost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hor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sp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v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ry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op v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cc6600"/>
                </a:solidFill>
                <a:latin typeface="Times New Roman"/>
              </a:rPr>
              <a:t>říklad celoročního plánu pro I. roč. gymnázia, chlapci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76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Obsah úpolů z pohledu jejich taxonomi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pravné úp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polové spo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ebeobr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33320" y="3193920"/>
            <a:ext cx="365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stupeň         1. stupe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987640" y="473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Náro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.-9. roč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 a úpolové odpory v různých polohách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pád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vybraného úpolového sport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znatky, návy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ka osvojovan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vní aspekty využití a zneužití úpolových činností, etický přínos úpo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ka bezpečnosti a hygieny při úpolových činnos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uhy úpolových spor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hybov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úpolové odpory v různých poloh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 (vzad skulením do kolébky, kotoulem přes rameno, stranou, převalem, navazování pád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odpory v 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 držení na zemi (jen 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 (zpředu, zeza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ikidó – přidržení paže, výkrut zápěstí, vytočení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karatedó – přímý úder rovnostranný, vrchní kryt, vnější kryt, kop vpř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1. a 2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 kondiční...cvičení je možné zařazovat průpravné přetahy a přetla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3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5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, kondiční...cvičení je možné zařazovat pohybové činnosti z celé škály průpravných úpolů a zdůrazňovat význam vhodné aktivní obrany a přípravy na 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ko rozšiřující může být využito učivo další vzdělávací etapy, přizpůsobené úrovni a zájmům žák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ojmy osvojovaných činností, názvy úpolových sportů, výstroje,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filozofie bojových a sebeobranných činností, právní aspekty využití a zneužití úpolov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rincipy uvolňování a zpevňování těla a jeho částí, uvědomování si těžiště, správného dýchání a přenosu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sady bezpečnosti při úpolových cvičen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ůpravné ú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, úpolové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y (vzad skulením do kolébky, kotoulem přes rameno (stranou, převalem), navazování pá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, držení a pohyb v postojích, odpory v 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 držení na zemí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az ógoš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ki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přidržení paže (výkruty, vytočení zápěst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 by měl žák umět (vědě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význam sebeobranných činností a své možnosti ve střetu s protivní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následky zneužití bojových činností a chová se v duchu fair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vede pojmenovat osvojova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vládá základní postoje, úchopy a vyproštění z drž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9:35:44Z</dcterms:created>
  <dc:creator>HOME</dc:creator>
  <dc:description/>
  <dc:language>en-US</dc:language>
  <cp:lastModifiedBy>HOME</cp:lastModifiedBy>
  <dcterms:modified xsi:type="dcterms:W3CDTF">2006-03-12T11:48:31Z</dcterms:modified>
  <cp:revision>10</cp:revision>
  <dc:subject/>
  <dc:title>Úpoly v osnovách školní TV</dc:title>
</cp:coreProperties>
</file>