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4A4-F47F-4929-9E9E-F4A8C077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549-78ED-4314-A8D0-AC049212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ABD-D217-4075-B6F5-2C41EE28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53E-37B1-446E-967F-F64D9582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011B-41F9-4158-836D-7FD8B114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423F-CD0B-4DED-A5B8-A7453984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C761-A1F7-4A38-AFC1-13314B25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194B-5DC3-4EFE-B078-E1855EEE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18F1-1AB5-433F-932A-70C5FD0D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E920-B0D7-4CBD-908D-55E82A45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2425-EE6F-431A-B05A-4620BC70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5D0-AC17-4BC7-A994-DAA0D3FE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85B3-25D5-4DB4-AC97-5E236049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F771-1EFD-4F14-8E5B-2401FFA4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0B09-FE25-4EFE-8D5D-22213FA2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DBC0-B769-4821-9C6A-B3036E3C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2C72-9839-493D-9D30-A8B4AC73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361-A5BD-409F-986C-711E5058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CEA-9CE1-4D75-AC1E-1B88D87D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AD1-2B0E-4473-84CA-20E8EE94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90C-CD9D-4A5D-9FF0-7277009E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A91-C66A-4951-AB1B-8544ED94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CD5-A400-4BBF-823D-C655F5CE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630-3AFA-4A29-A243-B6014496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1138-0A03-48FA-8836-959FD1132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B715-5D96-4C36-8A58-FEFA006D0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HOME</cp:lastModifiedBy>
  <dcterms:modified xsi:type="dcterms:W3CDTF">2006-03-12T09:24:25Z</dcterms:modified>
  <cp:revision>7</cp:revision>
  <dc:subject/>
  <dc:title>Úpolové sporty uznané IOC</dc:title>
</cp:coreProperties>
</file>