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3CE-B7AE-441F-95A8-0640E940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B8A-AE3F-442C-84FE-3A617DC6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23F-D539-4262-BAEF-16E57308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623-37A6-44CC-B69A-37370362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4225-8AF8-4916-8DEF-A3969069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94D9-AF9E-4729-AB3A-5F03324C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7B99-0B2B-42C6-BC8F-2F49162A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C4E2-0447-4D07-AC50-02799F5A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8B38-F241-4922-A285-893B4B83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FD7F-D246-472D-B026-02FA6138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7E56-BC20-4182-A268-8CC3056E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7C4-9818-4AB0-AF6D-3FEF704C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8CE4-F63F-40B6-9A75-94497BCD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47EA-D6B0-4982-A2FB-87F8A41F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C64C-9341-4544-84E8-A68CB025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83D3-9E24-4828-8D7A-B5B453A0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5F37-CB93-44F7-AA79-26F3C2A3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85F-BBEF-4C67-AC90-94A7B334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617-0216-4763-9794-142D2013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0D9-5768-46DF-914D-323E051B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AA9-38CD-422C-880A-65B7D6BE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BA4-8F48-4622-B18D-0A1B170C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CF2-E86E-4942-8AD4-9A9EEFD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F5B-4EEC-4FBE-9F6A-DCBAB1D0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D873-3537-462C-AD33-E9F78872B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B333-755B-4720-A32B-45D546782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i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a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user</cp:lastModifiedBy>
  <dcterms:modified xsi:type="dcterms:W3CDTF">2006-02-26T04:57:23Z</dcterms:modified>
  <cp:revision>3</cp:revision>
  <dc:subject/>
  <dc:title>Determinanty didaktiky úpolů</dc:title>
</cp:coreProperties>
</file>