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4CD6-3D6D-44F5-BBF5-E5F5CE4AF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BB1E-A642-45F8-AD08-43D96305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FC9E-C010-4E83-B45A-F72632177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EF98-EEE1-492A-B7A5-8650F0853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8CBF-99E0-4208-A05F-C4F22542B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967E-6DB0-450A-915E-2495B566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04E7-E523-4C12-9595-DAC0779C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934E-4830-4A9B-AA4E-0B68B888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82B5-6266-4B72-98A3-561321B5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00B0-C29A-413E-B090-2509AB31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16AE-9326-4311-93D0-39280BD6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51FA-B241-47C8-8127-90DD934B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E983-FCDA-45EA-9EFC-437CB91A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2009-AFC2-4CB0-9EC3-8CE489EC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187C-AA04-4340-AE65-342304D0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1709-5507-4A54-A130-624C8D738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4F47-4D38-4739-B59B-D9FAE1074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1E94-443B-4897-A2EE-AB14CB4D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A788-E330-4B45-8F74-AB08CCE8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559D-F026-406C-A0EF-54F163F3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6774-52EA-4C66-B35E-0672688A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C166-337A-48FF-84B5-6A0C3FEC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691B-0D20-4846-B94B-AE618803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7688-16E1-40CA-90FD-D765EC06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B4D5-DDBE-4DE1-8463-04A4CFC0C865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FC85-FB2E-44B8-810E-DF4495BDAF3D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Z historie úpolových činnost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akralizace – posvěcení násil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ové činnosti jako nedílná součást vzdělání a dobrých mrav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řeba omluvy násil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Boží vů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yšší ideá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Společenská nevyhnutnost (sebeochran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Helénské období – starověké Řec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formační zdro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istori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ozofové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et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anhelénské h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lympijské hr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ápas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l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18. Olympiáda, 706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x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ygm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23. Olympiáda, 68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boj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nkration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33. Olympiáda, 64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Kalokagat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Řecký ideál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jení duševní a tělesné krás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 různých městských státech byla jinak chápána (Atény...Spart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60360" y="20520"/>
            <a:ext cx="8388360" cy="5227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4960" y="5465880"/>
            <a:ext cx="50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Řecko, amfora s malbou od Andocides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25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Řím – úpadek sport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Gladiatorské zápas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rofesionalizm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eci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rut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ozvoj vojenstv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- Evrop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7 ctností (septem probitates)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jízda na koni (equ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plavání (na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ukostřelba (sag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zápas (caestibus), šerm (cer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ov (aucupari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šach (scacis lude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veršování (versificare)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– samurajové, Japons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unbu rjódó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vojí cesta – vzdělání v boji i kultuř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á výchov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7 let páž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14 let pano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21 let rytí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axe rytířů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turna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o 15. – 16. století bojový charak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Fiktivní systém inscenovaných soubojů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ehistor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ové činnosti na počátku lidstva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 a získávání potrav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ochrana rodu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ělesná cvičení, h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Měšťanská a lidová kultur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řesťanství : Ora et labora (modli se a pracuj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lečenské vrstv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bellatores (ti, kteří válč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oratores (ti, kteří se modlí, duchovenstvo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aboratores (ti, kteří pracuj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é akademie (17. 18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ástup humanizmu, znovuobjevování antických i rytířských ideá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akade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antropin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Úpoly v tělovýchovných systémech (19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ěmecko – turnérské hnutí (vlastenectví+branná příprava+gymnastik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Švédsko – gymnastika vojenská, pedagogická, zdravotní, estetick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rancie – F. Amoros, tělesná výchova pro mládež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nglie – orientace na spo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ostupná diferenci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a počátku – všichni všechn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zději rozdělení (i  s vnitřní specializací)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Lov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Bojovní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dokonalení technologií = zdokonalení bo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Elektronicé informační zdro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ron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 Chronological history of the Martial Arts and Combative Spor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ttp://ejmas.com/kron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tarověké civiliz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rcheologický výzkum dokazuje existenci řízeného nácviku úpo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d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Mezopotá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Egyp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8680" y="0"/>
            <a:ext cx="4027320" cy="6669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272200" y="2081160"/>
            <a:ext cx="333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80000" y="2421000"/>
            <a:ext cx="3168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31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Rukojeť obřadního nož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959360" cy="6327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415120" y="1341360"/>
            <a:ext cx="373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um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aleziště Džafaja u Bagdádu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8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Bronzová sošk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3120" y="5321160"/>
            <a:ext cx="808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, Ben Hasa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robka prince Chetih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05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níci – mýtičtí hrdinové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řiznání magických vlastností bojovníkům – hrdinům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hové nebo jejich potom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omek boha a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lověk ve spojení s božskou sílou (předmětem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2:21:27Z</dcterms:created>
  <dc:creator>Home</dc:creator>
  <dc:description/>
  <dc:language>en-US</dc:language>
  <cp:lastModifiedBy>user</cp:lastModifiedBy>
  <dcterms:modified xsi:type="dcterms:W3CDTF">2006-03-07T11:12:11Z</dcterms:modified>
  <cp:revision>7</cp:revision>
  <dc:subject/>
  <dc:title>Z historie úpolových činností</dc:title>
</cp:coreProperties>
</file>