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E6F2-23CB-4F60-8EFF-453E718A4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56CC-9991-4B26-B99F-665538A1E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5F58-0407-4068-A493-F67C976C3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6D21-9E5C-43C4-AFF0-F39262620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58DE3-8926-427E-9F57-B47A3E134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C039C-6BBC-448A-9E74-2C89BCB2F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45BF3-CF10-40B5-A40F-B80C5ED95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B27A4-8020-42CF-987B-561998300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09EF6-AFF2-4B4E-8D66-3A7BAA7CE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51C37-1316-4B67-A67E-B522B344D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46F42-A7A8-4F92-A543-453E830F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F3BB-73D6-43FD-B305-24BB2BDF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C0280-01DF-462D-9223-D25A5136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9D7E8-1F7A-43A3-8BED-ED0EADE2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50280-CE36-4AC8-9E67-D7E458353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778B9-4B6C-42D1-BDAD-6D94218A8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5CC3C-B807-4468-92D3-DB0A217A0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C66F-A6B0-471F-BAF5-2A913AFBE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A6CD-88A9-4164-B720-B61484B3E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339E-7B55-459C-A104-F19B1B873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3B1A-66B8-4493-9031-01D936F2A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B199-671D-40A0-B824-EC7ECBD5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4904-8BFC-4DFD-BCB8-FCF4035E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2A41-1F20-4B1F-8384-4C8996FA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79997-8C7D-4CE4-B24A-F41A15EA32B8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12E69-B075-44FC-ACE7-7D7ACBCF0A5B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Úpoly na našich územích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2. Světová válk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Centralizace zájmové činnost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dpora úpolových sportů – nástroj propagand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Osobnosti v perzekuci/v bojí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Socialistický spor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Výrazná orientace na soutěž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ropagace režimu, boj mezi kapitalizmem a socializme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Centralizace sportu (Národní front – ČSSTV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dpora mládež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dpora vrcholového sport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Oddíly a jejich členové 1957-197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685800" y="2209680"/>
            <a:ext cx="7225920" cy="4572000"/>
            <a:chOff x="685800" y="2209680"/>
            <a:chExt cx="7225920" cy="4572000"/>
          </a:xfrm>
        </p:grpSpPr>
        <p:grpSp>
          <p:nvGrpSpPr>
            <p:cNvPr id="146" name=""/>
            <p:cNvGrpSpPr/>
            <p:nvPr/>
          </p:nvGrpSpPr>
          <p:grpSpPr>
            <a:xfrm>
              <a:off x="690840" y="2212920"/>
              <a:ext cx="7215120" cy="4564440"/>
              <a:chOff x="690840" y="2212920"/>
              <a:chExt cx="7215120" cy="4564440"/>
            </a:xfrm>
          </p:grpSpPr>
          <p:grpSp>
            <p:nvGrpSpPr>
              <p:cNvPr id="147" name=""/>
              <p:cNvGrpSpPr/>
              <p:nvPr/>
            </p:nvGrpSpPr>
            <p:grpSpPr>
              <a:xfrm>
                <a:off x="690840" y="2212920"/>
                <a:ext cx="1651320" cy="639000"/>
                <a:chOff x="690840" y="2212920"/>
                <a:chExt cx="1651320" cy="63900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764640" y="2212920"/>
                  <a:ext cx="150408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Rok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</a:rPr>
                    <a:t>S</a:t>
                  </a: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por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90840" y="2212920"/>
                  <a:ext cx="165132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2342520" y="2212920"/>
                <a:ext cx="926640" cy="639000"/>
                <a:chOff x="2342520" y="2212920"/>
                <a:chExt cx="926640" cy="63900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241632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5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234252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269880" y="2212920"/>
                <a:ext cx="927000" cy="639000"/>
                <a:chOff x="3269880" y="2212920"/>
                <a:chExt cx="927000" cy="63900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3343680" y="2212920"/>
                  <a:ext cx="77904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6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269880" y="2212920"/>
                  <a:ext cx="92700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4197240" y="2212920"/>
                <a:ext cx="926640" cy="639000"/>
                <a:chOff x="4197240" y="2212920"/>
                <a:chExt cx="926640" cy="63900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427068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6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724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5124600" y="2212920"/>
                <a:ext cx="926640" cy="639000"/>
                <a:chOff x="5124600" y="2212920"/>
                <a:chExt cx="926640" cy="63900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519840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6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12460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6051600" y="2212920"/>
                <a:ext cx="926640" cy="639000"/>
                <a:chOff x="6051600" y="2212920"/>
                <a:chExt cx="926640" cy="63900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612540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7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605160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6978960" y="2212920"/>
                <a:ext cx="927000" cy="639000"/>
                <a:chOff x="6978960" y="2212920"/>
                <a:chExt cx="927000" cy="63900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7052760" y="2212920"/>
                  <a:ext cx="77904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7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978960" y="2212920"/>
                  <a:ext cx="92700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690840" y="2851920"/>
                <a:ext cx="1651320" cy="981360"/>
                <a:chOff x="690840" y="2851920"/>
                <a:chExt cx="1651320" cy="98136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764640" y="2851920"/>
                  <a:ext cx="1504080" cy="98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Box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690840" y="2851920"/>
                  <a:ext cx="1651320" cy="981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2342520" y="2851920"/>
                <a:ext cx="926640" cy="490680"/>
                <a:chOff x="2342520" y="2851920"/>
                <a:chExt cx="926640" cy="4906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241632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0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34252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3269880" y="2851920"/>
                <a:ext cx="927000" cy="490680"/>
                <a:chOff x="3269880" y="2851920"/>
                <a:chExt cx="927000" cy="49068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3343680" y="285192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3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269880" y="285192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4197240" y="2851920"/>
                <a:ext cx="926640" cy="490680"/>
                <a:chOff x="4197240" y="2851920"/>
                <a:chExt cx="926640" cy="49068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427068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9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19724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5124600" y="2851920"/>
                <a:ext cx="926640" cy="490680"/>
                <a:chOff x="5124600" y="2851920"/>
                <a:chExt cx="926640" cy="49068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519840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5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512460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6051600" y="2851920"/>
                <a:ext cx="926640" cy="490680"/>
                <a:chOff x="6051600" y="2851920"/>
                <a:chExt cx="926640" cy="49068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12540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605160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6978960" y="2851920"/>
                <a:ext cx="927000" cy="490680"/>
                <a:chOff x="6978960" y="2851920"/>
                <a:chExt cx="927000" cy="49068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7052760" y="285192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6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6978960" y="285192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2342520" y="3342960"/>
                <a:ext cx="926640" cy="490320"/>
                <a:chOff x="2342520" y="3342960"/>
                <a:chExt cx="926640" cy="49032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241632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77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34252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3269880" y="3342960"/>
                <a:ext cx="927000" cy="490320"/>
                <a:chOff x="3269880" y="3342960"/>
                <a:chExt cx="927000" cy="49032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3343680" y="3342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58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3269880" y="3342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4197240" y="3342960"/>
                <a:ext cx="926640" cy="490320"/>
                <a:chOff x="4197240" y="3342960"/>
                <a:chExt cx="926640" cy="49032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427068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38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19724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5124600" y="3342960"/>
                <a:ext cx="926640" cy="490320"/>
                <a:chOff x="5124600" y="3342960"/>
                <a:chExt cx="926640" cy="49032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9840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86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12460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6051600" y="3342960"/>
                <a:ext cx="926640" cy="490320"/>
                <a:chOff x="6051600" y="3342960"/>
                <a:chExt cx="926640" cy="49032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612540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83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605160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6978960" y="3342960"/>
                <a:ext cx="927000" cy="490320"/>
                <a:chOff x="6978960" y="3342960"/>
                <a:chExt cx="927000" cy="49032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7052760" y="3342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31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6978960" y="3342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690840" y="3833280"/>
                <a:ext cx="1651320" cy="981000"/>
                <a:chOff x="690840" y="3833280"/>
                <a:chExt cx="1651320" cy="98100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764640" y="3833280"/>
                  <a:ext cx="1504080" cy="98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Džúdó a karate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90840" y="3833280"/>
                  <a:ext cx="1651320" cy="981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2342520" y="3833280"/>
                <a:ext cx="926640" cy="490320"/>
                <a:chOff x="2342520" y="3833280"/>
                <a:chExt cx="926640" cy="49032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241632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34252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3269880" y="3833280"/>
                <a:ext cx="927000" cy="490320"/>
                <a:chOff x="3269880" y="3833280"/>
                <a:chExt cx="927000" cy="49032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3343680" y="38332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8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3269880" y="38332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4197240" y="3833280"/>
                <a:ext cx="926640" cy="490320"/>
                <a:chOff x="4197240" y="3833280"/>
                <a:chExt cx="926640" cy="49032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427068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419724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5124600" y="3833280"/>
                <a:ext cx="926640" cy="490320"/>
                <a:chOff x="5124600" y="3833280"/>
                <a:chExt cx="926640" cy="49032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519840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12460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6051600" y="3833280"/>
                <a:ext cx="926640" cy="490320"/>
                <a:chOff x="6051600" y="3833280"/>
                <a:chExt cx="926640" cy="4903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612540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3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05160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6978960" y="3833280"/>
                <a:ext cx="927000" cy="490320"/>
                <a:chOff x="6978960" y="3833280"/>
                <a:chExt cx="927000" cy="49032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7052760" y="38332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30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978960" y="38332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2342520" y="4323960"/>
                <a:ext cx="926640" cy="490320"/>
                <a:chOff x="2342520" y="4323960"/>
                <a:chExt cx="926640" cy="4903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241632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5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234252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3269880" y="4323960"/>
                <a:ext cx="927000" cy="490320"/>
                <a:chOff x="3269880" y="4323960"/>
                <a:chExt cx="927000" cy="49032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3343680" y="4323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150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269880" y="4323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4197240" y="4323960"/>
                <a:ext cx="926640" cy="490320"/>
                <a:chOff x="4197240" y="4323960"/>
                <a:chExt cx="926640" cy="49032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427068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90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19724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5124600" y="4323960"/>
                <a:ext cx="926640" cy="490320"/>
                <a:chOff x="5124600" y="4323960"/>
                <a:chExt cx="926640" cy="49032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519840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96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12460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051600" y="4323960"/>
                <a:ext cx="926640" cy="490320"/>
                <a:chOff x="6051600" y="4323960"/>
                <a:chExt cx="926640" cy="49032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612540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19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05160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6978960" y="4323960"/>
                <a:ext cx="927000" cy="490320"/>
                <a:chOff x="6978960" y="4323960"/>
                <a:chExt cx="927000" cy="49032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7052760" y="4323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538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6978960" y="4323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690840" y="4814640"/>
                <a:ext cx="1651320" cy="981360"/>
                <a:chOff x="690840" y="4814640"/>
                <a:chExt cx="1651320" cy="98136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764640" y="4814640"/>
                  <a:ext cx="1504080" cy="98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Šerm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690840" y="4814640"/>
                  <a:ext cx="1651320" cy="981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2342520" y="4814640"/>
                <a:ext cx="926640" cy="490680"/>
                <a:chOff x="2342520" y="4814640"/>
                <a:chExt cx="926640" cy="49068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241632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234252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3269880" y="4814640"/>
                <a:ext cx="927000" cy="490680"/>
                <a:chOff x="3269880" y="4814640"/>
                <a:chExt cx="927000" cy="49068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3343680" y="481464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6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3269880" y="481464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4197240" y="4814640"/>
                <a:ext cx="926640" cy="490680"/>
                <a:chOff x="4197240" y="4814640"/>
                <a:chExt cx="926640" cy="49068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427068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419724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5124600" y="4814640"/>
                <a:ext cx="926640" cy="490680"/>
                <a:chOff x="5124600" y="4814640"/>
                <a:chExt cx="926640" cy="49068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519840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6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12460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6051600" y="4814640"/>
                <a:ext cx="926640" cy="490680"/>
                <a:chOff x="6051600" y="4814640"/>
                <a:chExt cx="926640" cy="49068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612540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05160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6978960" y="4814640"/>
                <a:ext cx="927000" cy="490680"/>
                <a:chOff x="6978960" y="4814640"/>
                <a:chExt cx="927000" cy="49068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7052760" y="481464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6978960" y="481464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2342520" y="5305680"/>
                <a:ext cx="926640" cy="490320"/>
                <a:chOff x="2342520" y="5305680"/>
                <a:chExt cx="926640" cy="4903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241632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08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234252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3269880" y="5305680"/>
                <a:ext cx="927000" cy="490320"/>
                <a:chOff x="3269880" y="5305680"/>
                <a:chExt cx="927000" cy="49032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3343680" y="53056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060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3269880" y="53056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4197240" y="5305680"/>
                <a:ext cx="926640" cy="490320"/>
                <a:chOff x="4197240" y="5305680"/>
                <a:chExt cx="926640" cy="49032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427068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78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419724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5124600" y="5305680"/>
                <a:ext cx="926640" cy="490320"/>
                <a:chOff x="5124600" y="5305680"/>
                <a:chExt cx="926640" cy="49032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519840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10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512460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6051600" y="5305680"/>
                <a:ext cx="926640" cy="490320"/>
                <a:chOff x="6051600" y="5305680"/>
                <a:chExt cx="926640" cy="49032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612540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85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05160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978960" y="5305680"/>
                <a:ext cx="927000" cy="490320"/>
                <a:chOff x="6978960" y="5305680"/>
                <a:chExt cx="927000" cy="49032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7052760" y="53056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00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978960" y="53056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690840" y="5796360"/>
                <a:ext cx="1651320" cy="981000"/>
                <a:chOff x="690840" y="5796360"/>
                <a:chExt cx="1651320" cy="98100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764640" y="5796360"/>
                  <a:ext cx="1504080" cy="98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Zápa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690840" y="5796360"/>
                  <a:ext cx="1651320" cy="981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342520" y="5796360"/>
                <a:ext cx="926640" cy="490320"/>
                <a:chOff x="2342520" y="5796360"/>
                <a:chExt cx="926640" cy="49032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41632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34252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3269880" y="5796360"/>
                <a:ext cx="927000" cy="490320"/>
                <a:chOff x="3269880" y="5796360"/>
                <a:chExt cx="927000" cy="49032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3343680" y="57963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3269880" y="57963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4197240" y="5796360"/>
                <a:ext cx="926640" cy="490320"/>
                <a:chOff x="4197240" y="5796360"/>
                <a:chExt cx="926640" cy="49032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27068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0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419724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5124600" y="5796360"/>
                <a:ext cx="926640" cy="490320"/>
                <a:chOff x="5124600" y="5796360"/>
                <a:chExt cx="926640" cy="49032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519840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512460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6051600" y="5796360"/>
                <a:ext cx="926640" cy="490320"/>
                <a:chOff x="6051600" y="5796360"/>
                <a:chExt cx="926640" cy="4903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612540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05160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6978960" y="5796360"/>
                <a:ext cx="927000" cy="490320"/>
                <a:chOff x="6978960" y="5796360"/>
                <a:chExt cx="927000" cy="49032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7052760" y="57963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8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978960" y="57963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2342520" y="6287040"/>
                <a:ext cx="926640" cy="490320"/>
                <a:chOff x="2342520" y="6287040"/>
                <a:chExt cx="926640" cy="49032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241632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85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234252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3269880" y="6287040"/>
                <a:ext cx="927000" cy="490320"/>
                <a:chOff x="3269880" y="6287040"/>
                <a:chExt cx="927000" cy="4903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3343680" y="628704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06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3269880" y="628704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4197240" y="6287040"/>
                <a:ext cx="926640" cy="490320"/>
                <a:chOff x="4197240" y="6287040"/>
                <a:chExt cx="926640" cy="4903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427068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28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419724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5124600" y="6287040"/>
                <a:ext cx="926640" cy="490320"/>
                <a:chOff x="5124600" y="6287040"/>
                <a:chExt cx="926640" cy="4903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519840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44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12460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051600" y="6287040"/>
                <a:ext cx="926640" cy="490320"/>
                <a:chOff x="6051600" y="6287040"/>
                <a:chExt cx="926640" cy="4903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12540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91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05160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6978960" y="6287040"/>
                <a:ext cx="927000" cy="490320"/>
                <a:chOff x="6978960" y="6287040"/>
                <a:chExt cx="927000" cy="4903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7052760" y="628704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09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978960" y="628704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4" name=""/>
            <p:cNvSpPr/>
            <p:nvPr/>
          </p:nvSpPr>
          <p:spPr>
            <a:xfrm>
              <a:off x="685800" y="2209680"/>
              <a:ext cx="7225920" cy="4572000"/>
            </a:xfrm>
            <a:prstGeom prst="rect">
              <a:avLst/>
            </a:prstGeom>
            <a:noFill/>
            <a:ln cap="sq"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Po roce 198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Znížená podpora stát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Vícezdrojové financová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voj nových úpolových sport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Decentralizace sportovního hnut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Staří Slované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5. – 6. stol.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Různé samostatné rod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Neměli stálé vojsk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Upřednostňování partyzánského vedení válk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Středověk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Úpolové činnosti v rytířské kultuř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Měšťanská kultura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I úpolové h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Vztah ke každodennímu životu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Postupná institucionalizac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659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-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založena Královská česká zemská stavovská šermírn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Městské šermírn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etkávání různých společenských skupi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Tělovýchovné ústavy v Česku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30 byl Hirschův ústav v Praz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3 Steffanyho (později přejmenován na Stegmayerův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5 Segenův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8 Schmidtův-Malypetrův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1862 - Soko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Úpoly na Slovenskom území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2 I. T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ocvičný ústav pr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rešovské kol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é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giu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4 šermířská a tělocvičná škola F. Martineng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73 I. B. Zocha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Krátk</a:t>
            </a:r>
            <a:r>
              <a:rPr b="0" i="1" lang="sk-SK" sz="3200" spc="-1" strike="noStrike">
                <a:solidFill>
                  <a:srgbClr val="ffffcc"/>
                </a:solidFill>
                <a:latin typeface="Times New Roman"/>
              </a:rPr>
              <a:t>y</a:t>
            </a:r>
            <a:r>
              <a:rPr b="0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návod k vyučovaniu telocviku hlavne pre školy národni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Tělocvičná soustava Sokolská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2060280"/>
            <a:ext cx="82087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.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ičení bez nářadí a bez pomoci nebo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 odporu jiných cvičenců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. Cvičení nářaďová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I. Cvičení se skupině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V.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y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Rozvoj sportu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Šer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Zápas a box (přelom 19. – 20. stol.) – těžká atletik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Amatéř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rofesionálov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Džúdžucu (1910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První Československá republik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voj úpolů, stejně jako všeho v nové republi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Zákon o branné výchově 1. 7. 1937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odpora tělovýchovných aktivi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Zvýšený zájem o úpolové činnost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Spojení s branností a vlastenectví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23:40:49Z</dcterms:created>
  <dc:creator>Home</dc:creator>
  <dc:description/>
  <dc:language>en-US</dc:language>
  <cp:lastModifiedBy>Vit</cp:lastModifiedBy>
  <dcterms:modified xsi:type="dcterms:W3CDTF">2007-02-20T09:35:00Z</dcterms:modified>
  <cp:revision>5</cp:revision>
  <dc:subject/>
  <dc:title>Úpoly na našich územích</dc:title>
</cp:coreProperties>
</file>