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FB32-7367-4A26-B720-C0809BFD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B05F-211E-4C5E-A3DD-9BDD371F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ED4-CD02-42DF-91A5-7F0123B8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520D-1C23-47F8-98FB-FD6C4BA8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32C4-477D-42FA-B6D1-A99F7EA0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21C1-7924-4E9E-8AF0-15010D0B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94D9-4F78-449E-A737-27F45339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21C7-7322-4420-93A9-4E2FD9B8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1F41-DF1F-4C71-A70D-07F3DFA5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FD79-6B4D-41BA-B525-EA455B54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E284-E85F-4E74-A720-A0BDA3E0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398B-F62A-4523-BC1F-C3731FD8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E410-F948-4D10-BAD2-6E5EB68E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3BAE-101C-48AC-8BB2-7ABE7396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002C-2790-4AA5-A045-EB89646B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4EAC-9675-4E50-8B24-AFEA54AD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748E-C2C0-43EC-8F12-239DF154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371-AF82-4762-8513-A05E3640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373B-D5AF-4CEE-9DDE-769104F1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A40-CFBE-4A9F-8429-B2DC5CCB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5573-7670-4ACC-908D-17424489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69B-2FFA-4440-B35F-F057163D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C27-E2FE-4DCF-9A49-5B163830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15F-EF88-454A-9C4C-CEC38326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7030-1BF6-4D3D-AF7B-277B6F9A6C8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7475-CA12-4CA4-BC68-9A3C7491DD4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í (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beobrana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 že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spcBef>
                <a:spcPts val="799"/>
              </a:spcBef>
              <a:buClr>
                <a:srgbClr val="ffff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u jiných cviče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   Cvičení nářaďov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  Cvičení se skupin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35240" y="1447920"/>
          <a:ext cx="46735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447920"/>
                    <a:ext cx="4673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Reguli</cp:lastModifiedBy>
  <dcterms:modified xsi:type="dcterms:W3CDTF">2007-03-07T10:29:29Z</dcterms:modified>
  <cp:revision>7</cp:revision>
  <dc:subject/>
  <dc:title>Systematika (taxonomie) úpolů</dc:title>
</cp:coreProperties>
</file>