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60FD-967B-4F1B-BE0A-2DC43EC93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223F-8F88-400D-ABB5-7B571AA6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AFEE-1369-47E0-A7C1-1F9300454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CE7B-2361-4F64-B1D6-BB0C9A8F9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6A6F-D24F-46D3-9F87-65DAD6196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21CB-18D2-4EE3-9113-D400417E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F9A4-A81F-42A0-B507-54EFD879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E881-D1C5-4484-AC22-8B92A89F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B48C-7B76-4CED-823C-417ED522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ABC6-6014-4A3B-87A6-BB7FA446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EE36-31A2-494D-B413-D22D6B4D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D19D-99C7-4FB5-9860-A165BFD2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714B-6B72-4DBD-A092-DCA40F0F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570B-E9F9-48BF-9AD5-5A23FA87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F79D-3E9B-4816-ABA5-6F1BAEE6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B303-C753-45E9-8AB3-018AC3C0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A9690-9B50-4DDE-8546-7CD6B7B4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A4AC-19EC-4500-A28B-B10E7CE2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7C23-084F-4E44-AD56-671CF244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F67C-9FDB-4CC7-956A-2DD5F678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7AC4-3F8F-43E6-A776-F271F349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6B9D-27BC-40E0-BF16-3445E7A8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A67B-A8DD-4764-9F95-82BF5883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CC15-530C-46A8-AA82-A64132EB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B35D-012A-445E-B2EB-160F40AE79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F8C8-8E1D-400F-8F83-DD8835E797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e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efinice úpol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toliko za odporu jiného cvičence vykonatelné (Tyrš 186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při kterém přemáháme sílu jiného cvičence, který nám klade odpor, nebo s námi zápasí (Sokolská s. 193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ělesná cvičení, jimiž se v přímém střetnutí s protivníkem usiluje o překonání jeho odporu či jeho přemožení (Fojtík 1980-9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 jsou pohybové aktivity zacílené na kontaktní fyzické překonání partne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o úpolů zařazujeme i specifická cvičení, která jsou přímou průpravou na kontaktní překonání partnera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Spor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vojí cháp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činnost zaměřená na vrcholný výkon prezentovaný na soutěž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jakákoliv zájmová pohybová činnost (Evropská charta sportu, 199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1992 – Evropská charta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šechny formy tělesné činnosti, které ať již prostřednictvím organizované účasti či nikoli, si kladou za cíl projevení či zdokonalení tělesné i psychické kondice, rozvoj společenských vztahů nebo dosažení výsledků v soutěžích na všech úrovních.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62 M. Tyr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ičení bez nářadí a bez pomoci nebo odporu jiných cvičenc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. Cvičení nářaď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I. Cvičení se skupin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V.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39 František Smotla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řirozená (biologická) cvičební soust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 skupin základních a speciálních cvik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I. skupin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očátky úbrany a bo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Úpoly: zápas, box, šerm, brana (džúdžuc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945 Václav Fi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  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áklad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ýkonné pohyby s p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od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skluz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       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pomo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í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prav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h pros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k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anec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rytm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prost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na ná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d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ové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3 – Kody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heuristicko – i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 (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úpo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enzoricko – koncentr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izikové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eticko – koordin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 funk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mobiliz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5 Šprynar – Stráň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atletika, gymnastika,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.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zápas, box, šerm, vzp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rán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í h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echni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le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1997 J. Mu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dividuáln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spo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tlet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ymnastick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kov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oj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1:24:08Z</dcterms:created>
  <dc:creator>Home</dc:creator>
  <dc:description/>
  <dc:language>en-US</dc:language>
  <cp:lastModifiedBy>Vit</cp:lastModifiedBy>
  <dcterms:modified xsi:type="dcterms:W3CDTF">2007-02-20T08:33:39Z</dcterms:modified>
  <cp:revision>7</cp:revision>
  <dc:subject/>
  <dc:title>Úpoly ve sportu</dc:title>
</cp:coreProperties>
</file>