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BCD4-6740-4BAD-BAE6-8CEBD1E3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9D2B-C322-49A0-8F5E-E1992922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4D8C-4E6E-4192-A944-16F1AC10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74F2-3AFE-449A-BBE0-BB481F1B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58FD-590F-48C1-83B2-0AD0EC14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FCB9-165C-4044-93E1-30743442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38CD-9E00-490B-BE40-D808E1A9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F4C0-00FA-4299-9714-3D426935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7E4A-8B50-4D75-AFE4-B9F59FA6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04A6-D8B8-40E4-AD9A-A43D89FE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63B8-8D86-47BF-AB2D-C2B1AA04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34F2-C602-4DA8-9AD6-AEA12D73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499B-4EF9-4B05-99E1-13EDA1EC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9F38-489E-430E-B243-B6C3D745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7242-3D23-4510-8C74-A1DABEC1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329D-0F2D-4CCE-A61A-0831AA31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0E4B-ADA9-4D75-A36F-7F455707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1911-0A14-4040-900D-CDC08597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C435-B7DE-4835-9C3F-66CA8812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A8A5-37D1-44EB-B339-2391AEFC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3F8B-5FEA-465F-A2E0-13A155DB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88CF-B831-46A3-9C27-1938E57B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6403-38A1-4D46-B91C-9935C590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FD5C-7DD0-4D99-BC42-6E33D32B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74FA-536B-47C1-8FD7-41445DE34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99C7-1678-49C7-9223-66312388F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Úpoly v osnovách školní TV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šiřující 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lší sebeobran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te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římý úder rovnostran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rchní, vnější kr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p vpř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ůpravné úpol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přetahy a přetla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2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ju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aiki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karatedó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Specifické poznatky, n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áv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y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ýznam úpolových spor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pro sebeobranu a bran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filozofie sebeobran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nnos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, 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í aspekty vy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zne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boj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prvk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zpe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uvol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l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a; u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dom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si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ži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; s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d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os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specifika bezpe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osti 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ol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Pohybov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avn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é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ahy,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laky,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l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h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ostoje,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a pohyb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sto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h, odpory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ch, sled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pohyb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reagu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pohyb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Sebeobr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 na zemi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boj o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k z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zemi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obje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c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u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Dopor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en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roz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š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ř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uj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al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vh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ebeob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žú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at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raz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ó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o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Aiki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a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(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uty, vyto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Karate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 stejnost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hor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sp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v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ry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op v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cc6600"/>
                </a:solidFill>
                <a:latin typeface="Times New Roman"/>
              </a:rPr>
              <a:t>říklad celoročního plánu pro I. roč. gymnázia, chlapci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76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Obsah úpolů z pohledu jejich taxonomi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pravné úp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polové spo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ebeobr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433320" y="3193920"/>
            <a:ext cx="365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stupeň         1. stupe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987640" y="4738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Náro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.-9. roč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 a úpolové odpory v různých polohách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pád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vybraného úpolového sportu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znatky, návy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ka osvojovan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vní aspekty využití a zneužití úpolových činností, etický přínos úpol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ka bezpečnosti a hygieny při úpolových činnoste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uhy úpolových spor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hybov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úpolové odpory v různých poloh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 (vzad skulením do kolébky, kotoulem přes rameno, stranou, převalem, navazování pádů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odpory v 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 držení na zemi (jen 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 (zpředu, zeza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ikidó – přidržení paže, výkrut zápěstí, vytočení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karatedó – přímý úder rovnostranný, vrchní kryt, vnější kryt, kop vpř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1. a 2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 kondiční...cvičení je možné zařazovat průpravné přetahy a přetlak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3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5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, kondiční...cvičení je možné zařazovat pohybové činnosti z celé škály průpravných úpolů a zdůrazňovat význam vhodné aktivní obrany a přípravy na 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ko rozšiřující může být využito učivo další vzdělávací etapy, přizpůsobené úrovni a zájmům žák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ojmy osvojovaných činností, názvy úpolových sportů, výstroje,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filozofie bojových a sebeobranných činností, právní aspekty využití a zneužití úpolov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rincipy uvolňování a zpevňování těla a jeho částí, uvědomování si těžiště, správného dýchání a přenosu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sady bezpečnosti při úpolových cvičení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ůpravné ú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, úpolové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y (vzad skulením do kolébky, kotoulem přes rameno (stranou, převalem), navazování pá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, držení a pohyb v postojích, odpory v 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 držení na zemí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raz ógoš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ki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přidržení paže (výkruty, vytočení zápěst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 by měl žák umět (vědě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význam sebeobranných činností a své možnosti ve střetu s protivník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následky zneužití bojových činností a chová se v duchu fair 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vede pojmenovat osvojova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vládá základní postoje, úchopy a vyproštění z drž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9:35:44Z</dcterms:created>
  <dc:creator>HOME</dc:creator>
  <dc:description/>
  <dc:language>en-US</dc:language>
  <cp:lastModifiedBy>HOME</cp:lastModifiedBy>
  <dcterms:modified xsi:type="dcterms:W3CDTF">2006-07-13T22:08:34Z</dcterms:modified>
  <cp:revision>13</cp:revision>
  <dc:subject/>
  <dc:title>Úpoly v osnovách školní TV</dc:title>
</cp:coreProperties>
</file>