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9192-91F5-44C2-BB48-00A183140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F5EC-BC6A-4676-9E67-223F8120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6E2A-91F2-400D-8B3A-C85DA1E13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9978-67DD-4FA1-9689-544197E07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CCDC0-A518-4C2A-BD14-B65203F76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6E4D9-B7F8-4FBC-BDAD-A6EC51B4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875C-F65E-4778-B577-EC9BEA0C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86D96-0644-48F2-B315-1517FABA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4AF99-6269-4E84-8573-3EDC0ED5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EC835-FFC5-4761-A9D4-DA152754E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6D4B4-1BDD-422D-8C46-CC9E30F2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2711-C830-49D9-9506-537ABF20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5FEB0-9B65-4B37-8E7F-86B2E1D5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CB7B2-50EC-4FF6-A05E-F960A8D1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AE06C-8863-449B-809C-409E0E8B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AD7F8-C225-4012-92B8-D782AB390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BE624-4C31-4E15-B28C-A656D9FFE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9828-6D09-4285-8998-B324A0A3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3B2F-3201-478F-838F-4CE7FA32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C046-5090-485E-B6BE-9F39033C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56A8-349E-455D-807D-D08ABD68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074A-2243-478A-8581-A69BF295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003B-ABFB-4594-81EC-F9AD0AC1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630B-DD7C-41C8-A3C3-E703D185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B792-F84E-4F37-BD9A-9E7895AD0ADA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93F0-C81D-463C-A768-32E0F2F59629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Název bojová uměn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Častěji se používá od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.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1989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ejednotné chápání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zijské systém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 o úpolových sportec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– martial arts (ang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Art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umění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Martial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vztahující se k bohu Marsovi (řecky Áre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bojový, vojenský, válečný, souvisejíci s bojem a válkou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(definice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zejména pohybové systémy, které se vyvinuli ze starých způsobů boje, a které se dnes provádějí jako součást životní cesty, pro sport, sebeobranu, nebo je jejich cílem zachování tradice a kulturního dědictví.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a úpo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, co se dotýká vedení válk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Techniky, taktika, technolog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Úpoly jsou pohybovými aktivitami, pracují s kontakt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a úpo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09480" y="2257560"/>
          <a:ext cx="7927920" cy="361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57560"/>
                    <a:ext cx="7927920" cy="36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16:45:27Z</dcterms:created>
  <dc:creator>Home</dc:creator>
  <dc:description/>
  <dc:language>en-US</dc:language>
  <cp:lastModifiedBy>Vit</cp:lastModifiedBy>
  <dcterms:modified xsi:type="dcterms:W3CDTF">2007-02-20T09:03:30Z</dcterms:modified>
  <cp:revision>4</cp:revision>
  <dc:subject/>
  <dc:title>Bojová umění</dc:title>
</cp:coreProperties>
</file>