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C8312-7014-4E57-960B-28ED41BA3D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2BA21-39A2-4CB9-89FC-E3EEC4D6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FE645-C142-4DDC-8CAC-B5D3C37C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CE3DF-1FA7-45C9-8646-CAE19567E2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6B918-AA29-4099-BD37-810E3A57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CDC58-762C-4CB7-B223-BBA46488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B8889-4FF0-41B0-AE48-D2360A8A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968D8-5AE5-4D4F-8797-D59CF824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652E6-B0E6-451C-823B-C5EB4F6D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30974-2118-40AF-9C2C-EA013AA6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71387-A24F-4309-9D70-62AE863A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4E147-7CBB-440D-BA6F-9D4321EE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4292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340000">
            <a:off x="2196720" y="819000"/>
            <a:ext cx="139680" cy="18720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360" y="1052640"/>
            <a:ext cx="819000" cy="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0800" y="1041480"/>
            <a:ext cx="0" cy="55548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4320" y="1582560"/>
            <a:ext cx="5545080" cy="255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19160" y="6191280"/>
            <a:ext cx="9263160" cy="965160"/>
          </a:xfrm>
          <a:custGeom>
            <a:avLst/>
            <a:gdLst/>
            <a:ahLst/>
            <a:rect l="l" t="t" r="r" b="b"/>
            <a:pathLst>
              <a:path w="5835" h="608">
                <a:moveTo>
                  <a:pt x="0" y="241"/>
                </a:moveTo>
                <a:lnTo>
                  <a:pt x="3861" y="241"/>
                </a:lnTo>
                <a:lnTo>
                  <a:pt x="3861" y="202"/>
                </a:lnTo>
                <a:lnTo>
                  <a:pt x="3861" y="174"/>
                </a:lnTo>
                <a:lnTo>
                  <a:pt x="3861" y="145"/>
                </a:lnTo>
                <a:lnTo>
                  <a:pt x="3859" y="0"/>
                </a:lnTo>
                <a:lnTo>
                  <a:pt x="5834" y="0"/>
                </a:lnTo>
                <a:lnTo>
                  <a:pt x="5834" y="607"/>
                </a:lnTo>
                <a:lnTo>
                  <a:pt x="0" y="607"/>
                </a:lnTo>
                <a:lnTo>
                  <a:pt x="0" y="24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376440" y="6576840"/>
            <a:ext cx="2622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08760" y="6178680"/>
            <a:ext cx="1558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08760" y="6191280"/>
            <a:ext cx="0" cy="388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5720" y="281160"/>
            <a:ext cx="847656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00" y="1447"/>
                </a:moveTo>
                <a:arcTo wR="10800" hR="10800" stAng="-7200000" swAng="11040000"/>
                <a:lnTo>
                  <a:pt x="10800" y="10800"/>
                </a:lnTo>
                <a:close/>
              </a:path>
              <a:path fill="none" w="21600" h="21600">
                <a:moveTo>
                  <a:pt x="5400" y="1447"/>
                </a:moveTo>
                <a:arcTo wR="10800" hR="10800" stAng="-7200000" swAng="1104000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-6480" y="6526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BB93-67BF-496E-84D7-603B757F1617}" type="datetime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7154640" y="6526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262B-2940-475A-A3A2-653BE0943E00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1448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440" y="298440"/>
            <a:ext cx="8439120" cy="838368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168640"/>
            <a:ext cx="55530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1680" y="2711520"/>
            <a:ext cx="9221760" cy="4309920"/>
          </a:xfrm>
          <a:custGeom>
            <a:avLst/>
            <a:gdLst/>
            <a:ahLst/>
            <a:rect l="l" t="t" r="r" b="b"/>
            <a:pathLst>
              <a:path w="5809" h="2715">
                <a:moveTo>
                  <a:pt x="5808" y="0"/>
                </a:moveTo>
                <a:lnTo>
                  <a:pt x="4322" y="0"/>
                </a:lnTo>
                <a:lnTo>
                  <a:pt x="4322" y="452"/>
                </a:lnTo>
                <a:lnTo>
                  <a:pt x="0" y="443"/>
                </a:lnTo>
                <a:lnTo>
                  <a:pt x="0" y="2714"/>
                </a:lnTo>
                <a:lnTo>
                  <a:pt x="3398" y="2713"/>
                </a:lnTo>
                <a:lnTo>
                  <a:pt x="4311" y="2713"/>
                </a:lnTo>
                <a:lnTo>
                  <a:pt x="5808" y="2713"/>
                </a:lnTo>
                <a:lnTo>
                  <a:pt x="5808" y="0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66840" y="3429000"/>
            <a:ext cx="4648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2695680"/>
            <a:ext cx="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26320" y="2695680"/>
            <a:ext cx="834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200" y="281160"/>
            <a:ext cx="839484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2" y="5753"/>
                </a:moveTo>
                <a:arcTo wR="10800" hR="10800" stAng="-9128530" swAng="12968530"/>
                <a:lnTo>
                  <a:pt x="10800" y="10800"/>
                </a:lnTo>
                <a:close/>
              </a:path>
              <a:path fill="none" w="21600" h="21600">
                <a:moveTo>
                  <a:pt x="1252" y="5753"/>
                </a:moveTo>
                <a:arcTo wR="10800" hR="10800" stAng="-9128530" swAng="1296853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47720" y="2476080"/>
            <a:ext cx="409680" cy="180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1152000" y="2374560"/>
            <a:ext cx="171360" cy="171720"/>
          </a:xfrm>
          <a:prstGeom prst="triangle">
            <a:avLst>
              <a:gd name="adj" fmla="val 49995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168640"/>
            <a:ext cx="58212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Funkce bojových umění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01680" y="3940200"/>
            <a:ext cx="55958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Historick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vyhnutelnost boje – rozvoj bojových dovedn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r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ít se znamená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lečenské rozd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0" y="3276720"/>
          <a:ext cx="4237200" cy="28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276720"/>
                    <a:ext cx="423720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A6AEC-27A8-45B3-9BE6-2881FAC544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oučasn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oj tváří v tvář není nevyhnuteln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ransformac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7720" y="35053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outěžní 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6480" y="4267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ebeob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760" y="60958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Komplexní rozv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276720"/>
            <a:ext cx="2971800" cy="2971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8E5F0-E22F-4D16-9B1E-6BC909C1F4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96600"/>
            <a:ext cx="73152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Čtyřdimenzionální rozvoj (funkc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48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747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oc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5334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sych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1676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o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2057040" y="5256360"/>
            <a:ext cx="3886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2057400" y="4191120"/>
            <a:ext cx="3962520" cy="1066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2133720"/>
            <a:ext cx="3962520" cy="3124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1337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48358-50E8-4E61-BC82-37A9874CB1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Funk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6080" y="1980720"/>
            <a:ext cx="4194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zdravý, funkční organizmus a umět ho použ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ýt integrovanou lidskou byt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dobré sociální vzta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smysl živ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410080" y="2438280"/>
            <a:ext cx="3581640" cy="2706840"/>
            <a:chOff x="5410080" y="2438280"/>
            <a:chExt cx="3581640" cy="2706840"/>
          </a:xfrm>
        </p:grpSpPr>
        <p:sp>
          <p:nvSpPr>
            <p:cNvPr id="122" name=""/>
            <p:cNvSpPr/>
            <p:nvPr/>
          </p:nvSpPr>
          <p:spPr>
            <a:xfrm>
              <a:off x="5410080" y="4868640"/>
              <a:ext cx="122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b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63000" y="3809880"/>
              <a:ext cx="126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soc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42440" y="4861080"/>
              <a:ext cx="134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psych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79840" y="2438280"/>
              <a:ext cx="109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no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/>
            <p:nvPr/>
          </p:nvCxnSpPr>
          <p:spPr>
            <a:xfrm>
              <a:off x="6083640" y="4806720"/>
              <a:ext cx="214956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27" name=""/>
            <p:cNvSpPr/>
            <p:nvPr/>
          </p:nvSpPr>
          <p:spPr>
            <a:xfrm>
              <a:off x="6084000" y="4101840"/>
              <a:ext cx="2190960" cy="705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84000" y="2740680"/>
              <a:ext cx="2190960" cy="20667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79840" y="2740680"/>
              <a:ext cx="0" cy="136116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965E6-4636-41DC-AC3B-425115D24D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Biodromalní charak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Rozvoj těla, duše, společnosti a ducha by měl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kontinuál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končí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886200"/>
            <a:ext cx="609840" cy="1371600"/>
          </a:xfrm>
          <a:prstGeom prst="downArrow">
            <a:avLst>
              <a:gd name="adj1" fmla="val 50000"/>
              <a:gd name="adj2" fmla="val 5622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518148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eloživotní c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84BA5-6E8A-4FC4-9F42-2A7392B668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07:30:00Z</dcterms:created>
  <dc:creator>Mala Liyanage</dc:creator>
  <dc:description/>
  <dc:language>en-US</dc:language>
  <cp:lastModifiedBy>Vit</cp:lastModifiedBy>
  <cp:lastPrinted>2003-10-23T14:31:15Z</cp:lastPrinted>
  <dcterms:modified xsi:type="dcterms:W3CDTF">2007-02-20T09:04:13Z</dcterms:modified>
  <cp:revision>63</cp:revision>
  <dc:subject/>
  <dc:title>Selling an Idea or a Product</dc:title>
</cp:coreProperties>
</file>