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1531-3349-4780-BF65-854BFBF2F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1306-CB07-4D07-B1DB-38BE80620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3968-E585-4DEC-8F57-385E350D7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7D35-B4E3-480E-8C1C-04DB73178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596B6-1A49-49BD-B4F7-856E485C7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6FE67-BFDC-43C5-ABB1-292EA0119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9014B-928F-4335-A8CB-44D2AC1F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63AED-96B9-4FBA-9BB9-799E74447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F35A2-2814-46CA-A3AF-6BCAD0F48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C05F5-A270-4537-B303-94778A31B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BF682-E8B8-467B-9F3E-E3BB3603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7876-3E5D-477A-A7E9-CF66D3BB3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D9BD0-F99D-4F26-BF5F-AFACC183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7D776-D3AC-4AAC-857A-436C7D76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347E8-72F2-48A8-AA1E-7085FA171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7C24D-B3DB-41EE-928D-24E312788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123BE-C937-4E4B-BEC0-4EAA90B03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6279-4E5D-4C76-8C18-DBB52A5D6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6E05-FF79-40B8-92A1-6BC01D0FE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9D66-3E42-454F-B4B2-FE04369BE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C11D-C553-4235-89F5-DEBA0B85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8F77-3F6D-424C-9B56-A3F7F51B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7457-909A-4D1C-9E3D-D131DBD6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0154-F9A5-4EEF-9E87-6D78F0B5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9C15E-3665-4535-A989-6294D1A4E401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04C8C-4E06-4787-90C4-EC9EC506DC99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46363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6363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Rozvoj úpolových pohybových dovednost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as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ez časového omezení (cvičení se končí splněním úpolového úkolu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s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asovým omezením (cvičení se končí po uplynutí určeného času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or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ez prostorového omezení (cvičenci využívají všechen dostupný prostor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s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orovým omezením (cvičenci mohou využívat jen omezený prostor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y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omezení prostředků (cvičenec může použít na splnění úkolu jakýkoliv pohybový prostředek v souladu s druhem cvičení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omezením prostředků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úkol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čtu účastní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zaměření na jednotliv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ásti těla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í nářadí a náči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 cviče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ých technických prostřed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 prostoru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Způsoby rozvoje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463634"/>
                </a:solidFill>
                <a:latin typeface="Times New Roman"/>
              </a:rPr>
              <a:t>Nácvik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463634"/>
                </a:solidFill>
                <a:latin typeface="Times New Roman"/>
              </a:rPr>
              <a:t>Výkon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Nácvik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Je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zaměřen na učení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e pohybovým dovednostem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obránce a útočníka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dopředu dohodnutých technik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volným použitím technik (nebo skupiny technik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určení obránce a útočníka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dopředu dohodnutých technik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volným použitím technik (nebo skupiny technik)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Výkon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Je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zaměřen n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rojev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hybový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ch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dovednost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í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portov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 podle soutěžního nebo jiného (např. zkušebního) řádu (i verbálně formulovaného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ebeobranný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 ve skutečné krizové situaci, vyžadující konat v mezích nutné obrany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úkol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čtu účastní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zaměření na jednotliv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ásti těla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í nářadí a náči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 cviče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ých technických prostřed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 prostoru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rozdělení úkolů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rozeznáváme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cviče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rozdělením úkolů (na obránce a útočníka, jeden z cvičenců je po dobu jednoho cvičení vždy jen obráncem nebo jen útočníkem, jejich pohybové (úpolové) úkoly se liší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rozdělení úkolů (cvičenci jsou současně obránci i útočníky, úkoly zúčastněných jsou zpravidla stejné)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počtu účastníků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(mohou mít rozdílné nebo stejné úkoly) rozdělujeme cvičení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dvojic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kupin (za skupinu považujeme již triádu a každý další větší celek)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každý proti každému – každý člen skupiny bojuje proti všem ostatním sám za sebe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kupina proti skupině – cvičenci bojují společně, rozdělení ve skupinách, členové každé skupiny navzájem kooperují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jednotlivec proti skupině – cvičenec bojuje proti skupině jako celku, nebo postupně proti jednotlivcům ze skupiny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63634"/>
                </a:solidFill>
                <a:latin typeface="Times New Roman"/>
              </a:rPr>
              <a:t>Podle </a:t>
            </a:r>
            <a:r>
              <a:rPr b="1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ásti těla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jako cvičení: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až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nohou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trupu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hlavy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k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binované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dle použ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it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í nářad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nářadí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na nářadí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dle použ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it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í náči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náčiní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náčiním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21:10:25Z</dcterms:created>
  <dc:creator>Home</dc:creator>
  <dc:description/>
  <dc:language>en-US</dc:language>
  <cp:lastModifiedBy>Vit</cp:lastModifiedBy>
  <dcterms:modified xsi:type="dcterms:W3CDTF">2007-02-20T09:07:17Z</dcterms:modified>
  <cp:revision>7</cp:revision>
  <dc:subject/>
  <dc:title>Rozvoj pohybových dovedností</dc:title>
</cp:coreProperties>
</file>