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78C2-A83E-4B7B-86EB-E6E161D48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751A-6017-4804-943B-8CEFD525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44F7-2001-456E-A15E-D3C174F31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35F0-5661-4996-A294-F0484D430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0CEF-29D9-4D4A-B8E1-46C8B60D8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0559-490D-41AE-AC10-BEF2DEF4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5053-25E8-49E2-8629-C8725868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18B3-DF9D-4316-8CB6-9CEEDE12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11C9-7DDF-400E-ABEE-6F199521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E2F5-BD81-4D4E-862B-C744E3EE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5F7E-DE9D-40E1-8A82-5D9BA2EA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BE6F-840B-47A0-839C-7DB34666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0B50-15D4-4DAB-B409-88AA2929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A79D-E08D-4EDC-84C8-ABB5088D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A4F9-F197-41E6-8407-9EAD44CA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2F65-6F47-4FC9-8A52-11E36AF2F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C67D-35E9-40A1-B5E6-62A48167A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450F-3F44-41B8-A628-1843BD16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2243-CCAA-4C3E-9971-1CB308C8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2B32-59D3-479A-A03A-DA951D14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D6C6-A78F-490D-A138-6E79B9D6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6EF0-62A7-40EF-BE95-114836CC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D6DF-1914-4E02-AE32-F8E6CFDE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1A50-4F0F-4C1C-9F82-AD133C41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C14F-AD2B-4377-90A9-9A55CD555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323C-A825-46AC-B95A-0F6C5A7253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cc00"/>
                </a:solidFill>
                <a:latin typeface="Arial"/>
              </a:rPr>
              <a:t>Biomechanika pá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v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technik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odopadová poloha</a:t>
            </a: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Le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o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Kinematická analýz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ád vza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09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2" name="075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2210040" cy="1673280"/>
          </a:xfrm>
          <a:prstGeom prst="rect">
            <a:avLst/>
          </a:prstGeom>
          <a:ln w="0">
            <a:noFill/>
          </a:ln>
        </p:spPr>
      </p:pic>
      <p:pic>
        <p:nvPicPr>
          <p:cNvPr id="113" name="076" descr=""/>
          <p:cNvPicPr/>
          <p:nvPr/>
        </p:nvPicPr>
        <p:blipFill>
          <a:blip r:embed="rId2"/>
          <a:stretch/>
        </p:blipFill>
        <p:spPr>
          <a:xfrm>
            <a:off x="3048120" y="2743200"/>
            <a:ext cx="2171520" cy="164448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15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8" name="077" descr=""/>
          <p:cNvPicPr/>
          <p:nvPr/>
        </p:nvPicPr>
        <p:blipFill>
          <a:blip r:embed="rId3"/>
          <a:stretch/>
        </p:blipFill>
        <p:spPr>
          <a:xfrm>
            <a:off x="5410080" y="2733840"/>
            <a:ext cx="2210040" cy="1671480"/>
          </a:xfrm>
          <a:prstGeom prst="rect">
            <a:avLst/>
          </a:prstGeom>
          <a:ln w="0">
            <a:noFill/>
          </a:ln>
        </p:spPr>
      </p:pic>
      <p:pic>
        <p:nvPicPr>
          <p:cNvPr id="119" name="078" descr=""/>
          <p:cNvPicPr/>
          <p:nvPr/>
        </p:nvPicPr>
        <p:blipFill>
          <a:blip r:embed="rId4"/>
          <a:stretch/>
        </p:blipFill>
        <p:spPr>
          <a:xfrm>
            <a:off x="609480" y="4648320"/>
            <a:ext cx="2133720" cy="1616040"/>
          </a:xfrm>
          <a:prstGeom prst="rect">
            <a:avLst/>
          </a:prstGeom>
          <a:ln w="0">
            <a:noFill/>
          </a:ln>
        </p:spPr>
      </p:pic>
      <p:pic>
        <p:nvPicPr>
          <p:cNvPr id="120" name="079" descr=""/>
          <p:cNvPicPr/>
          <p:nvPr/>
        </p:nvPicPr>
        <p:blipFill>
          <a:blip r:embed="rId5"/>
          <a:stretch/>
        </p:blipFill>
        <p:spPr>
          <a:xfrm>
            <a:off x="2971800" y="4619520"/>
            <a:ext cx="2209680" cy="167184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22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5" name="080" descr=""/>
          <p:cNvPicPr/>
          <p:nvPr/>
        </p:nvPicPr>
        <p:blipFill>
          <a:blip r:embed="rId6"/>
          <a:stretch/>
        </p:blipFill>
        <p:spPr>
          <a:xfrm>
            <a:off x="5410080" y="4648320"/>
            <a:ext cx="22100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 Black"/>
              </a:rPr>
              <a:t>Pád vzad s převratem bez zaražení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Z 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stoj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zakročím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a přes podřep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dosedneme na hýždě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na vnější stranu stehna zadní nohy. Převalíme se křížem přes záda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 N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ohy ve vrcholné fázi co nejvíce skrčíme, což způsobí zrychle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evratu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. Obě ruce opřeme o zem a pomůžeme si jimi do podřepu na obou nohách. Kolena se při přechodu do podřepu nesmí dotknout země.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Fázy pádové technik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25671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424160" y="2033640"/>
          <a:ext cx="6119640" cy="425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4160" y="2033640"/>
                    <a:ext cx="611964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Iniciac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ovnováha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u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et všech 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ů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í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í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 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 a silových momen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ů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usí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ýt 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v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nule (∑F</a:t>
            </a:r>
            <a:r>
              <a:rPr b="0" lang="sk-SK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)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atická („nepohyb“, v=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ynamická (rovnoměrný přímočarý pohyb, v=kons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rušení rovnováh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nější síly (exogen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nitřní síly (endogen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Iniciac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ruš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n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opor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loch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dd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stavy 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sa od podložk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(odstrá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n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poško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) samot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ložk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ruše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z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u s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z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nou plocho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ím (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ško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ním, uvol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ím)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u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bu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ím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n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opor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lochy (dotyk s podložkou z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t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á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ím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bu opory o podložku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styku s podložko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ím samot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ložky (posunutím, zm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ou povrchu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Vo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ný pád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ád z výšky v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ž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152 met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 z výšky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z výšky do 152 met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 z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stoj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e: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ád,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k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ého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adaj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dopadá na podložku z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 k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tratil rovnováh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loha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Vertikál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– hlavou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bo noham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Horizontál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– če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bo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ády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oloh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blíž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s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 k 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to d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m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oloh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o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e 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ády s ro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ády bez ro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měny poloh a pohy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ktiv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asiv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ntrola pad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ntrolované pá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kontrolované pá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Dopa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imár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ekundár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raně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íst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zdále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Dopa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ertikální polo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oh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le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ýžd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la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Horizontální polo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Čel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ad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Boč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9:21:32Z</dcterms:created>
  <dc:creator>Sally Reynolds</dc:creator>
  <dc:description/>
  <dc:language>en-US</dc:language>
  <cp:lastModifiedBy>HOME</cp:lastModifiedBy>
  <dcterms:modified xsi:type="dcterms:W3CDTF">2007-01-04T22:01:08Z</dcterms:modified>
  <cp:revision>16</cp:revision>
  <dc:subject/>
  <dc:title>Social Firms From NHS</dc:title>
</cp:coreProperties>
</file>