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9096-1FD9-4584-AF3B-512A3394C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616B-668C-4800-B1E3-A0423923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0B4C-1087-438D-BEEA-691C56D1B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871B-0A19-4040-A5A6-70D501986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0D3A-4345-4A31-879B-5D136A938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AEA7-A407-4252-8252-568AA3FE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79D4-3FB7-48C8-A7A0-34AE968B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594F-1514-4374-89B7-F70E56CD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170F-2448-4B67-83DA-548BC523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8E3E-E911-4D72-8EB3-147B3E4C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C257-F911-4FBF-9C69-9322D560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9026-A562-4505-910C-1FD21B72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8DF7-604D-4EFB-9802-D819B3E4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95DF-F339-4570-A5F4-C50F3D80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9AA5-FB42-4A72-8173-5E72FAC1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ECC4-CC97-4F6E-A408-22A0D0D86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508F-24B2-4F89-AAB4-C17DA977C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93FA-09BE-4AB6-823A-7E785064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67E5-289A-45C3-B9C0-3B4894EC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3E6F-E7FE-4A68-AC9C-E8B1FBEA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B2B3-3DA9-4927-9F10-B4A52F24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B0DF-22F7-4FFB-9A14-393ED126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30B1-D9CC-4CA3-B573-3C474678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3DB0-BA4D-40A5-97EF-63392628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BA68-7712-4BFB-9DF5-00B4941798C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27A4-D9BC-4408-811B-9662A5A9FCD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ystematika (taxonomie)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ebeobran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zniká aplikací úpolů </a:t>
            </a:r>
            <a:r>
              <a:rPr b="1" i="1" lang="sk-SK" sz="3200" spc="-1" strike="noStrike">
                <a:solidFill>
                  <a:srgbClr val="ffffcc"/>
                </a:solidFill>
                <a:latin typeface="Times New Roman"/>
              </a:rPr>
              <a:t>pro potřeby</a:t>
            </a:r>
            <a:r>
              <a:rPr b="1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utné obra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osobní (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beobrana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 že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rofes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chéma systematik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úroveň úpolových p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ř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poklad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rů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vné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úroveň úpolových systém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ové 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úroveň úpolových aplik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ra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8</a:t>
            </a: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 algn="just">
              <a:spcBef>
                <a:spcPts val="799"/>
              </a:spcBef>
              <a:buClr>
                <a:srgbClr val="ffffcc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dporu jiných cvičenc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   Cvičení nářaďov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   Cvičení se skupin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8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. bez náčiní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dpory. Cílem je jenom překonávat odpor spolucviče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c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a jeho činnost je dopředu známá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ápas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jen  odpor protivníkovi, ale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naha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řemoci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o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Shodit ho na zem tak, aby se stal jeho další odpor nemožný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ox – rohování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Ú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k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žemi nebo nohami, jako i odvracení těchto útok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. s náčiním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 šerm šavl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 šerm fleuretem (končířem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šerm holí: krátkou (80-100 cm), dlouhou (do výše cvičencovy brad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4. šerm bodák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šerm dýko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Autoři zabývající se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1939 - F. Smotlach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3 – J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vl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6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7 – R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Kří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7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4 – I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Fojtí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93 – M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Ďur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Taxonomi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erarchické zařazení určitých prvků podle předem stanovených kriteri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nejjednodušších po nejsložitějš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vývojově starších k mladší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leduje i d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aktické cí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chéma systematik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úroveň úpolových p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ř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poklad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rů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vné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úroveň úpolových systém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ové 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úroveň úpolových aplik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ra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ostorové vztahy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35240" y="1447920"/>
          <a:ext cx="467352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5240" y="1447920"/>
                    <a:ext cx="467352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Úpolové spor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jvětší a rozhodující skupi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úpolů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ostatné úpolové systémy. Vzájemně se odlišují znaky, jako vlastní název, vývoj, prostředky, organizace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 (podle zaměření)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utěž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eobran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mplexně rozvíjejíc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2:01:25Z</dcterms:created>
  <dc:creator>Home</dc:creator>
  <dc:description/>
  <dc:language>en-US</dc:language>
  <cp:lastModifiedBy>Reguli</cp:lastModifiedBy>
  <dcterms:modified xsi:type="dcterms:W3CDTF">2007-03-07T10:29:29Z</dcterms:modified>
  <cp:revision>7</cp:revision>
  <dc:subject/>
  <dc:title>Systematika (taxonomie) úpolů</dc:title>
</cp:coreProperties>
</file>