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5201-8E32-45AD-AA61-1A818A9E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CAEC-E536-41D8-85C0-6A0F2294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2F6E-5EBE-41A7-8EE8-EBDC0073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7D2A-5BF4-4DD3-B7FF-E5CADB5A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EDD5-B9D6-4CFB-BF75-815EDBC3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D33C-F79F-469B-9E07-FBD4F686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542D-8D1A-49D0-834D-9DF1CF08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6FBA-A756-4A96-A19D-F71AD123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CC76-EE34-44D0-BA86-18556681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EC4E-28A9-4BAB-8D67-5B54AC1F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296B-632F-4220-AC70-03C54386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32AF-BBD5-45FD-9085-0E4F09AB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F293-372E-4CF9-90E1-97E0AC60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53DB-6A87-4783-8880-EB69BEB7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302D-E66B-45C1-B2D4-D147DE80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3552-CB53-4BA6-A22E-A0F528AC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0F54-FB5B-4659-BD08-D422B0FE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7896-4201-4A72-810C-0033F292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A8CD-EB99-4FA2-ABB9-3A38EE14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CEC0-936B-4113-A4F4-7240DDB3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048F-74D9-4737-BD7C-A801D1AC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7F40-9819-4896-A352-AEB66425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F097-34D6-4C69-B90A-F23D78AE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3D32-7C34-4EA8-8911-DDA631A4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A1DA-6339-44B9-884C-36A70E3257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2FBC-0978-4BE5-83C2-B84DD02FCC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ccffff"/>
                </a:solidFill>
                <a:latin typeface="Tahoma"/>
              </a:rPr>
              <a:t>Determinanty didaktiky úpolů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becné determinan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Fylogeneze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ntogeneze pohy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ociální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sychologické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Fylogeneze lid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byly na počátku existence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ové aktivity člověka doprovázely v kritických obdobích vý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chovaly se archetypy hrdinů – jsou často spojeny s úpolovými aktivit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ní překonání člověka je hluboko v podvědomí, je součástí vnitřní výbavy zdravého jednotli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ntogeneze pohyb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yk je prvním komunikačním prostředkem dítě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ěti spontánně jednají úpolově – v kontaktu (nemají jiné prostředky aktivní obr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pontánní aktivity dětí v různých obdobích pohybového vývoje zahrnují úpolové ak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 didaktiku úpolů je kritické období 8 – 9 let, dítě začíná chápat vztah mezi příčinou a důsledk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Sociální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lze (dlouhodobě) provádět osamo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udují se sociální vazby (silněji v bojových umění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úpolových sportů působí na společnost a opač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úpolů musí být spojeno s přísným dodržováním spoločenských norem (etik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Psychologické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tráta vědomé sebekontroly po dobu cvi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fyzickou (totální) porážkou, nebo vítězstv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bole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gresivita ano, ale konstruktivní (benig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05:35Z</dcterms:created>
  <dc:creator>Home</dc:creator>
  <dc:description/>
  <dc:language>en-US</dc:language>
  <cp:lastModifiedBy>Vit</cp:lastModifiedBy>
  <dcterms:modified xsi:type="dcterms:W3CDTF">2007-02-20T09:06:03Z</dcterms:modified>
  <cp:revision>4</cp:revision>
  <dc:subject/>
  <dc:title>Determinanty didaktiky úpolů</dc:title>
</cp:coreProperties>
</file>