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D651-F3ED-4829-9929-7D82A73D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2E4-97C4-4080-9E51-09E4DDCD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BDDE-C443-4A2A-B47B-109B2B0F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FC19-6080-485C-8C52-121EBF62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0816-8DCD-4F18-874E-11618877F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B258-9715-4AE7-9983-F47439A1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68B2-E943-4A80-9AAB-DDC74A53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183A8-BB6B-4B7C-9D5C-89FA82E9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26CD-F5E5-451C-A792-982D3394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CC1B-A0AE-4D4B-8496-F4B7644F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0B89-4875-4E48-8A92-496C0DA5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353-2839-40C8-929E-D0F558F0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EBB7-F807-46DB-8C19-F92DB0CB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4508A-C108-41C1-8D5E-21998B6A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8AB0-6FD5-4553-9135-AB1816E8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3201-FFB4-4EB4-B227-049CDCAB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2155-C7F0-47D8-9297-1207B138C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34C-A30A-490C-A2CE-ACE6A5A9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166-FC04-4F3B-9849-BFD9849E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723E-E7B5-4F90-9E4B-83510DBC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86F-D86A-4D08-A436-6E8E42DA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70E-4CB4-4587-9B19-8FF6BD95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0F4-589A-4391-8237-10CF2D34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C92-2C3B-4BFE-804E-7891CF28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ACBC-73D7-469F-83A2-DDD7C6118B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BF2F-BA64-4FD7-9CDC-A24F2D6B4A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Vit</cp:lastModifiedBy>
  <dcterms:modified xsi:type="dcterms:W3CDTF">2007-02-20T08:58:53Z</dcterms:modified>
  <cp:revision>7</cp:revision>
  <dc:subject/>
  <dc:title>Úpolové sporty uznané IOC</dc:title>
</cp:coreProperties>
</file>