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1201-0622-4B7D-9D47-D0A439737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D49B-7E53-4F3A-9FED-5EDF4F8C7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7289-93E5-4912-9F1F-5AD918563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94EF-3A74-4739-93FC-ABCAB220C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C651D-54A2-448B-9DB8-95CE330FC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29FFF-A7C4-4EA6-BAC8-9EEE3480A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EA243-DD3C-4ADC-A2E6-C64A89A09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F16B4-E526-4FA2-9C59-5E4347821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5894D-C80E-4C6E-9D24-2001EA327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BD082-98C3-4219-967A-ABF10D0EF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A7ADE-3002-4A9C-82DF-E465ACB3A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DA2C-C3A9-4079-A833-6DDE107C3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B832C-882F-4D55-951A-BB0718435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B7A97-D66D-4DCA-B82E-CE0FC29D7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19420-B5BA-4E5E-9A6B-3F2321737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B480D-1FE9-4177-B936-8D3A1607E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BE683-8AE7-484C-9F35-A45116EE1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64FB-2A98-4DA9-8AFA-77F23FD51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7D2C-6E36-4B0E-8B9D-55EE30453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8DC2-D460-43ED-B31A-773A5E035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56E1-2C6F-45CC-8945-660F40506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3819-A393-4EAD-B346-6B58E767A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5CDE-8D6E-4DBB-BDAD-21C0722F1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E282-5E5C-425E-8EEE-DA2E9B5B3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F3B17-502C-446C-9CEC-D0633C01BD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FA4F7-18E8-4893-A4B0-604267A7CD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Základní úpol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Průpravné úpol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ůpravná cvičení pro jednotlivé úpolové sporty</a:t>
            </a:r>
            <a:r>
              <a:rPr b="1" i="1" lang="sk-SK" sz="2800" spc="-1" strike="noStrike">
                <a:solidFill>
                  <a:srgbClr val="ffffff"/>
                </a:solidFill>
                <a:latin typeface="Times New Roman"/>
              </a:rPr>
              <a:t>, sebeobranu a tělesnou výchovu a sport</a:t>
            </a:r>
            <a:r>
              <a:rPr b="1" i="1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zvíjejí úpolové předpoklady pro nácvik úpolových sportů a sebeobran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Rozdělení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imes New Roman"/>
              </a:rPr>
              <a:t>Základní úpolová techni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imes New Roman"/>
              </a:rPr>
              <a:t>Základní úpo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Základní úpol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tahy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tlaky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por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charakterem přetahů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 charakterem přetlaků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tní odpor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Prostorové vztahy základních úpol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219320" y="2036880"/>
          <a:ext cx="6781680" cy="459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036880"/>
                    <a:ext cx="6781680" cy="45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Přetahy, přetlak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středivě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 přetah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tředivě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 přetlaků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Úkoly (přetah za jednu paži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peř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byl vychýlen do nerovnovážné polo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olik, že musí změnit postoj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dotkl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e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teroukoliv částí těla územ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tahujícího cvič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žádnou částí těla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e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dotýkal svého územ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-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l nucen paži napnou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Odpo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pory s charakterem přetahů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pory s charakterem přetlaků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lastní odpo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Úpolový cíl u odpor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místě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místit (vychýlit z rovnováhy) partnera (horizontálně i vertikálně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měnit polohu určené části těla (končetiny, trup, hlava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místit předmět držený partnerem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že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držet partnera (horizontálně i vertikálně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držet polohu určené části těla (končetiny, trup, hlava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držet držený předmět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Úpolový cíl u odpor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vázání kontaktu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tknout se nebo uchopit partnera (určenou část jeho těla), či předmětu, který drží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bránění kontaktu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bránit dotyku nebo úchopu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1:45:10Z</dcterms:created>
  <dc:creator>Home</dc:creator>
  <dc:description/>
  <dc:language>en-US</dc:language>
  <cp:lastModifiedBy>Vit</cp:lastModifiedBy>
  <dcterms:modified xsi:type="dcterms:W3CDTF">2007-02-20T08:51:17Z</dcterms:modified>
  <cp:revision>2</cp:revision>
  <dc:subject/>
  <dc:title>Základní úpoly</dc:title>
</cp:coreProperties>
</file>