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F6B7-FB5C-4B09-B32A-3CFFC9A4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4721-5635-415D-B7E5-1BD081D2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B8BA-60ED-455E-B25B-CAA83957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15BA-D06E-4927-9CD5-EFEC55FC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078A-CFF8-4906-842A-4A80771F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E52B-FBB0-4772-BE37-2F8E9D2E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6BD8-0142-4CCC-83E8-03D21CD6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350B-4641-4DFF-9110-190B6132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FBA6-462A-419C-AECF-B45306A8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6CAD-A4D9-412D-9F55-87F1C13C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556D-8675-4F1A-8F3D-CA711F79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F00B-83A6-474D-8418-A88B44D5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1A90-8653-461E-8FDE-255848E9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13EE-C1C7-4E5D-8E3E-011AFB2A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CFF9-C477-4D89-BB3D-B9689A5B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FC2F-6B76-4D71-A25C-FAB827FC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E3A4-EA6A-4E89-B359-A8DC5851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D61B-FB63-48E4-A223-6615BDB3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156A-BF9D-4176-B422-16E6D03D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3992-1508-44FC-B436-55AF1A2C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7469-A1FD-48CB-BF70-77E6D7B5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831E-0B00-4324-BDD4-A36BB7F3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E3AB-4C64-41D6-9956-0D635F72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9DD8-1DE9-416E-84FB-D60E0E9F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674B-5845-43D6-8F9B-889BC421CA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068B-0F05-4883-8DEE-E18FD6C391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cc66"/>
                </a:solidFill>
                <a:latin typeface="Times New Roman"/>
              </a:rPr>
              <a:t>Úpolové sporty na světových hrách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Formy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ální souboj dvou soupeřů s využití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hodů, držení apod. v boji v postoji i na zemi (džůdó, zápas, sumó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(box, karate (kumite), taekwond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a hodů, držení atd. (wušu (sanšou), džúdžucu (fighting systém)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se zbraněmi (š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inový souboj dvou družstev (přetahování lan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y technik úpolového sportu se zbraněmi nebo beze zbra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dividuální (karate (kata), wušu (taolu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kupinové (aikidó, karate, wušu, džúdžu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ůvod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989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pské (přetahování lanem, še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uroamerické (box, záp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ij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ponské (aikidó, džůdó, džůdžucu, karate, sum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rejské (taekwo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nské (wuš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Světové hry – předsíň 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ždé 4 roky, rok po OH (2005, Duisbur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uje Mezinárodní sdružení světových her (International World Games Association, IWG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patronátem Mezinárodního olympijského výboru 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oučasnosti 32 spor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é sporty v programu W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ikid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žu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ikid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7800" y="1546200"/>
            <a:ext cx="6046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žúdžuc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906480"/>
            <a:ext cx="39402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28920" y="1523880"/>
            <a:ext cx="36558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521000"/>
            <a:ext cx="694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7913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ercentuální podíl úpolových sportů na olympijských a světových hrách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077320" cy="297180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1981080"/>
                <a:gridCol w="14479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rt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 to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polový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dí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etní) Olympijsk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větov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42:32Z</dcterms:created>
  <dc:creator>Home</dc:creator>
  <dc:description/>
  <dc:language>en-US</dc:language>
  <cp:lastModifiedBy>Vit</cp:lastModifiedBy>
  <dcterms:modified xsi:type="dcterms:W3CDTF">2007-02-20T09:02:29Z</dcterms:modified>
  <cp:revision>5</cp:revision>
  <dc:subject/>
  <dc:title>Úpolové sporty na světových hrách</dc:title>
</cp:coreProperties>
</file>