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C8DC-F3A3-409F-9E32-634F887C1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E3F2-2F97-40BB-9499-CF2ED1BA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326F-854F-49CE-A15A-8EAE775D9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0F3C-C8B8-4E93-92EE-09448D674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E09E-92B1-40FA-BCFD-38B8E134E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2F40-6923-4F24-A7EE-A76D17BA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48FA-98C8-4445-92F0-413FFB0F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DBD9-5EC5-4EE4-A226-A5CC14BA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F354-7A95-4C79-AE6E-962D9B79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1D0D-C6E9-4D75-946E-8DFE8F3E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572C-8364-41D3-A169-8EA8720E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7E41-12E0-42AE-B215-0284D416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D8D0-FB0F-4B66-BD95-1D91502E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A5A3-0A7E-432C-941B-E502ECDC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9861-67CD-47C6-885A-19C676FC6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DBB12-8E53-4EE4-A109-34716FF15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4CD6-3876-4C0E-95DB-33F421619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DAFF-73AA-42CA-9045-3B384854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C63B-860C-4DFC-8598-4B3AEEBB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B698-8E29-45F9-9809-D13A9D2F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FA7A-F36D-4732-B145-7FC958DD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D4CD-20BB-4C23-9DCC-50CF3948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8C2A-B263-4B40-8062-ECFF00B8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981D-827D-41A3-8F97-09E7E769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203A-DC09-4B5E-9EDB-A311F979D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7B5F-7047-4764-9CF2-924FBE903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Úpoly v osnovách školní TV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zšiřující 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lší sebeobran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ate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římý úder rovnostrann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rchní, vnější kry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kop vpř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1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ůpravné úpoly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- přetahy a přetlaky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</a:t>
            </a:r>
            <a:r>
              <a:rPr b="0" i="1" lang="en-US" sz="3600" spc="-1" strike="noStrike">
                <a:solidFill>
                  <a:srgbClr val="cc6600"/>
                </a:solidFill>
                <a:latin typeface="Times New Roman"/>
              </a:rPr>
              <a:t>2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ju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aiki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karatedó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Specifické poznatky, n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áv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y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ýznam úpolových spor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pro sebeobranu a bran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filozofie sebeobran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nnos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, 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í aspekty vy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zne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boj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prvk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zpe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uvol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l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a; u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dom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si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ži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; s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d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os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erg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specifika bezpe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osti 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ole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Pohybov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avn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é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ahy,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laky,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l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h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ostoje,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a pohyb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sto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h, odpory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ch, sled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pohyb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reagu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pohyb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Sebeobra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 na zemi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boj o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k z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zemi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obje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c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u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Dopor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en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roz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š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ř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uj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al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vh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ebeob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n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žú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a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at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raz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ó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o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Aiki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a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(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uty, vyto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Karate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 stejnost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hor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sp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v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ry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op v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0866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6600"/>
                </a:solidFill>
                <a:latin typeface="Times New Roman"/>
              </a:rPr>
              <a:t>P</a:t>
            </a:r>
            <a:r>
              <a:rPr b="0" i="1" lang="cs-CZ" sz="2400" spc="-1" strike="noStrike">
                <a:solidFill>
                  <a:srgbClr val="cc6600"/>
                </a:solidFill>
                <a:latin typeface="Times New Roman"/>
              </a:rPr>
              <a:t>říklad celoročního plánu pro I. roč. gymnázia, chlapci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514600" y="838080"/>
            <a:ext cx="4764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Obsah úpolů z pohledu jejich taxonomi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ůpravné úpo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Úpolové spo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ebeobr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 rot="16200000">
            <a:off x="3433320" y="3193920"/>
            <a:ext cx="365616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ákla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2. stupeň         1. stupe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2987640" y="4738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ře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Náro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.-9. roč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 a úpolové odpory v různých polohách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pád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vybraného úpolového sportu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znatky, návy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ka osvojovan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ávní aspekty využití a zneužití úpolových činností, etický přínos úpol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ka bezpečnosti a hygieny při úpolových činnoste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ruhy úpolových sport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hybov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úpolové odpory v různých polohá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 (vzad skulením do kolébky, kotoulem přes rameno, stranou, převalem, navazování pádů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odpory v 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 držení na zemi (jen 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 (zpředu, zezad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ikidó – přidržení paže, výkrut zápěstí, vytočení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karatedó – přímý úder rovnostranný, vrchní kryt, vnější kryt, kop vpř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1. a 2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 kondiční...cvičení je možné zařazovat průpravné přetahy a přetlak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3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5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, kondiční...cvičení je možné zařazovat pohybové činnosti z celé škály průpravných úpolů a zdůrazňovat význam vhodné aktivní obrany a přípravy na n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ako rozšiřující může být využito učivo další vzdělávací etapy, přizpůsobené úrovni a zájmům žáků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ojmy osvojovaných činností, názvy úpolových sportů, výstroje, vybaven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filozofie bojových a sebeobranných činností, právní aspekty využití a zneužití úpolov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rincipy uvolňování a zpevňování těla a jeho částí, uvědomování si těžiště, správného dýchání a přenosu energ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sady bezpečnosti při úpolových cvičení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ůpravné ú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, úpolové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y (vzad skulením do kolébky, kotoulem přes rameno (stranou, převalem), navazování pá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, držení a pohyb v postojích, odpory v 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 držení na zemí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oraz ógoš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ki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přidržení paže (výkruty, vytočení zápěstí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 by měl žák umět (vědě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význam sebeobranných činností a své možnosti ve střetu s protivník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následky zneužití bojových činností a chová se v duchu fair 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ovede pojmenovat osvojova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zvládá základní postoje, úchopy a vyproštění z drže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09:35:44Z</dcterms:created>
  <dc:creator>HOME</dc:creator>
  <dc:description/>
  <dc:language>en-US</dc:language>
  <cp:lastModifiedBy>HOME</cp:lastModifiedBy>
  <dcterms:modified xsi:type="dcterms:W3CDTF">2006-07-13T22:08:34Z</dcterms:modified>
  <cp:revision>13</cp:revision>
  <dc:subject/>
  <dc:title>Úpoly v osnovách školní TV</dc:title>
</cp:coreProperties>
</file>