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7BDE-52DD-4E86-B62C-6632E2F12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D944-039A-4B22-A03F-E14CE502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BE2A-CF8D-4E5B-9FCD-26B976A6D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E95B-27C7-4E3F-A253-33D42DDA7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F860-9A04-4E7F-BD75-B322F2EA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A083-9264-4FFE-8F34-9C56F1D9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EC41-2E62-48E6-B1DF-C9F0C401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B2AA-6500-40C6-A27E-4A31752E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3F5A-B063-4753-B02E-FF9F49B4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BF17-475E-4C69-A7B6-1B99C640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D054-2153-4FCF-97AD-F84FED45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B7BC-2DE8-41EE-B812-8124E6F3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8F44-6F23-42D2-BCBE-8E709B40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E498-7802-40E8-B065-A246C686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E1C7-354C-4463-9051-4145F1BE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3312-E6A9-4357-83A5-3C97FD8EF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42BF-0540-4016-B195-7DBBE0ACD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95EB-A682-46F5-9490-CEC3C240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81A9-6E61-424F-84D5-A8AC31AB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1565-7C72-4E78-9437-5AAFDCCA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EA49-7190-4C0B-BF0F-855E390E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006E-4ADD-492B-B074-F5019179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1229-C30B-4D23-9CC9-D3CCBD39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BFD6-0A8A-44DD-928B-207AC272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9EF6-6719-4F2A-B771-DEE0F2E673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5865-FAF0-4CCF-B3B5-1C188C0BF4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e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efinice úpol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toliko za odporu jiného cvičence vykonatelné (Tyrš 186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při kterém přemáháme sílu jiného cvičence, který nám klade odpor, nebo s námi zápasí (Sokolská s. 193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ělesná cvičení, jimiž se v přímém střetnutí s protivníkem usiluje o překonání jeho odporu či jeho přemožení (Fojtík 1980-9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 jsou pohybové aktivity zacílené na kontaktní fyzické překonání partne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o úpolů zařazujeme i specifická cvičení, která jsou přímou průpravou na kontaktní překonání partnera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Spor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vojí cháp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činnost zaměřená na vrcholný výkon prezentovaný na soutěž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jakákoliv zájmová pohybová činnost (Evropská charta sportu, 199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1992 – Evropská charta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šechny formy tělesné činnosti, které ať již prostřednictvím organizované účasti či nikoli, si kladou za cíl projevení či zdokonalení tělesné i psychické kondice, rozvoj společenských vztahů nebo dosažení výsledků v soutěžích na všech úrovních.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62 M. Tyr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ičení bez nářadí a bez pomoci nebo odporu jiných cvičenc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. Cvičení nářaď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I. Cvičení se skupin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V.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39 František Smotla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řirozená (biologická) cvičební sousta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 skupin základních a speciálních cvik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I. skupin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očátky úbrany a bo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Úpoly: zápas, box, šerm, brana (džúdžuc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945 Václav Fi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  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áklad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ýkonné pohyby s p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d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od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skluz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       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pomo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í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prav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h pros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dk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anec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rytm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prost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na ná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d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ové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3 – Kody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heuristicko – i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 (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úpo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enzoricko – koncentr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izikové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steticko – koordin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 funk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mobiliz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5 Šprynar – Stráň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atletika, gymnastika,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.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zápas, box, šerm, vzp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rán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í h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echni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le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1997 J. Mus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dividuáln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spo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tlet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ymnastick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r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kov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oj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1:24:08Z</dcterms:created>
  <dc:creator>Home</dc:creator>
  <dc:description/>
  <dc:language>en-US</dc:language>
  <cp:lastModifiedBy>Vit</cp:lastModifiedBy>
  <dcterms:modified xsi:type="dcterms:W3CDTF">2007-02-20T08:33:39Z</dcterms:modified>
  <cp:revision>7</cp:revision>
  <dc:subject/>
  <dc:title>Úpoly ve sportu</dc:title>
</cp:coreProperties>
</file>