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85B-5D24-4D8E-839C-7DFBA9B1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1E1-410F-487C-B9C2-5ECAFD0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CBF-619D-404D-9657-1FE068FC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555-12CE-4794-A07A-8A8B8B35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E18-35B2-43EF-BCB6-52A492A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FCA-9E23-4791-B86D-DEAA205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331-69C3-4FBA-94F1-70A48BA6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315-AC39-4323-B809-111B2F88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CED-AE5D-4051-A44A-17EB984F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41D-227B-482C-A589-27176A7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1F8-0991-4DFB-A4E4-71DF85A7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C2B-E6A4-428F-86D5-4BA274E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0D92-E2EE-4DE4-B1EF-C19E0C0DC6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shido</a:t>
            </a:r>
            <a:br>
              <a:rPr sz="4000"/>
            </a:br>
            <a:r>
              <a:rPr b="1" lang="ja-JP" sz="5400" spc="-1" strike="noStrike">
                <a:solidFill>
                  <a:srgbClr val="000000"/>
                </a:solidFill>
                <a:latin typeface="AR行楷書体H"/>
                <a:ea typeface="AR行楷書体H"/>
              </a:rPr>
              <a:t>武士道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. Inaz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Nito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143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578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143080"/>
            <a:ext cx="335772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86680" y="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BUSHIDO  </a:t>
            </a:r>
            <a:r>
              <a:rPr b="1" lang="cs-CZ" sz="2800" spc="-1" strike="noStrike">
                <a:solidFill>
                  <a:srgbClr val="000000"/>
                </a:solidFill>
                <a:latin typeface="Franklin Gothic Demi"/>
              </a:rPr>
              <a:t>The Soul of Jap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n Exposition of Japanese Thought b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INAZO NIT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LEEDS &amp; BIDDLE CO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iladelphia, 190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ušido. Duše Japons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osef Pelcl, Praha, 1904, přeložil Karel 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ttp://busido.szm.sk/InazoNitobe_Busid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bushido-large"/>
          <p:cNvPicPr/>
          <p:nvPr/>
        </p:nvPicPr>
        <p:blipFill>
          <a:blip r:embed="rId1"/>
          <a:stretch/>
        </p:blipFill>
        <p:spPr>
          <a:xfrm>
            <a:off x="6877080" y="3645000"/>
            <a:ext cx="2266920" cy="321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26603219"/>
          <p:cNvPicPr/>
          <p:nvPr/>
        </p:nvPicPr>
        <p:blipFill>
          <a:blip r:embed="rId2"/>
          <a:stretch/>
        </p:blipFill>
        <p:spPr>
          <a:xfrm>
            <a:off x="2627280" y="3573360"/>
            <a:ext cx="205092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060316_bushido"/>
          <p:cNvPicPr/>
          <p:nvPr/>
        </p:nvPicPr>
        <p:blipFill>
          <a:blip r:embed="rId3"/>
          <a:stretch/>
        </p:blipFill>
        <p:spPr>
          <a:xfrm>
            <a:off x="4716360" y="3645000"/>
            <a:ext cx="206856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even-virtues-of-bushido-calligraphy-semicursive"/>
          <p:cNvPicPr/>
          <p:nvPr/>
        </p:nvPicPr>
        <p:blipFill>
          <a:blip r:embed="rId4"/>
          <a:stretch/>
        </p:blipFill>
        <p:spPr>
          <a:xfrm>
            <a:off x="0" y="3666960"/>
            <a:ext cx="23814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3:21:34Z</dcterms:created>
  <dc:creator>Owner</dc:creator>
  <dc:description/>
  <dc:language>en-US</dc:language>
  <cp:lastModifiedBy>Your User Name</cp:lastModifiedBy>
  <dcterms:modified xsi:type="dcterms:W3CDTF">2010-02-18T08:50:28Z</dcterms:modified>
  <cp:revision>30</cp:revision>
  <dc:subject/>
  <dc:title>武士道</dc:title>
</cp:coreProperties>
</file>