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A90-8188-43ED-AA32-36D8738B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12B-E3C8-43E0-8C68-27ADC185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260-2B8C-4BED-9B74-0F423F3F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EC0-47EA-47D3-92C2-5CFEC5F3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513-AAE5-42BF-8DA0-5C468BEC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3F4-8974-428E-B471-892481D1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FE3-80D9-4F34-825C-B8691292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690-69C4-48E1-839A-950C3CB3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131-1CA3-46C6-B6B9-34F3BCC2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D07-DB8A-45FD-BBD4-BA79568E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FAD-F525-4308-83AC-7F0B7FD7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BB6-55E9-4CE6-8F40-B05ED347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412B-2C41-4E97-A1B0-C859372E28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ushido</a:t>
            </a:r>
            <a:br>
              <a:rPr sz="4000"/>
            </a:br>
            <a:r>
              <a:rPr b="1" lang="ja-JP" sz="5400" spc="-1" strike="noStrike">
                <a:solidFill>
                  <a:srgbClr val="000000"/>
                </a:solidFill>
                <a:latin typeface="AR行楷書体H"/>
                <a:ea typeface="AR行楷書体H"/>
              </a:rPr>
              <a:t>武士道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. Inaz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Nito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1439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578628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0" y="2143080"/>
            <a:ext cx="3357720" cy="471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6286680" y="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3071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BUSHIDO  </a:t>
            </a:r>
            <a:r>
              <a:rPr b="1" lang="cs-CZ" sz="2800" spc="-1" strike="noStrike">
                <a:solidFill>
                  <a:srgbClr val="000000"/>
                </a:solidFill>
                <a:latin typeface="Franklin Gothic Demi"/>
              </a:rPr>
              <a:t>The Soul of Jap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An Exposition of Japanese Thought b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INAZO NIT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21428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LEEDS &amp; BIDDLE CO.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iladelphia, 190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ušido. Duše Japons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osef Pelcl, Praha, 1904, přeložil Karel H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ttp://busido.szm.sk/InazoNitobe_Busido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bushido-large"/>
          <p:cNvPicPr/>
          <p:nvPr/>
        </p:nvPicPr>
        <p:blipFill>
          <a:blip r:embed="rId1"/>
          <a:stretch/>
        </p:blipFill>
        <p:spPr>
          <a:xfrm>
            <a:off x="6877080" y="3645000"/>
            <a:ext cx="2266920" cy="321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26603219"/>
          <p:cNvPicPr/>
          <p:nvPr/>
        </p:nvPicPr>
        <p:blipFill>
          <a:blip r:embed="rId2"/>
          <a:stretch/>
        </p:blipFill>
        <p:spPr>
          <a:xfrm>
            <a:off x="2627280" y="3573360"/>
            <a:ext cx="2050920" cy="328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060316_bushido"/>
          <p:cNvPicPr/>
          <p:nvPr/>
        </p:nvPicPr>
        <p:blipFill>
          <a:blip r:embed="rId3"/>
          <a:stretch/>
        </p:blipFill>
        <p:spPr>
          <a:xfrm>
            <a:off x="4716360" y="3645000"/>
            <a:ext cx="206856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even-virtues-of-bushido-calligraphy-semicursive"/>
          <p:cNvPicPr/>
          <p:nvPr/>
        </p:nvPicPr>
        <p:blipFill>
          <a:blip r:embed="rId4"/>
          <a:stretch/>
        </p:blipFill>
        <p:spPr>
          <a:xfrm>
            <a:off x="0" y="3666960"/>
            <a:ext cx="23814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3:21:34Z</dcterms:created>
  <dc:creator>Owner</dc:creator>
  <dc:description/>
  <dc:language>en-US</dc:language>
  <cp:lastModifiedBy>Your User Name</cp:lastModifiedBy>
  <dcterms:modified xsi:type="dcterms:W3CDTF">2010-02-18T08:50:28Z</dcterms:modified>
  <cp:revision>30</cp:revision>
  <dc:subject/>
  <dc:title>武士道</dc:title>
</cp:coreProperties>
</file>